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11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19.jpeg" ContentType="image/jpeg"/>
  <Override PartName="/ppt/media/image54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4.png" ContentType="image/png"/>
  <Override PartName="/ppt/media/image12.jpeg" ContentType="image/jpe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4.wmf" ContentType="image/x-wmf"/>
  <Override PartName="/ppt/media/image59.png" ContentType="image/png"/>
  <Override PartName="/ppt/media/image11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68.png" ContentType="image/png"/>
  <Override PartName="/ppt/media/image114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0.png" ContentType="image/png"/>
  <Override PartName="/ppt/media/image111.jpeg" ContentType="image/jpeg"/>
  <Override PartName="/ppt/media/image105.png" ContentType="image/png"/>
  <Override PartName="/ppt/media/image61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88.png" ContentType="image/png"/>
  <Override PartName="/ppt/media/image75.png" ContentType="image/png"/>
  <Override PartName="/ppt/media/image101.jpeg" ContentType="image/jpeg"/>
  <Override PartName="/ppt/media/image28.png" ContentType="image/png"/>
  <Override PartName="/ppt/media/image93.png" ContentType="image/png"/>
  <Override PartName="/ppt/media/image113.png" ContentType="image/png"/>
  <Override PartName="/ppt/media/image112.png" ContentType="image/png"/>
  <Override PartName="/ppt/media/image106.png" ContentType="image/png"/>
  <Override PartName="/ppt/media/image62.png" ContentType="image/png"/>
  <Override PartName="/ppt/media/image87.png" ContentType="image/png"/>
  <Override PartName="/ppt/media/image104.jpeg" ContentType="image/jpeg"/>
  <Override PartName="/ppt/media/image103.png" ContentType="image/png"/>
  <Override PartName="/ppt/media/image96.png" ContentType="image/png"/>
  <Override PartName="/ppt/media/image109.png" ContentType="image/png"/>
  <Override PartName="/ppt/media/image89.png" ContentType="image/png"/>
  <Override PartName="/ppt/media/image102.wmf" ContentType="image/x-wmf"/>
  <Override PartName="/ppt/media/image97.png" ContentType="image/png"/>
  <Override PartName="/ppt/media/image60.png" ContentType="image/png"/>
  <Override PartName="/ppt/media/image95.png" ContentType="image/png"/>
  <Override PartName="/ppt/media/image67.png" ContentType="image/png"/>
  <Override PartName="/ppt/media/image66.png" ContentType="image/png"/>
  <Override PartName="/ppt/media/image117.jpeg" ContentType="image/jpeg"/>
  <Override PartName="/ppt/media/image65.png" ContentType="image/png"/>
  <Override PartName="/ppt/media/image100.jpeg" ContentType="image/jpeg"/>
  <Override PartName="/ppt/media/image64.png" ContentType="image/png"/>
  <Override PartName="/ppt/media/image63.png" ContentType="image/png"/>
  <Override PartName="/ppt/media/image99.jpeg" ContentType="image/jpeg"/>
  <Override PartName="/ppt/media/image27.png" ContentType="image/png"/>
  <Override PartName="/ppt/media/image92.png" ContentType="image/png"/>
  <Override PartName="/ppt/media/image24.png" ContentType="image/png"/>
  <Override PartName="/ppt/media/image22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90.png" ContentType="image/png"/>
  <Override PartName="/ppt/media/image25.png" ContentType="image/png"/>
  <Override PartName="/ppt/media/image26.png" ContentType="image/png"/>
  <Override PartName="/ppt/media/image9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C05-F557-4832-B2FC-C9A52577E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2710-24D5-4521-9A17-62BF504870D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A920-FD36-44F3-BFC4-F981D043645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568-67FB-4641-B13E-2286368FF70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914640" y="7985160"/>
            <a:ext cx="2994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24A5409-6860-433B-93FC-9CC7735383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8A8-92A8-4E42-A300-8CAD2978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612-6CC3-4F8E-8BC5-12FEA243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08-86B6-4521-B3EF-0987E9A1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512-4A03-47F8-9D35-1FC50987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4DA-B161-4356-A462-359669A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09E-A8C4-484C-8B4B-56F49ECC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81F-8B47-4344-A5C7-E346F504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D04-D1BF-4460-AD7F-14893E82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96D-DFD0-41BA-9D15-2850901E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8DD-246C-4B2F-A348-126AC9F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841-1EEC-4B14-803E-5EB2D23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E24-2392-4AB8-8FF0-8434815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FC0-85E8-429E-AC41-1A91D2132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48.png"/><Relationship Id="rId41" Type="http://schemas.openxmlformats.org/officeDocument/2006/relationships/image" Target="../media/image53.png"/><Relationship Id="rId42" Type="http://schemas.openxmlformats.org/officeDocument/2006/relationships/image" Target="../media/image54.png"/><Relationship Id="rId43" Type="http://schemas.openxmlformats.org/officeDocument/2006/relationships/image" Target="../media/image49.png"/><Relationship Id="rId44" Type="http://schemas.openxmlformats.org/officeDocument/2006/relationships/image" Target="../media/image55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6.png"/><Relationship Id="rId49" Type="http://schemas.openxmlformats.org/officeDocument/2006/relationships/image" Target="../media/image57.png"/><Relationship Id="rId50" Type="http://schemas.openxmlformats.org/officeDocument/2006/relationships/image" Target="../media/image58.png"/><Relationship Id="rId51" Type="http://schemas.openxmlformats.org/officeDocument/2006/relationships/image" Target="../media/image37.png"/><Relationship Id="rId52" Type="http://schemas.openxmlformats.org/officeDocument/2006/relationships/image" Target="../media/image59.png"/><Relationship Id="rId53" Type="http://schemas.openxmlformats.org/officeDocument/2006/relationships/image" Target="../media/image39.png"/><Relationship Id="rId54" Type="http://schemas.openxmlformats.org/officeDocument/2006/relationships/image" Target="../media/image60.png"/><Relationship Id="rId55" Type="http://schemas.openxmlformats.org/officeDocument/2006/relationships/image" Target="../media/image61.png"/><Relationship Id="rId56" Type="http://schemas.openxmlformats.org/officeDocument/2006/relationships/image" Target="../media/image62.png"/><Relationship Id="rId57" Type="http://schemas.openxmlformats.org/officeDocument/2006/relationships/image" Target="../media/image63.png"/><Relationship Id="rId58" Type="http://schemas.openxmlformats.org/officeDocument/2006/relationships/image" Target="../media/image64.png"/><Relationship Id="rId59" Type="http://schemas.openxmlformats.org/officeDocument/2006/relationships/image" Target="../media/image48.png"/><Relationship Id="rId60" Type="http://schemas.openxmlformats.org/officeDocument/2006/relationships/image" Target="../media/image65.png"/><Relationship Id="rId61" Type="http://schemas.openxmlformats.org/officeDocument/2006/relationships/image" Target="../media/image66.png"/><Relationship Id="rId62" Type="http://schemas.openxmlformats.org/officeDocument/2006/relationships/image" Target="../media/image67.png"/><Relationship Id="rId63" Type="http://schemas.openxmlformats.org/officeDocument/2006/relationships/image" Target="../media/image68.png"/><Relationship Id="rId64" Type="http://schemas.openxmlformats.org/officeDocument/2006/relationships/image" Target="../media/image69.png"/><Relationship Id="rId65" Type="http://schemas.openxmlformats.org/officeDocument/2006/relationships/image" Target="../media/image57.png"/><Relationship Id="rId66" Type="http://schemas.openxmlformats.org/officeDocument/2006/relationships/image" Target="../media/image70.png"/><Relationship Id="rId67" Type="http://schemas.openxmlformats.org/officeDocument/2006/relationships/image" Target="../media/image37.png"/><Relationship Id="rId68" Type="http://schemas.openxmlformats.org/officeDocument/2006/relationships/image" Target="../media/image48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png"/><Relationship Id="rId74" Type="http://schemas.openxmlformats.org/officeDocument/2006/relationships/image" Target="../media/image76.png"/><Relationship Id="rId75" Type="http://schemas.openxmlformats.org/officeDocument/2006/relationships/image" Target="../media/image77.pn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pn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image" Target="../media/image89.png"/><Relationship Id="rId88" Type="http://schemas.openxmlformats.org/officeDocument/2006/relationships/image" Target="../media/image90.png"/><Relationship Id="rId89" Type="http://schemas.openxmlformats.org/officeDocument/2006/relationships/image" Target="../media/image91.png"/><Relationship Id="rId90" Type="http://schemas.openxmlformats.org/officeDocument/2006/relationships/image" Target="../media/image92.png"/><Relationship Id="rId91" Type="http://schemas.openxmlformats.org/officeDocument/2006/relationships/image" Target="../media/image93.png"/><Relationship Id="rId92" Type="http://schemas.openxmlformats.org/officeDocument/2006/relationships/image" Target="../media/image94.png"/><Relationship Id="rId93" Type="http://schemas.openxmlformats.org/officeDocument/2006/relationships/image" Target="../media/image94.png"/><Relationship Id="rId94" Type="http://schemas.openxmlformats.org/officeDocument/2006/relationships/image" Target="../media/image95.png"/><Relationship Id="rId95" Type="http://schemas.openxmlformats.org/officeDocument/2006/relationships/image" Target="../media/image94.png"/><Relationship Id="rId96" Type="http://schemas.openxmlformats.org/officeDocument/2006/relationships/image" Target="../media/image94.png"/><Relationship Id="rId97" Type="http://schemas.openxmlformats.org/officeDocument/2006/relationships/image" Target="../media/image94.png"/><Relationship Id="rId98" Type="http://schemas.openxmlformats.org/officeDocument/2006/relationships/image" Target="../media/image95.png"/><Relationship Id="rId99" Type="http://schemas.openxmlformats.org/officeDocument/2006/relationships/image" Target="../media/image94.png"/><Relationship Id="rId100" Type="http://schemas.openxmlformats.org/officeDocument/2006/relationships/image" Target="../media/image94.png"/><Relationship Id="rId101" Type="http://schemas.openxmlformats.org/officeDocument/2006/relationships/image" Target="../media/image94.png"/><Relationship Id="rId102" Type="http://schemas.openxmlformats.org/officeDocument/2006/relationships/image" Target="../media/image94.png"/><Relationship Id="rId103" Type="http://schemas.openxmlformats.org/officeDocument/2006/relationships/image" Target="../media/image95.png"/><Relationship Id="rId104" Type="http://schemas.openxmlformats.org/officeDocument/2006/relationships/image" Target="../media/image94.png"/><Relationship Id="rId105" Type="http://schemas.openxmlformats.org/officeDocument/2006/relationships/image" Target="../media/image94.png"/><Relationship Id="rId106" Type="http://schemas.openxmlformats.org/officeDocument/2006/relationships/image" Target="../media/image95.png"/><Relationship Id="rId107" Type="http://schemas.openxmlformats.org/officeDocument/2006/relationships/image" Target="../media/image94.png"/><Relationship Id="rId108" Type="http://schemas.openxmlformats.org/officeDocument/2006/relationships/image" Target="../media/image95.png"/><Relationship Id="rId109" Type="http://schemas.openxmlformats.org/officeDocument/2006/relationships/image" Target="../media/image95.png"/><Relationship Id="rId110" Type="http://schemas.openxmlformats.org/officeDocument/2006/relationships/image" Target="../media/image94.png"/><Relationship Id="rId111" Type="http://schemas.openxmlformats.org/officeDocument/2006/relationships/image" Target="../media/image95.png"/><Relationship Id="rId112" Type="http://schemas.openxmlformats.org/officeDocument/2006/relationships/image" Target="../media/image95.png"/><Relationship Id="rId113" Type="http://schemas.openxmlformats.org/officeDocument/2006/relationships/image" Target="../media/image94.png"/><Relationship Id="rId114" Type="http://schemas.openxmlformats.org/officeDocument/2006/relationships/image" Target="../media/image94.png"/><Relationship Id="rId1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296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a sklero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Gordana Tonč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nički izolovan sindrom – prvi atak bolest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ološki izolovan sindrom – pacijent nema kliničku sliku već samo nalaz na MRI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glavne izm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ana dijagnoza kod pacijenata sa C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eminacija u prostoru na MR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oligoklonalne tr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nije neophodna diseminacija u vremenu na M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mptomatske i/ili  asimptomatske  MRI lez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em onih u optičkom nervu, razmatraju se u diseminaciji u prost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kategorija kriterijuma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klinička ata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≥2 lezija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isu potrebni dodatni doka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klinička atak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 i kliničkom istorijom sugestivnom na prethodnu lezij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isu potrebni dodatni doka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 klinička ata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 i bez kliničke istorije sugestivne za prethodnu lezij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prostoru na M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klinički atak (C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≥2 lezije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vremenu na MRI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 oligoklonalne trak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 likvo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klinički atak (C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prostoru na M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vremenu na MRI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ligoklonalne trak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 likvo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eminacija u prostor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T2-hperintenzne lezije (≥3 mm), simptomatske i/ili asimptomatske, karakteristične za 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2 ili više od 4 lokaci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periventrikularno (≥1 lezija, sem ako ima više od 50 godina savetuje se veći broj lezi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kortikalne ili  jukstakortikalne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infratentorialne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kičmena moždina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-hiperintenzne l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čkog nerva se ne računa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" descr="Резултат слика за mri ms criteria 2017"/>
          <p:cNvPicPr/>
          <p:nvPr/>
        </p:nvPicPr>
        <p:blipFill>
          <a:blip r:embed="rId1"/>
          <a:stretch/>
        </p:blipFill>
        <p:spPr>
          <a:xfrm>
            <a:off x="5257800" y="3792600"/>
            <a:ext cx="3886200" cy="3065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Резултат слика за mri ms"/>
          <p:cNvPicPr/>
          <p:nvPr/>
        </p:nvPicPr>
        <p:blipFill>
          <a:blip r:embed="rId2"/>
          <a:stretch/>
        </p:blipFill>
        <p:spPr>
          <a:xfrm>
            <a:off x="914400" y="4680000"/>
            <a:ext cx="380988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eminacija u vremen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 T2-hiperintenzne Gd+ lezije u poređenju sa baseline M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ultano prisustvo Gd+ lezija i Gd- lezija na jednom M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2" descr="Резултат слика за active ms lesion on mri"/>
          <p:cNvPicPr/>
          <p:nvPr/>
        </p:nvPicPr>
        <p:blipFill>
          <a:blip r:embed="rId1"/>
          <a:stretch/>
        </p:blipFill>
        <p:spPr>
          <a:xfrm>
            <a:off x="2895480" y="2085840"/>
            <a:ext cx="636300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imarno progresivna M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godina progresije onesposobljenosti prospektivno ili retrospektiv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 2 od sledeće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T2-hiperintenzne lezije karakteristične za MS u 1 ili više regija: periventricularno, kortikalno ili jukstakortikalno, ili infratentorij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2-hiperintenzne lezije u kičmenoj možd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igoklonlne trake u likv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"/>
          <p:cNvGrpSpPr/>
          <p:nvPr/>
        </p:nvGrpSpPr>
        <p:grpSpPr>
          <a:xfrm>
            <a:off x="1889280" y="826920"/>
            <a:ext cx="5365440" cy="5553360"/>
            <a:chOff x="1889280" y="826920"/>
            <a:chExt cx="5365440" cy="5553360"/>
          </a:xfrm>
        </p:grpSpPr>
        <p:sp>
          <p:nvSpPr>
            <p:cNvPr id="454" name="Puzzle3"/>
            <p:cNvSpPr/>
            <p:nvPr/>
          </p:nvSpPr>
          <p:spPr>
            <a:xfrm>
              <a:off x="4502160" y="826920"/>
              <a:ext cx="2108160" cy="2949840"/>
            </a:xfrm>
            <a:custGeom>
              <a:avLst/>
              <a:gdLst>
                <a:gd name="textAreaLeft" fmla="*/ 221760 w 2108160"/>
                <a:gd name="textAreaRight" fmla="*/ 1869120 w 2108160"/>
                <a:gd name="textAreaTop" fmla="*/ 1054080 h 2949840"/>
                <a:gd name="textAreaBottom" fmla="*/ 2763720 h 29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71a1d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Puzzle2"/>
            <p:cNvSpPr/>
            <p:nvPr/>
          </p:nvSpPr>
          <p:spPr>
            <a:xfrm>
              <a:off x="3887640" y="2976480"/>
              <a:ext cx="3367080" cy="2689200"/>
            </a:xfrm>
            <a:custGeom>
              <a:avLst/>
              <a:gdLst>
                <a:gd name="textAreaLeft" fmla="*/ 839880 w 3367080"/>
                <a:gd name="textAreaRight" fmla="*/ 2521800 w 3367080"/>
                <a:gd name="textAreaTop" fmla="*/ 839160 h 2689200"/>
                <a:gd name="textAreaBottom" fmla="*/ 2545200 h 26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00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Puzzle4"/>
            <p:cNvSpPr/>
            <p:nvPr/>
          </p:nvSpPr>
          <p:spPr>
            <a:xfrm>
              <a:off x="2585880" y="2943000"/>
              <a:ext cx="2028600" cy="3437280"/>
            </a:xfrm>
            <a:custGeom>
              <a:avLst/>
              <a:gdLst>
                <a:gd name="textAreaLeft" fmla="*/ 194760 w 2028600"/>
                <a:gd name="textAreaRight" fmla="*/ 1897560 w 2028600"/>
                <a:gd name="textAreaTop" fmla="*/ 901080 h 3437280"/>
                <a:gd name="textAreaBottom" fmla="*/ 2543040 h 343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4a452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Puzzle1"/>
            <p:cNvSpPr/>
            <p:nvPr/>
          </p:nvSpPr>
          <p:spPr>
            <a:xfrm>
              <a:off x="1889280" y="1719000"/>
              <a:ext cx="3408120" cy="2048040"/>
            </a:xfrm>
            <a:custGeom>
              <a:avLst/>
              <a:gdLst>
                <a:gd name="textAreaLeft" fmla="*/ 960120 w 3408120"/>
                <a:gd name="textAreaRight" fmla="*/ 2545560 w 3408120"/>
                <a:gd name="textAreaTop" fmla="*/ 243360 h 2048040"/>
                <a:gd name="textAreaBottom" fmla="*/ 1854000 h 20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318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itel 1"/>
          <p:cNvSpPr/>
          <p:nvPr/>
        </p:nvSpPr>
        <p:spPr>
          <a:xfrm>
            <a:off x="284040" y="0"/>
            <a:ext cx="8577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jagn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511360" y="2487600"/>
            <a:ext cx="20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Simpto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724280" y="195408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C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830680" y="401148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524480" y="3800520"/>
            <a:ext cx="2084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v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rani potencijal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3920" y="6551280"/>
            <a:ext cx="7642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sp>
        <p:nvSpPr>
          <p:cNvPr id="465" name="Titel 1"/>
          <p:cNvSpPr/>
          <p:nvPr/>
        </p:nvSpPr>
        <p:spPr>
          <a:xfrm>
            <a:off x="284040" y="0"/>
            <a:ext cx="8577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Najčešći simptomi PPMS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84040" y="1011240"/>
          <a:ext cx="4098960" cy="5337000"/>
        </p:xfrm>
        <a:graphic>
          <a:graphicData uri="http://schemas.openxmlformats.org/drawingml/2006/table">
            <a:tbl>
              <a:tblPr/>
              <a:tblGrid>
                <a:gridCol w="2544840"/>
                <a:gridCol w="1554120"/>
              </a:tblGrid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impt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0504d"/>
                      </a:solidFill>
                    </a:lnT>
                    <a:lnB w="1368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čestal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0504d"/>
                      </a:solidFill>
                    </a:lnT>
                    <a:lnB w="1368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remećena pokretljiv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Fatig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lab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Atax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pasticit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</a:t>
                      </a: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isfunkcija bešik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8–7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gnitivna disfunkc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–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Bo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5–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epres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5–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seudobulbarni afek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4675320" y="1459080"/>
          <a:ext cx="4186080" cy="2728800"/>
        </p:xfrm>
        <a:graphic>
          <a:graphicData uri="http://schemas.openxmlformats.org/drawingml/2006/table">
            <a:tbl>
              <a:tblPr/>
              <a:tblGrid>
                <a:gridCol w="2598480"/>
                <a:gridCol w="1587600"/>
              </a:tblGrid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arapar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3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Hemipar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Cerebelarni sindr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Brainstem sindr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ubitak 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gnic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1"/>
          <p:cNvSpPr/>
          <p:nvPr/>
        </p:nvSpPr>
        <p:spPr>
          <a:xfrm>
            <a:off x="5288760" y="1017720"/>
            <a:ext cx="2958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Klinička prezentacija u  P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4"/>
          <p:cNvSpPr/>
          <p:nvPr/>
        </p:nvSpPr>
        <p:spPr>
          <a:xfrm>
            <a:off x="4675320" y="990720"/>
            <a:ext cx="418608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ángulo 2"/>
          <p:cNvSpPr/>
          <p:nvPr/>
        </p:nvSpPr>
        <p:spPr>
          <a:xfrm>
            <a:off x="5257800" y="6026040"/>
            <a:ext cx="4038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"/>
                <a:ea typeface="Calibri"/>
              </a:rPr>
              <a:t>Rice CM, et al. J Neurol Neurosurg Psychiatry 2013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"/>
              </a:rPr>
              <a:t>Continuum (Minneap Minn) 2016;22(3):785–79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131413"/>
                </a:solidFill>
                <a:latin typeface="Arial "/>
              </a:rPr>
              <a:t>Feinstein, </a:t>
            </a:r>
            <a:r>
              <a:rPr b="0" i="1" lang="fr-FR" sz="1000" spc="-1" strike="noStrike">
                <a:solidFill>
                  <a:srgbClr val="000000"/>
                </a:solidFill>
                <a:latin typeface="Arial "/>
              </a:rPr>
              <a:t>Lancet Neurol </a:t>
            </a:r>
            <a:r>
              <a:rPr b="0" lang="fr-FR" sz="1000" spc="-1" strike="noStrike">
                <a:solidFill>
                  <a:srgbClr val="000000"/>
                </a:solidFill>
                <a:latin typeface="Arial "/>
              </a:rPr>
              <a:t>2015; 14: 194–2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38080"/>
          </a:xfrm>
          <a:prstGeom prst="rect">
            <a:avLst/>
          </a:prstGeom>
          <a:noFill/>
          <a:ln w="0">
            <a:noFill/>
          </a:ln>
        </p:spPr>
        <p:txBody>
          <a:bodyPr lIns="0" rIns="0" tIns="380520" bIns="0" anchor="ctr">
            <a:noAutofit/>
          </a:bodyPr>
          <a:p>
            <a:pPr marL="59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051"/>
                </a:solidFill>
                <a:latin typeface="Source Sans Pro"/>
                <a:ea typeface="Source Sans Pro"/>
              </a:rPr>
              <a:t>Intratekalni odgovor</a:t>
            </a:r>
            <a:br>
              <a:rPr sz="4400"/>
            </a:br>
            <a:r>
              <a:rPr b="0" lang="en-US" sz="4400" spc="-1" strike="noStrike">
                <a:solidFill>
                  <a:srgbClr val="3f3051"/>
                </a:solidFill>
                <a:latin typeface="Source Sans Pro"/>
                <a:ea typeface="Source Sans Pro"/>
              </a:rPr>
              <a:t>oligoklonalne tra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bject 3"/>
          <p:cNvSpPr/>
          <p:nvPr/>
        </p:nvSpPr>
        <p:spPr>
          <a:xfrm>
            <a:off x="3230640" y="1892160"/>
            <a:ext cx="5151240" cy="3003840"/>
          </a:xfrm>
          <a:custGeom>
            <a:avLst/>
            <a:gdLst>
              <a:gd name="textAreaLeft" fmla="*/ 0 w 5151240"/>
              <a:gd name="textAreaRight" fmla="*/ 5151600 w 5151240"/>
              <a:gd name="textAreaTop" fmla="*/ 0 h 3003840"/>
              <a:gd name="textAreaBottom" fmla="*/ 3004200 h 3003840"/>
            </a:gdLst>
            <a:ahLst/>
            <a:rect l="textAreaLeft" t="textAreaTop" r="textAreaRight" b="textAreaBottom"/>
            <a:pathLst>
              <a:path w="5151120" h="3002279">
                <a:moveTo>
                  <a:pt x="0" y="3002279"/>
                </a:moveTo>
                <a:lnTo>
                  <a:pt x="5151119" y="3002279"/>
                </a:lnTo>
                <a:lnTo>
                  <a:pt x="5151119" y="0"/>
                </a:lnTo>
                <a:lnTo>
                  <a:pt x="0" y="0"/>
                </a:lnTo>
                <a:lnTo>
                  <a:pt x="0" y="300227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4"/>
          <p:cNvSpPr/>
          <p:nvPr/>
        </p:nvSpPr>
        <p:spPr>
          <a:xfrm>
            <a:off x="4941720" y="284328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loc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5"/>
          <p:cNvSpPr/>
          <p:nvPr/>
        </p:nvSpPr>
        <p:spPr>
          <a:xfrm>
            <a:off x="4941720" y="3575160"/>
            <a:ext cx="925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loc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&amp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6"/>
          <p:cNvSpPr/>
          <p:nvPr/>
        </p:nvSpPr>
        <p:spPr>
          <a:xfrm>
            <a:off x="4941720" y="4255920"/>
            <a:ext cx="925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7"/>
          <p:cNvSpPr/>
          <p:nvPr/>
        </p:nvSpPr>
        <p:spPr>
          <a:xfrm>
            <a:off x="4941720" y="2117880"/>
            <a:ext cx="10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norm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polycl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8"/>
          <p:cNvSpPr/>
          <p:nvPr/>
        </p:nvSpPr>
        <p:spPr>
          <a:xfrm>
            <a:off x="1897200" y="2901960"/>
            <a:ext cx="144360" cy="828720"/>
          </a:xfrm>
          <a:custGeom>
            <a:avLst/>
            <a:gdLst>
              <a:gd name="textAreaLeft" fmla="*/ 0 w 144360"/>
              <a:gd name="textAreaRight" fmla="*/ 144720 w 1443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144780" h="829310">
                <a:moveTo>
                  <a:pt x="80390" y="0"/>
                </a:moveTo>
                <a:lnTo>
                  <a:pt x="64388" y="0"/>
                </a:lnTo>
                <a:lnTo>
                  <a:pt x="57911" y="6461"/>
                </a:lnTo>
                <a:lnTo>
                  <a:pt x="57911" y="22463"/>
                </a:lnTo>
                <a:lnTo>
                  <a:pt x="64388" y="28955"/>
                </a:lnTo>
                <a:lnTo>
                  <a:pt x="80390" y="28955"/>
                </a:lnTo>
                <a:lnTo>
                  <a:pt x="86867" y="22463"/>
                </a:lnTo>
                <a:lnTo>
                  <a:pt x="86867" y="6461"/>
                </a:lnTo>
                <a:lnTo>
                  <a:pt x="80390" y="0"/>
                </a:lnTo>
                <a:close/>
              </a:path>
              <a:path w="144780" h="829310">
                <a:moveTo>
                  <a:pt x="80390" y="115823"/>
                </a:moveTo>
                <a:lnTo>
                  <a:pt x="64388" y="115823"/>
                </a:lnTo>
                <a:lnTo>
                  <a:pt x="57911" y="122285"/>
                </a:lnTo>
                <a:lnTo>
                  <a:pt x="57911" y="138287"/>
                </a:lnTo>
                <a:lnTo>
                  <a:pt x="64388" y="144779"/>
                </a:lnTo>
                <a:lnTo>
                  <a:pt x="80390" y="144779"/>
                </a:lnTo>
                <a:lnTo>
                  <a:pt x="86867" y="138287"/>
                </a:lnTo>
                <a:lnTo>
                  <a:pt x="86867" y="122285"/>
                </a:lnTo>
                <a:lnTo>
                  <a:pt x="80390" y="115823"/>
                </a:lnTo>
                <a:close/>
              </a:path>
              <a:path w="144780" h="829310">
                <a:moveTo>
                  <a:pt x="80390" y="231647"/>
                </a:moveTo>
                <a:lnTo>
                  <a:pt x="64388" y="231647"/>
                </a:lnTo>
                <a:lnTo>
                  <a:pt x="57911" y="238109"/>
                </a:lnTo>
                <a:lnTo>
                  <a:pt x="57911" y="254264"/>
                </a:lnTo>
                <a:lnTo>
                  <a:pt x="64388" y="260725"/>
                </a:lnTo>
                <a:lnTo>
                  <a:pt x="80390" y="260725"/>
                </a:lnTo>
                <a:lnTo>
                  <a:pt x="86867" y="254264"/>
                </a:lnTo>
                <a:lnTo>
                  <a:pt x="86867" y="238109"/>
                </a:lnTo>
                <a:lnTo>
                  <a:pt x="80390" y="231647"/>
                </a:lnTo>
                <a:close/>
              </a:path>
              <a:path w="144780" h="829310">
                <a:moveTo>
                  <a:pt x="80390" y="347593"/>
                </a:moveTo>
                <a:lnTo>
                  <a:pt x="64388" y="347593"/>
                </a:lnTo>
                <a:lnTo>
                  <a:pt x="57911" y="354086"/>
                </a:lnTo>
                <a:lnTo>
                  <a:pt x="57911" y="370088"/>
                </a:lnTo>
                <a:lnTo>
                  <a:pt x="64388" y="376549"/>
                </a:lnTo>
                <a:lnTo>
                  <a:pt x="80390" y="376549"/>
                </a:lnTo>
                <a:lnTo>
                  <a:pt x="86867" y="370088"/>
                </a:lnTo>
                <a:lnTo>
                  <a:pt x="86867" y="354086"/>
                </a:lnTo>
                <a:lnTo>
                  <a:pt x="80390" y="347593"/>
                </a:lnTo>
                <a:close/>
              </a:path>
              <a:path w="144780" h="829310">
                <a:moveTo>
                  <a:pt x="80390" y="463417"/>
                </a:moveTo>
                <a:lnTo>
                  <a:pt x="64388" y="463417"/>
                </a:lnTo>
                <a:lnTo>
                  <a:pt x="57911" y="469910"/>
                </a:lnTo>
                <a:lnTo>
                  <a:pt x="57911" y="485912"/>
                </a:lnTo>
                <a:lnTo>
                  <a:pt x="64388" y="492373"/>
                </a:lnTo>
                <a:lnTo>
                  <a:pt x="80390" y="492373"/>
                </a:lnTo>
                <a:lnTo>
                  <a:pt x="86867" y="485912"/>
                </a:lnTo>
                <a:lnTo>
                  <a:pt x="86867" y="469910"/>
                </a:lnTo>
                <a:lnTo>
                  <a:pt x="80390" y="463417"/>
                </a:lnTo>
                <a:close/>
              </a:path>
              <a:path w="144780" h="829310">
                <a:moveTo>
                  <a:pt x="80390" y="579241"/>
                </a:moveTo>
                <a:lnTo>
                  <a:pt x="64388" y="579241"/>
                </a:lnTo>
                <a:lnTo>
                  <a:pt x="57911" y="585734"/>
                </a:lnTo>
                <a:lnTo>
                  <a:pt x="57911" y="601736"/>
                </a:lnTo>
                <a:lnTo>
                  <a:pt x="64388" y="608197"/>
                </a:lnTo>
                <a:lnTo>
                  <a:pt x="80390" y="608197"/>
                </a:lnTo>
                <a:lnTo>
                  <a:pt x="86867" y="601736"/>
                </a:lnTo>
                <a:lnTo>
                  <a:pt x="86867" y="585734"/>
                </a:lnTo>
                <a:lnTo>
                  <a:pt x="80390" y="579241"/>
                </a:lnTo>
                <a:close/>
              </a:path>
              <a:path w="144780" h="829310">
                <a:moveTo>
                  <a:pt x="144779" y="684275"/>
                </a:moveTo>
                <a:lnTo>
                  <a:pt x="0" y="684275"/>
                </a:lnTo>
                <a:lnTo>
                  <a:pt x="72389" y="829055"/>
                </a:lnTo>
                <a:lnTo>
                  <a:pt x="144779" y="6842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9"/>
          <p:cNvSpPr/>
          <p:nvPr/>
        </p:nvSpPr>
        <p:spPr>
          <a:xfrm>
            <a:off x="1609560" y="3014640"/>
            <a:ext cx="190800" cy="814320"/>
          </a:xfrm>
          <a:custGeom>
            <a:avLst/>
            <a:gdLst>
              <a:gd name="textAreaLeft" fmla="*/ 0 w 190800"/>
              <a:gd name="textAreaRight" fmla="*/ 191160 w 19080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90500" h="814070">
                <a:moveTo>
                  <a:pt x="142874" y="218693"/>
                </a:moveTo>
                <a:lnTo>
                  <a:pt x="47624" y="218693"/>
                </a:lnTo>
                <a:lnTo>
                  <a:pt x="47624" y="813815"/>
                </a:lnTo>
                <a:lnTo>
                  <a:pt x="142874" y="813815"/>
                </a:lnTo>
                <a:lnTo>
                  <a:pt x="142874" y="218693"/>
                </a:lnTo>
                <a:close/>
              </a:path>
              <a:path w="190500" h="814070">
                <a:moveTo>
                  <a:pt x="95249" y="0"/>
                </a:moveTo>
                <a:lnTo>
                  <a:pt x="0" y="218693"/>
                </a:lnTo>
                <a:lnTo>
                  <a:pt x="190499" y="218693"/>
                </a:lnTo>
                <a:lnTo>
                  <a:pt x="952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10"/>
          <p:cNvSpPr/>
          <p:nvPr/>
        </p:nvSpPr>
        <p:spPr>
          <a:xfrm>
            <a:off x="1609560" y="3014640"/>
            <a:ext cx="190800" cy="814320"/>
          </a:xfrm>
          <a:custGeom>
            <a:avLst/>
            <a:gdLst>
              <a:gd name="textAreaLeft" fmla="*/ 0 w 190800"/>
              <a:gd name="textAreaRight" fmla="*/ 191160 w 19080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90500" h="814070">
                <a:moveTo>
                  <a:pt x="0" y="218693"/>
                </a:moveTo>
                <a:lnTo>
                  <a:pt x="95249" y="0"/>
                </a:lnTo>
                <a:lnTo>
                  <a:pt x="190499" y="218693"/>
                </a:lnTo>
                <a:lnTo>
                  <a:pt x="142874" y="218693"/>
                </a:lnTo>
                <a:lnTo>
                  <a:pt x="142874" y="813815"/>
                </a:lnTo>
                <a:lnTo>
                  <a:pt x="47624" y="813815"/>
                </a:lnTo>
                <a:lnTo>
                  <a:pt x="47624" y="218693"/>
                </a:lnTo>
                <a:lnTo>
                  <a:pt x="0" y="218693"/>
                </a:lnTo>
                <a:close/>
              </a:path>
            </a:pathLst>
          </a:custGeom>
          <a:noFill/>
          <a:ln w="28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11"/>
          <p:cNvSpPr/>
          <p:nvPr/>
        </p:nvSpPr>
        <p:spPr>
          <a:xfrm>
            <a:off x="1203480" y="1955880"/>
            <a:ext cx="1125360" cy="1055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1125220" h="1056639">
                <a:moveTo>
                  <a:pt x="562355" y="0"/>
                </a:moveTo>
                <a:lnTo>
                  <a:pt x="516225" y="1750"/>
                </a:lnTo>
                <a:lnTo>
                  <a:pt x="471123" y="6912"/>
                </a:lnTo>
                <a:lnTo>
                  <a:pt x="427194" y="15349"/>
                </a:lnTo>
                <a:lnTo>
                  <a:pt x="384582" y="26925"/>
                </a:lnTo>
                <a:lnTo>
                  <a:pt x="343434" y="41503"/>
                </a:lnTo>
                <a:lnTo>
                  <a:pt x="303892" y="58949"/>
                </a:lnTo>
                <a:lnTo>
                  <a:pt x="266101" y="79126"/>
                </a:lnTo>
                <a:lnTo>
                  <a:pt x="230207" y="101897"/>
                </a:lnTo>
                <a:lnTo>
                  <a:pt x="196354" y="127128"/>
                </a:lnTo>
                <a:lnTo>
                  <a:pt x="164685" y="154682"/>
                </a:lnTo>
                <a:lnTo>
                  <a:pt x="135347" y="184422"/>
                </a:lnTo>
                <a:lnTo>
                  <a:pt x="108483" y="216214"/>
                </a:lnTo>
                <a:lnTo>
                  <a:pt x="84238" y="249921"/>
                </a:lnTo>
                <a:lnTo>
                  <a:pt x="62756" y="285407"/>
                </a:lnTo>
                <a:lnTo>
                  <a:pt x="44183" y="322536"/>
                </a:lnTo>
                <a:lnTo>
                  <a:pt x="28663" y="361171"/>
                </a:lnTo>
                <a:lnTo>
                  <a:pt x="16339" y="401178"/>
                </a:lnTo>
                <a:lnTo>
                  <a:pt x="7358" y="442420"/>
                </a:lnTo>
                <a:lnTo>
                  <a:pt x="1863" y="484761"/>
                </a:lnTo>
                <a:lnTo>
                  <a:pt x="0" y="528065"/>
                </a:lnTo>
                <a:lnTo>
                  <a:pt x="1863" y="571370"/>
                </a:lnTo>
                <a:lnTo>
                  <a:pt x="7358" y="613711"/>
                </a:lnTo>
                <a:lnTo>
                  <a:pt x="16339" y="654953"/>
                </a:lnTo>
                <a:lnTo>
                  <a:pt x="28663" y="694960"/>
                </a:lnTo>
                <a:lnTo>
                  <a:pt x="44183" y="733595"/>
                </a:lnTo>
                <a:lnTo>
                  <a:pt x="62756" y="770724"/>
                </a:lnTo>
                <a:lnTo>
                  <a:pt x="84238" y="806210"/>
                </a:lnTo>
                <a:lnTo>
                  <a:pt x="108483" y="839917"/>
                </a:lnTo>
                <a:lnTo>
                  <a:pt x="135347" y="871709"/>
                </a:lnTo>
                <a:lnTo>
                  <a:pt x="164685" y="901449"/>
                </a:lnTo>
                <a:lnTo>
                  <a:pt x="196354" y="929003"/>
                </a:lnTo>
                <a:lnTo>
                  <a:pt x="230207" y="954234"/>
                </a:lnTo>
                <a:lnTo>
                  <a:pt x="266101" y="977005"/>
                </a:lnTo>
                <a:lnTo>
                  <a:pt x="303892" y="997182"/>
                </a:lnTo>
                <a:lnTo>
                  <a:pt x="343434" y="1014628"/>
                </a:lnTo>
                <a:lnTo>
                  <a:pt x="384582" y="1029206"/>
                </a:lnTo>
                <a:lnTo>
                  <a:pt x="427194" y="1040782"/>
                </a:lnTo>
                <a:lnTo>
                  <a:pt x="471123" y="1049219"/>
                </a:lnTo>
                <a:lnTo>
                  <a:pt x="516225" y="1054381"/>
                </a:lnTo>
                <a:lnTo>
                  <a:pt x="562355" y="1056131"/>
                </a:lnTo>
                <a:lnTo>
                  <a:pt x="608486" y="1054381"/>
                </a:lnTo>
                <a:lnTo>
                  <a:pt x="653588" y="1049219"/>
                </a:lnTo>
                <a:lnTo>
                  <a:pt x="697517" y="1040782"/>
                </a:lnTo>
                <a:lnTo>
                  <a:pt x="740129" y="1029206"/>
                </a:lnTo>
                <a:lnTo>
                  <a:pt x="781277" y="1014628"/>
                </a:lnTo>
                <a:lnTo>
                  <a:pt x="820819" y="997182"/>
                </a:lnTo>
                <a:lnTo>
                  <a:pt x="858610" y="977005"/>
                </a:lnTo>
                <a:lnTo>
                  <a:pt x="894504" y="954234"/>
                </a:lnTo>
                <a:lnTo>
                  <a:pt x="928357" y="929003"/>
                </a:lnTo>
                <a:lnTo>
                  <a:pt x="960026" y="901449"/>
                </a:lnTo>
                <a:lnTo>
                  <a:pt x="989364" y="871709"/>
                </a:lnTo>
                <a:lnTo>
                  <a:pt x="1016228" y="839917"/>
                </a:lnTo>
                <a:lnTo>
                  <a:pt x="1040473" y="806210"/>
                </a:lnTo>
                <a:lnTo>
                  <a:pt x="1061955" y="770724"/>
                </a:lnTo>
                <a:lnTo>
                  <a:pt x="1080528" y="733595"/>
                </a:lnTo>
                <a:lnTo>
                  <a:pt x="1096048" y="694960"/>
                </a:lnTo>
                <a:lnTo>
                  <a:pt x="1108372" y="654953"/>
                </a:lnTo>
                <a:lnTo>
                  <a:pt x="1117353" y="613711"/>
                </a:lnTo>
                <a:lnTo>
                  <a:pt x="1122848" y="571370"/>
                </a:lnTo>
                <a:lnTo>
                  <a:pt x="1124711" y="528065"/>
                </a:lnTo>
                <a:lnTo>
                  <a:pt x="1122848" y="484761"/>
                </a:lnTo>
                <a:lnTo>
                  <a:pt x="1117353" y="442420"/>
                </a:lnTo>
                <a:lnTo>
                  <a:pt x="1108372" y="401178"/>
                </a:lnTo>
                <a:lnTo>
                  <a:pt x="1096048" y="361171"/>
                </a:lnTo>
                <a:lnTo>
                  <a:pt x="1080528" y="322536"/>
                </a:lnTo>
                <a:lnTo>
                  <a:pt x="1061955" y="285407"/>
                </a:lnTo>
                <a:lnTo>
                  <a:pt x="1040473" y="249921"/>
                </a:lnTo>
                <a:lnTo>
                  <a:pt x="1016228" y="216214"/>
                </a:lnTo>
                <a:lnTo>
                  <a:pt x="989364" y="184422"/>
                </a:lnTo>
                <a:lnTo>
                  <a:pt x="960026" y="154682"/>
                </a:lnTo>
                <a:lnTo>
                  <a:pt x="928357" y="127128"/>
                </a:lnTo>
                <a:lnTo>
                  <a:pt x="894504" y="101897"/>
                </a:lnTo>
                <a:lnTo>
                  <a:pt x="858610" y="79126"/>
                </a:lnTo>
                <a:lnTo>
                  <a:pt x="820819" y="58949"/>
                </a:lnTo>
                <a:lnTo>
                  <a:pt x="781277" y="41503"/>
                </a:lnTo>
                <a:lnTo>
                  <a:pt x="740129" y="26925"/>
                </a:lnTo>
                <a:lnTo>
                  <a:pt x="697517" y="15349"/>
                </a:lnTo>
                <a:lnTo>
                  <a:pt x="653588" y="6912"/>
                </a:lnTo>
                <a:lnTo>
                  <a:pt x="608486" y="1750"/>
                </a:lnTo>
                <a:lnTo>
                  <a:pt x="562355" y="0"/>
                </a:lnTo>
                <a:close/>
              </a:path>
            </a:pathLst>
          </a:custGeom>
          <a:solidFill>
            <a:srgbClr val="dae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12"/>
          <p:cNvSpPr/>
          <p:nvPr/>
        </p:nvSpPr>
        <p:spPr>
          <a:xfrm>
            <a:off x="1203480" y="1955880"/>
            <a:ext cx="1125360" cy="1055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1125220" h="1056639">
                <a:moveTo>
                  <a:pt x="0" y="528065"/>
                </a:moveTo>
                <a:lnTo>
                  <a:pt x="1863" y="484761"/>
                </a:lnTo>
                <a:lnTo>
                  <a:pt x="7358" y="442420"/>
                </a:lnTo>
                <a:lnTo>
                  <a:pt x="16339" y="401178"/>
                </a:lnTo>
                <a:lnTo>
                  <a:pt x="28663" y="361171"/>
                </a:lnTo>
                <a:lnTo>
                  <a:pt x="44183" y="322536"/>
                </a:lnTo>
                <a:lnTo>
                  <a:pt x="62756" y="285407"/>
                </a:lnTo>
                <a:lnTo>
                  <a:pt x="84238" y="249921"/>
                </a:lnTo>
                <a:lnTo>
                  <a:pt x="108483" y="216214"/>
                </a:lnTo>
                <a:lnTo>
                  <a:pt x="135347" y="184422"/>
                </a:lnTo>
                <a:lnTo>
                  <a:pt x="164685" y="154682"/>
                </a:lnTo>
                <a:lnTo>
                  <a:pt x="196354" y="127128"/>
                </a:lnTo>
                <a:lnTo>
                  <a:pt x="230207" y="101897"/>
                </a:lnTo>
                <a:lnTo>
                  <a:pt x="266101" y="79126"/>
                </a:lnTo>
                <a:lnTo>
                  <a:pt x="303892" y="58949"/>
                </a:lnTo>
                <a:lnTo>
                  <a:pt x="343434" y="41503"/>
                </a:lnTo>
                <a:lnTo>
                  <a:pt x="384582" y="26925"/>
                </a:lnTo>
                <a:lnTo>
                  <a:pt x="427194" y="15349"/>
                </a:lnTo>
                <a:lnTo>
                  <a:pt x="471123" y="6912"/>
                </a:lnTo>
                <a:lnTo>
                  <a:pt x="516225" y="1750"/>
                </a:lnTo>
                <a:lnTo>
                  <a:pt x="562355" y="0"/>
                </a:lnTo>
                <a:lnTo>
                  <a:pt x="608486" y="1750"/>
                </a:lnTo>
                <a:lnTo>
                  <a:pt x="653588" y="6912"/>
                </a:lnTo>
                <a:lnTo>
                  <a:pt x="697517" y="15349"/>
                </a:lnTo>
                <a:lnTo>
                  <a:pt x="740129" y="26925"/>
                </a:lnTo>
                <a:lnTo>
                  <a:pt x="781277" y="41503"/>
                </a:lnTo>
                <a:lnTo>
                  <a:pt x="820819" y="58949"/>
                </a:lnTo>
                <a:lnTo>
                  <a:pt x="858610" y="79126"/>
                </a:lnTo>
                <a:lnTo>
                  <a:pt x="894504" y="101897"/>
                </a:lnTo>
                <a:lnTo>
                  <a:pt x="928357" y="127128"/>
                </a:lnTo>
                <a:lnTo>
                  <a:pt x="960026" y="154682"/>
                </a:lnTo>
                <a:lnTo>
                  <a:pt x="989364" y="184422"/>
                </a:lnTo>
                <a:lnTo>
                  <a:pt x="1016228" y="216214"/>
                </a:lnTo>
                <a:lnTo>
                  <a:pt x="1040473" y="249921"/>
                </a:lnTo>
                <a:lnTo>
                  <a:pt x="1061955" y="285407"/>
                </a:lnTo>
                <a:lnTo>
                  <a:pt x="1080528" y="322536"/>
                </a:lnTo>
                <a:lnTo>
                  <a:pt x="1096048" y="361171"/>
                </a:lnTo>
                <a:lnTo>
                  <a:pt x="1108372" y="401178"/>
                </a:lnTo>
                <a:lnTo>
                  <a:pt x="1117353" y="442420"/>
                </a:lnTo>
                <a:lnTo>
                  <a:pt x="1122848" y="484761"/>
                </a:lnTo>
                <a:lnTo>
                  <a:pt x="1124711" y="528065"/>
                </a:lnTo>
                <a:lnTo>
                  <a:pt x="1122848" y="571370"/>
                </a:lnTo>
                <a:lnTo>
                  <a:pt x="1117353" y="613711"/>
                </a:lnTo>
                <a:lnTo>
                  <a:pt x="1108372" y="654953"/>
                </a:lnTo>
                <a:lnTo>
                  <a:pt x="1096048" y="694960"/>
                </a:lnTo>
                <a:lnTo>
                  <a:pt x="1080528" y="733595"/>
                </a:lnTo>
                <a:lnTo>
                  <a:pt x="1061955" y="770724"/>
                </a:lnTo>
                <a:lnTo>
                  <a:pt x="1040473" y="806210"/>
                </a:lnTo>
                <a:lnTo>
                  <a:pt x="1016228" y="839917"/>
                </a:lnTo>
                <a:lnTo>
                  <a:pt x="989364" y="871709"/>
                </a:lnTo>
                <a:lnTo>
                  <a:pt x="960026" y="901449"/>
                </a:lnTo>
                <a:lnTo>
                  <a:pt x="928357" y="929003"/>
                </a:lnTo>
                <a:lnTo>
                  <a:pt x="894504" y="954234"/>
                </a:lnTo>
                <a:lnTo>
                  <a:pt x="858610" y="977005"/>
                </a:lnTo>
                <a:lnTo>
                  <a:pt x="820819" y="997182"/>
                </a:lnTo>
                <a:lnTo>
                  <a:pt x="781277" y="1014628"/>
                </a:lnTo>
                <a:lnTo>
                  <a:pt x="740129" y="1029206"/>
                </a:lnTo>
                <a:lnTo>
                  <a:pt x="697517" y="1040782"/>
                </a:lnTo>
                <a:lnTo>
                  <a:pt x="653588" y="1049219"/>
                </a:lnTo>
                <a:lnTo>
                  <a:pt x="608486" y="1054381"/>
                </a:lnTo>
                <a:lnTo>
                  <a:pt x="562355" y="1056131"/>
                </a:lnTo>
                <a:lnTo>
                  <a:pt x="516225" y="1054381"/>
                </a:lnTo>
                <a:lnTo>
                  <a:pt x="471123" y="1049219"/>
                </a:lnTo>
                <a:lnTo>
                  <a:pt x="427194" y="1040782"/>
                </a:lnTo>
                <a:lnTo>
                  <a:pt x="384582" y="1029206"/>
                </a:lnTo>
                <a:lnTo>
                  <a:pt x="343434" y="1014628"/>
                </a:lnTo>
                <a:lnTo>
                  <a:pt x="303892" y="997182"/>
                </a:lnTo>
                <a:lnTo>
                  <a:pt x="266101" y="977005"/>
                </a:lnTo>
                <a:lnTo>
                  <a:pt x="230207" y="954234"/>
                </a:lnTo>
                <a:lnTo>
                  <a:pt x="196354" y="929003"/>
                </a:lnTo>
                <a:lnTo>
                  <a:pt x="164685" y="901449"/>
                </a:lnTo>
                <a:lnTo>
                  <a:pt x="135347" y="871709"/>
                </a:lnTo>
                <a:lnTo>
                  <a:pt x="108483" y="839917"/>
                </a:lnTo>
                <a:lnTo>
                  <a:pt x="84238" y="806210"/>
                </a:lnTo>
                <a:lnTo>
                  <a:pt x="62756" y="770724"/>
                </a:lnTo>
                <a:lnTo>
                  <a:pt x="44183" y="733595"/>
                </a:lnTo>
                <a:lnTo>
                  <a:pt x="28663" y="694960"/>
                </a:lnTo>
                <a:lnTo>
                  <a:pt x="16339" y="654953"/>
                </a:lnTo>
                <a:lnTo>
                  <a:pt x="7358" y="613711"/>
                </a:lnTo>
                <a:lnTo>
                  <a:pt x="1863" y="571370"/>
                </a:lnTo>
                <a:lnTo>
                  <a:pt x="0" y="528065"/>
                </a:lnTo>
                <a:close/>
              </a:path>
            </a:pathLst>
          </a:custGeom>
          <a:noFill/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13"/>
          <p:cNvSpPr/>
          <p:nvPr/>
        </p:nvSpPr>
        <p:spPr>
          <a:xfrm>
            <a:off x="1776240" y="2468520"/>
            <a:ext cx="392400" cy="25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14"/>
          <p:cNvSpPr/>
          <p:nvPr/>
        </p:nvSpPr>
        <p:spPr>
          <a:xfrm>
            <a:off x="1776240" y="2468520"/>
            <a:ext cx="392400" cy="258840"/>
          </a:xfrm>
          <a:custGeom>
            <a:avLst/>
            <a:gdLst>
              <a:gd name="textAreaLeft" fmla="*/ 0 w 392400"/>
              <a:gd name="textAreaRight" fmla="*/ 392760 w 3924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91160" h="258444">
                <a:moveTo>
                  <a:pt x="0" y="37444"/>
                </a:moveTo>
                <a:lnTo>
                  <a:pt x="3179" y="44180"/>
                </a:lnTo>
                <a:lnTo>
                  <a:pt x="6345" y="50916"/>
                </a:lnTo>
                <a:lnTo>
                  <a:pt x="9524" y="57530"/>
                </a:lnTo>
                <a:lnTo>
                  <a:pt x="12704" y="64266"/>
                </a:lnTo>
                <a:lnTo>
                  <a:pt x="15870" y="72648"/>
                </a:lnTo>
                <a:lnTo>
                  <a:pt x="19049" y="77586"/>
                </a:lnTo>
                <a:lnTo>
                  <a:pt x="22347" y="82554"/>
                </a:lnTo>
                <a:lnTo>
                  <a:pt x="23871" y="84322"/>
                </a:lnTo>
                <a:lnTo>
                  <a:pt x="28706" y="87614"/>
                </a:lnTo>
                <a:lnTo>
                  <a:pt x="33396" y="90936"/>
                </a:lnTo>
                <a:lnTo>
                  <a:pt x="44576" y="94228"/>
                </a:lnTo>
                <a:lnTo>
                  <a:pt x="47756" y="97642"/>
                </a:lnTo>
                <a:lnTo>
                  <a:pt x="50922" y="100964"/>
                </a:lnTo>
                <a:lnTo>
                  <a:pt x="47756" y="104256"/>
                </a:lnTo>
                <a:lnTo>
                  <a:pt x="47756" y="107700"/>
                </a:lnTo>
                <a:lnTo>
                  <a:pt x="47756" y="110992"/>
                </a:lnTo>
                <a:lnTo>
                  <a:pt x="49398" y="110992"/>
                </a:lnTo>
                <a:lnTo>
                  <a:pt x="47756" y="117728"/>
                </a:lnTo>
                <a:lnTo>
                  <a:pt x="43692" y="127874"/>
                </a:lnTo>
                <a:lnTo>
                  <a:pt x="39014" y="140995"/>
                </a:lnTo>
                <a:lnTo>
                  <a:pt x="44839" y="180003"/>
                </a:lnTo>
                <a:lnTo>
                  <a:pt x="65276" y="214962"/>
                </a:lnTo>
                <a:lnTo>
                  <a:pt x="70103" y="224530"/>
                </a:lnTo>
                <a:lnTo>
                  <a:pt x="66924" y="222884"/>
                </a:lnTo>
                <a:lnTo>
                  <a:pt x="66924" y="227822"/>
                </a:lnTo>
                <a:lnTo>
                  <a:pt x="63651" y="236919"/>
                </a:lnTo>
                <a:lnTo>
                  <a:pt x="103399" y="256688"/>
                </a:lnTo>
                <a:lnTo>
                  <a:pt x="116554" y="258092"/>
                </a:lnTo>
                <a:lnTo>
                  <a:pt x="130444" y="253400"/>
                </a:lnTo>
                <a:lnTo>
                  <a:pt x="133205" y="243740"/>
                </a:lnTo>
                <a:lnTo>
                  <a:pt x="133978" y="231136"/>
                </a:lnTo>
                <a:lnTo>
                  <a:pt x="133808" y="217738"/>
                </a:lnTo>
                <a:lnTo>
                  <a:pt x="133388" y="204523"/>
                </a:lnTo>
                <a:lnTo>
                  <a:pt x="133408" y="192469"/>
                </a:lnTo>
                <a:lnTo>
                  <a:pt x="135586" y="176331"/>
                </a:lnTo>
                <a:lnTo>
                  <a:pt x="138474" y="162026"/>
                </a:lnTo>
                <a:lnTo>
                  <a:pt x="141534" y="151470"/>
                </a:lnTo>
                <a:lnTo>
                  <a:pt x="144448" y="148983"/>
                </a:lnTo>
                <a:lnTo>
                  <a:pt x="148014" y="155067"/>
                </a:lnTo>
                <a:lnTo>
                  <a:pt x="158626" y="158682"/>
                </a:lnTo>
                <a:lnTo>
                  <a:pt x="170847" y="162116"/>
                </a:lnTo>
                <a:lnTo>
                  <a:pt x="183985" y="165009"/>
                </a:lnTo>
                <a:lnTo>
                  <a:pt x="197345" y="167005"/>
                </a:lnTo>
                <a:lnTo>
                  <a:pt x="212553" y="167160"/>
                </a:lnTo>
                <a:lnTo>
                  <a:pt x="226503" y="166855"/>
                </a:lnTo>
                <a:lnTo>
                  <a:pt x="273515" y="158968"/>
                </a:lnTo>
                <a:lnTo>
                  <a:pt x="309397" y="142931"/>
                </a:lnTo>
                <a:lnTo>
                  <a:pt x="349252" y="110643"/>
                </a:lnTo>
                <a:lnTo>
                  <a:pt x="370008" y="74471"/>
                </a:lnTo>
                <a:lnTo>
                  <a:pt x="379555" y="53142"/>
                </a:lnTo>
                <a:lnTo>
                  <a:pt x="387409" y="35675"/>
                </a:lnTo>
                <a:lnTo>
                  <a:pt x="390897" y="25260"/>
                </a:lnTo>
                <a:lnTo>
                  <a:pt x="389258" y="9393"/>
                </a:lnTo>
                <a:lnTo>
                  <a:pt x="384156" y="0"/>
                </a:lnTo>
              </a:path>
            </a:pathLst>
          </a:custGeom>
          <a:noFill/>
          <a:ln w="1224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15"/>
          <p:cNvSpPr/>
          <p:nvPr/>
        </p:nvSpPr>
        <p:spPr>
          <a:xfrm>
            <a:off x="1509840" y="2071800"/>
            <a:ext cx="691920" cy="463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16"/>
          <p:cNvSpPr/>
          <p:nvPr/>
        </p:nvSpPr>
        <p:spPr>
          <a:xfrm>
            <a:off x="1503360" y="2065320"/>
            <a:ext cx="704880" cy="56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17"/>
          <p:cNvSpPr/>
          <p:nvPr/>
        </p:nvSpPr>
        <p:spPr>
          <a:xfrm>
            <a:off x="1292400" y="2303640"/>
            <a:ext cx="220320" cy="27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18"/>
          <p:cNvSpPr/>
          <p:nvPr/>
        </p:nvSpPr>
        <p:spPr>
          <a:xfrm>
            <a:off x="1311120" y="2316240"/>
            <a:ext cx="127080" cy="127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19"/>
          <p:cNvSpPr/>
          <p:nvPr/>
        </p:nvSpPr>
        <p:spPr>
          <a:xfrm>
            <a:off x="1333440" y="2354400"/>
            <a:ext cx="63720" cy="633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20"/>
          <p:cNvSpPr/>
          <p:nvPr/>
        </p:nvSpPr>
        <p:spPr>
          <a:xfrm>
            <a:off x="1406520" y="2506680"/>
            <a:ext cx="69840" cy="22320"/>
          </a:xfrm>
          <a:custGeom>
            <a:avLst/>
            <a:gdLst>
              <a:gd name="textAreaLeft" fmla="*/ 0 w 69840"/>
              <a:gd name="textAreaRight" fmla="*/ 70200 w 69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8580" h="22225">
                <a:moveTo>
                  <a:pt x="0" y="10027"/>
                </a:moveTo>
                <a:lnTo>
                  <a:pt x="10262" y="17236"/>
                </a:lnTo>
                <a:lnTo>
                  <a:pt x="22422" y="21953"/>
                </a:lnTo>
                <a:lnTo>
                  <a:pt x="28955" y="21854"/>
                </a:lnTo>
                <a:lnTo>
                  <a:pt x="34920" y="18287"/>
                </a:lnTo>
                <a:lnTo>
                  <a:pt x="41147" y="15758"/>
                </a:lnTo>
                <a:lnTo>
                  <a:pt x="46994" y="12953"/>
                </a:lnTo>
                <a:lnTo>
                  <a:pt x="52827" y="10302"/>
                </a:lnTo>
                <a:lnTo>
                  <a:pt x="58542" y="7254"/>
                </a:lnTo>
                <a:lnTo>
                  <a:pt x="61091" y="5852"/>
                </a:lnTo>
                <a:lnTo>
                  <a:pt x="63377" y="4084"/>
                </a:lnTo>
                <a:lnTo>
                  <a:pt x="65663" y="2285"/>
                </a:lnTo>
                <a:lnTo>
                  <a:pt x="66543" y="1645"/>
                </a:lnTo>
                <a:lnTo>
                  <a:pt x="680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21"/>
          <p:cNvSpPr/>
          <p:nvPr/>
        </p:nvSpPr>
        <p:spPr>
          <a:xfrm>
            <a:off x="1413000" y="251316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4" h="8889">
                <a:moveTo>
                  <a:pt x="0" y="0"/>
                </a:moveTo>
                <a:lnTo>
                  <a:pt x="8000" y="3566"/>
                </a:lnTo>
                <a:lnTo>
                  <a:pt x="16001" y="7254"/>
                </a:lnTo>
                <a:lnTo>
                  <a:pt x="19181" y="87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22"/>
          <p:cNvSpPr/>
          <p:nvPr/>
        </p:nvSpPr>
        <p:spPr>
          <a:xfrm>
            <a:off x="1434960" y="2517840"/>
            <a:ext cx="46080" cy="52200"/>
          </a:xfrm>
          <a:custGeom>
            <a:avLst/>
            <a:gdLst>
              <a:gd name="textAreaLeft" fmla="*/ 0 w 46080"/>
              <a:gd name="textAreaRight" fmla="*/ 46440 w 460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6355" h="52069">
                <a:moveTo>
                  <a:pt x="554" y="-13568"/>
                </a:moveTo>
                <a:lnTo>
                  <a:pt x="0" y="-25648"/>
                </a:lnTo>
                <a:lnTo>
                  <a:pt x="2544" y="27593"/>
                </a:lnTo>
                <a:lnTo>
                  <a:pt x="6269" y="21214"/>
                </a:lnTo>
                <a:lnTo>
                  <a:pt x="12496" y="18044"/>
                </a:lnTo>
                <a:lnTo>
                  <a:pt x="17961" y="14234"/>
                </a:lnTo>
                <a:lnTo>
                  <a:pt x="23414" y="10942"/>
                </a:lnTo>
                <a:lnTo>
                  <a:pt x="28879" y="7254"/>
                </a:lnTo>
                <a:lnTo>
                  <a:pt x="-31073" y="4206"/>
                </a:lnTo>
                <a:lnTo>
                  <a:pt x="-28525" y="2804"/>
                </a:lnTo>
                <a:lnTo>
                  <a:pt x="-25739" y="1798"/>
                </a:lnTo>
                <a:lnTo>
                  <a:pt x="-23072" y="914"/>
                </a:lnTo>
                <a:lnTo>
                  <a:pt x="-22048" y="518"/>
                </a:lnTo>
                <a:lnTo>
                  <a:pt x="-197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23"/>
          <p:cNvSpPr/>
          <p:nvPr/>
        </p:nvSpPr>
        <p:spPr>
          <a:xfrm>
            <a:off x="1441440" y="2546280"/>
            <a:ext cx="3240" cy="20880"/>
          </a:xfrm>
          <a:custGeom>
            <a:avLst/>
            <a:gdLst>
              <a:gd name="textAreaLeft" fmla="*/ 0 w 3240"/>
              <a:gd name="textAreaRight" fmla="*/ 3600 w 32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3175" h="20955">
                <a:moveTo>
                  <a:pt x="0" y="20817"/>
                </a:moveTo>
                <a:lnTo>
                  <a:pt x="1274" y="12191"/>
                </a:lnTo>
                <a:lnTo>
                  <a:pt x="2548" y="3444"/>
                </a:lnTo>
                <a:lnTo>
                  <a:pt x="29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24"/>
          <p:cNvSpPr/>
          <p:nvPr/>
        </p:nvSpPr>
        <p:spPr>
          <a:xfrm>
            <a:off x="1461960" y="2516040"/>
            <a:ext cx="5040" cy="5040"/>
          </a:xfrm>
          <a:custGeom>
            <a:avLst/>
            <a:gdLst>
              <a:gd name="textAreaLeft" fmla="*/ 0 w 5040"/>
              <a:gd name="textAreaRight" fmla="*/ 5400 w 50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3428" y="4175"/>
                </a:moveTo>
                <a:lnTo>
                  <a:pt x="2285" y="4693"/>
                </a:lnTo>
                <a:lnTo>
                  <a:pt x="1011" y="4419"/>
                </a:lnTo>
                <a:lnTo>
                  <a:pt x="499" y="3413"/>
                </a:lnTo>
                <a:lnTo>
                  <a:pt x="0" y="2407"/>
                </a:lnTo>
                <a:lnTo>
                  <a:pt x="380" y="1127"/>
                </a:lnTo>
                <a:lnTo>
                  <a:pt x="1392" y="609"/>
                </a:lnTo>
                <a:lnTo>
                  <a:pt x="2535" y="0"/>
                </a:lnTo>
                <a:lnTo>
                  <a:pt x="3809" y="365"/>
                </a:lnTo>
                <a:lnTo>
                  <a:pt x="4309" y="1371"/>
                </a:lnTo>
                <a:lnTo>
                  <a:pt x="4821" y="2285"/>
                </a:lnTo>
                <a:lnTo>
                  <a:pt x="4440" y="3535"/>
                </a:lnTo>
                <a:lnTo>
                  <a:pt x="3428" y="417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25"/>
          <p:cNvSpPr/>
          <p:nvPr/>
        </p:nvSpPr>
        <p:spPr>
          <a:xfrm>
            <a:off x="1346040" y="2446200"/>
            <a:ext cx="57240" cy="38160"/>
          </a:xfrm>
          <a:custGeom>
            <a:avLst/>
            <a:gdLst>
              <a:gd name="textAreaLeft" fmla="*/ 0 w 57240"/>
              <a:gd name="textAreaRight" fmla="*/ 57600 w 57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6515" h="37464">
                <a:moveTo>
                  <a:pt x="0" y="0"/>
                </a:moveTo>
                <a:lnTo>
                  <a:pt x="2724" y="12138"/>
                </a:lnTo>
                <a:lnTo>
                  <a:pt x="8596" y="23701"/>
                </a:lnTo>
                <a:lnTo>
                  <a:pt x="13453" y="27950"/>
                </a:lnTo>
                <a:lnTo>
                  <a:pt x="20192" y="29108"/>
                </a:lnTo>
                <a:lnTo>
                  <a:pt x="26407" y="31241"/>
                </a:lnTo>
                <a:lnTo>
                  <a:pt x="32503" y="-32618"/>
                </a:lnTo>
                <a:lnTo>
                  <a:pt x="-27056" y="-30606"/>
                </a:lnTo>
                <a:lnTo>
                  <a:pt x="-20841" y="-29326"/>
                </a:lnTo>
                <a:lnTo>
                  <a:pt x="-18174" y="-28686"/>
                </a:lnTo>
                <a:lnTo>
                  <a:pt x="-15376" y="-28442"/>
                </a:lnTo>
                <a:lnTo>
                  <a:pt x="-12459" y="-28320"/>
                </a:lnTo>
                <a:lnTo>
                  <a:pt x="-11435" y="-28199"/>
                </a:lnTo>
                <a:lnTo>
                  <a:pt x="-9280" y="-284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26"/>
          <p:cNvSpPr/>
          <p:nvPr/>
        </p:nvSpPr>
        <p:spPr>
          <a:xfrm>
            <a:off x="1352520" y="24480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90" h="19685">
                <a:moveTo>
                  <a:pt x="0" y="0"/>
                </a:moveTo>
                <a:lnTo>
                  <a:pt x="3547" y="8016"/>
                </a:lnTo>
                <a:lnTo>
                  <a:pt x="6976" y="16001"/>
                </a:lnTo>
                <a:lnTo>
                  <a:pt x="8381" y="19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27"/>
          <p:cNvSpPr/>
          <p:nvPr/>
        </p:nvSpPr>
        <p:spPr>
          <a:xfrm>
            <a:off x="1335240" y="2482920"/>
            <a:ext cx="66600" cy="19080"/>
          </a:xfrm>
          <a:custGeom>
            <a:avLst/>
            <a:gdLst>
              <a:gd name="textAreaLeft" fmla="*/ 0 w 66600"/>
              <a:gd name="textAreaRight" fmla="*/ 66960 w 66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6675" h="19685">
                <a:moveTo>
                  <a:pt x="0" y="19446"/>
                </a:moveTo>
                <a:lnTo>
                  <a:pt x="3560" y="11308"/>
                </a:lnTo>
                <a:lnTo>
                  <a:pt x="10930" y="7376"/>
                </a:lnTo>
                <a:lnTo>
                  <a:pt x="17906" y="1798"/>
                </a:lnTo>
                <a:lnTo>
                  <a:pt x="24002" y="0"/>
                </a:lnTo>
                <a:lnTo>
                  <a:pt x="30611" y="1798"/>
                </a:lnTo>
                <a:lnTo>
                  <a:pt x="37088" y="2438"/>
                </a:lnTo>
                <a:lnTo>
                  <a:pt x="43315" y="3566"/>
                </a:lnTo>
                <a:lnTo>
                  <a:pt x="49661" y="4328"/>
                </a:lnTo>
                <a:lnTo>
                  <a:pt x="55757" y="5730"/>
                </a:lnTo>
                <a:lnTo>
                  <a:pt x="58555" y="6370"/>
                </a:lnTo>
                <a:lnTo>
                  <a:pt x="61222" y="7376"/>
                </a:lnTo>
                <a:lnTo>
                  <a:pt x="63758" y="8381"/>
                </a:lnTo>
                <a:lnTo>
                  <a:pt x="64769" y="8778"/>
                </a:lnTo>
                <a:lnTo>
                  <a:pt x="66674" y="9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28"/>
          <p:cNvSpPr/>
          <p:nvPr/>
        </p:nvSpPr>
        <p:spPr>
          <a:xfrm>
            <a:off x="1341360" y="248904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875" h="13969">
                <a:moveTo>
                  <a:pt x="0" y="13837"/>
                </a:moveTo>
                <a:lnTo>
                  <a:pt x="6608" y="8107"/>
                </a:lnTo>
                <a:lnTo>
                  <a:pt x="13216" y="2285"/>
                </a:lnTo>
                <a:lnTo>
                  <a:pt x="15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29"/>
          <p:cNvSpPr/>
          <p:nvPr/>
        </p:nvSpPr>
        <p:spPr>
          <a:xfrm>
            <a:off x="1387440" y="248112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175" h="3175">
                <a:moveTo>
                  <a:pt x="1274" y="2804"/>
                </a:moveTo>
                <a:lnTo>
                  <a:pt x="512" y="2651"/>
                </a:lnTo>
                <a:lnTo>
                  <a:pt x="0" y="1889"/>
                </a:lnTo>
                <a:lnTo>
                  <a:pt x="249" y="1127"/>
                </a:lnTo>
                <a:lnTo>
                  <a:pt x="380" y="518"/>
                </a:lnTo>
                <a:lnTo>
                  <a:pt x="1142" y="0"/>
                </a:lnTo>
                <a:lnTo>
                  <a:pt x="1904" y="121"/>
                </a:lnTo>
                <a:lnTo>
                  <a:pt x="2666" y="365"/>
                </a:lnTo>
                <a:lnTo>
                  <a:pt x="3179" y="1005"/>
                </a:lnTo>
                <a:lnTo>
                  <a:pt x="3047" y="1767"/>
                </a:lnTo>
                <a:lnTo>
                  <a:pt x="2798" y="2529"/>
                </a:lnTo>
                <a:lnTo>
                  <a:pt x="2036" y="2926"/>
                </a:lnTo>
                <a:lnTo>
                  <a:pt x="1274" y="28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30"/>
          <p:cNvSpPr/>
          <p:nvPr/>
        </p:nvSpPr>
        <p:spPr>
          <a:xfrm>
            <a:off x="1442880" y="2451240"/>
            <a:ext cx="54000" cy="37800"/>
          </a:xfrm>
          <a:custGeom>
            <a:avLst/>
            <a:gdLst>
              <a:gd name="textAreaLeft" fmla="*/ 0 w 54000"/>
              <a:gd name="textAreaRight" fmla="*/ 54360 w 540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53975" h="38100">
                <a:moveTo>
                  <a:pt x="-11697" y="2299"/>
                </a:moveTo>
                <a:lnTo>
                  <a:pt x="-23878" y="0"/>
                </a:lnTo>
                <a:lnTo>
                  <a:pt x="29065" y="511"/>
                </a:lnTo>
                <a:lnTo>
                  <a:pt x="22347" y="3213"/>
                </a:lnTo>
                <a:lnTo>
                  <a:pt x="19049" y="8669"/>
                </a:lnTo>
                <a:lnTo>
                  <a:pt x="14977" y="13363"/>
                </a:lnTo>
                <a:lnTo>
                  <a:pt x="11548" y="18057"/>
                </a:lnTo>
                <a:lnTo>
                  <a:pt x="7738" y="22629"/>
                </a:lnTo>
                <a:lnTo>
                  <a:pt x="4440" y="27597"/>
                </a:lnTo>
                <a:lnTo>
                  <a:pt x="2916" y="29731"/>
                </a:lnTo>
                <a:lnTo>
                  <a:pt x="1904" y="32291"/>
                </a:lnTo>
                <a:lnTo>
                  <a:pt x="880" y="-30837"/>
                </a:lnTo>
                <a:lnTo>
                  <a:pt x="380" y="-29953"/>
                </a:lnTo>
                <a:lnTo>
                  <a:pt x="0" y="-279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31"/>
          <p:cNvSpPr/>
          <p:nvPr/>
        </p:nvSpPr>
        <p:spPr>
          <a:xfrm>
            <a:off x="1471680" y="2459160"/>
            <a:ext cx="22320" cy="360"/>
          </a:xfrm>
          <a:custGeom>
            <a:avLst/>
            <a:gdLst/>
            <a:ahLst/>
            <a:rect l="l" t="t" r="r" b="b"/>
            <a:pathLst>
              <a:path w="21590" h="635">
                <a:moveTo>
                  <a:pt x="21335" y="243"/>
                </a:moveTo>
                <a:lnTo>
                  <a:pt x="12441" y="121"/>
                </a:lnTo>
                <a:lnTo>
                  <a:pt x="3560" y="1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ject 32"/>
          <p:cNvSpPr/>
          <p:nvPr/>
        </p:nvSpPr>
        <p:spPr>
          <a:xfrm>
            <a:off x="1434960" y="2422440"/>
            <a:ext cx="24120" cy="65160"/>
          </a:xfrm>
          <a:custGeom>
            <a:avLst/>
            <a:gdLst>
              <a:gd name="textAreaLeft" fmla="*/ 0 w 24120"/>
              <a:gd name="textAreaRight" fmla="*/ 24480 w 241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3494" h="64135">
                <a:moveTo>
                  <a:pt x="11679" y="0"/>
                </a:moveTo>
                <a:lnTo>
                  <a:pt x="18735" y="10634"/>
                </a:lnTo>
                <a:lnTo>
                  <a:pt x="23134" y="22639"/>
                </a:lnTo>
                <a:lnTo>
                  <a:pt x="23240" y="29474"/>
                </a:lnTo>
                <a:lnTo>
                  <a:pt x="19430" y="-30972"/>
                </a:lnTo>
                <a:lnTo>
                  <a:pt x="16632" y="-25394"/>
                </a:lnTo>
                <a:lnTo>
                  <a:pt x="13715" y="-20304"/>
                </a:lnTo>
                <a:lnTo>
                  <a:pt x="10917" y="-14970"/>
                </a:lnTo>
                <a:lnTo>
                  <a:pt x="7619" y="-10154"/>
                </a:lnTo>
                <a:lnTo>
                  <a:pt x="6227" y="-7868"/>
                </a:lnTo>
                <a:lnTo>
                  <a:pt x="4322" y="-5948"/>
                </a:lnTo>
                <a:lnTo>
                  <a:pt x="2417" y="-4058"/>
                </a:lnTo>
                <a:lnTo>
                  <a:pt x="1773" y="-3296"/>
                </a:lnTo>
                <a:lnTo>
                  <a:pt x="0" y="-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ject 33"/>
          <p:cNvSpPr/>
          <p:nvPr/>
        </p:nvSpPr>
        <p:spPr>
          <a:xfrm>
            <a:off x="1442880" y="2427120"/>
            <a:ext cx="9720" cy="20880"/>
          </a:xfrm>
          <a:custGeom>
            <a:avLst/>
            <a:gdLst>
              <a:gd name="textAreaLeft" fmla="*/ 0 w 9720"/>
              <a:gd name="textAreaRight" fmla="*/ 10080 w 9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890" h="19685">
                <a:moveTo>
                  <a:pt x="0" y="0"/>
                </a:moveTo>
                <a:lnTo>
                  <a:pt x="3560" y="8260"/>
                </a:lnTo>
                <a:lnTo>
                  <a:pt x="7107" y="16367"/>
                </a:lnTo>
                <a:lnTo>
                  <a:pt x="8631" y="196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34"/>
          <p:cNvSpPr/>
          <p:nvPr/>
        </p:nvSpPr>
        <p:spPr>
          <a:xfrm>
            <a:off x="1444680" y="24782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905" h="1905">
                <a:moveTo>
                  <a:pt x="262" y="487"/>
                </a:moveTo>
                <a:lnTo>
                  <a:pt x="380" y="121"/>
                </a:lnTo>
                <a:lnTo>
                  <a:pt x="893" y="0"/>
                </a:lnTo>
                <a:lnTo>
                  <a:pt x="1142" y="243"/>
                </a:lnTo>
                <a:lnTo>
                  <a:pt x="1523" y="487"/>
                </a:lnTo>
                <a:lnTo>
                  <a:pt x="1655" y="883"/>
                </a:lnTo>
                <a:lnTo>
                  <a:pt x="1405" y="1249"/>
                </a:lnTo>
                <a:lnTo>
                  <a:pt x="1142" y="1523"/>
                </a:lnTo>
                <a:lnTo>
                  <a:pt x="761" y="1645"/>
                </a:lnTo>
                <a:lnTo>
                  <a:pt x="380" y="1371"/>
                </a:lnTo>
                <a:lnTo>
                  <a:pt x="131" y="1127"/>
                </a:lnTo>
                <a:lnTo>
                  <a:pt x="0" y="761"/>
                </a:lnTo>
                <a:lnTo>
                  <a:pt x="262" y="4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35"/>
          <p:cNvSpPr/>
          <p:nvPr/>
        </p:nvSpPr>
        <p:spPr>
          <a:xfrm>
            <a:off x="1463760" y="2616120"/>
            <a:ext cx="268200" cy="246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36"/>
          <p:cNvSpPr/>
          <p:nvPr/>
        </p:nvSpPr>
        <p:spPr>
          <a:xfrm>
            <a:off x="1596960" y="2709720"/>
            <a:ext cx="119160" cy="13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37"/>
          <p:cNvSpPr/>
          <p:nvPr/>
        </p:nvSpPr>
        <p:spPr>
          <a:xfrm>
            <a:off x="1630440" y="2736720"/>
            <a:ext cx="61920" cy="637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38"/>
          <p:cNvSpPr/>
          <p:nvPr/>
        </p:nvSpPr>
        <p:spPr>
          <a:xfrm>
            <a:off x="1500120" y="2676600"/>
            <a:ext cx="50760" cy="41040"/>
          </a:xfrm>
          <a:custGeom>
            <a:avLst/>
            <a:gdLst>
              <a:gd name="textAreaLeft" fmla="*/ 0 w 50760"/>
              <a:gd name="textAreaRight" fmla="*/ 51120 w 507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800" h="41275">
                <a:moveTo>
                  <a:pt x="-14982" y="1363"/>
                </a:moveTo>
                <a:lnTo>
                  <a:pt x="-27149" y="0"/>
                </a:lnTo>
                <a:lnTo>
                  <a:pt x="25980" y="1646"/>
                </a:lnTo>
                <a:lnTo>
                  <a:pt x="19811" y="4655"/>
                </a:lnTo>
                <a:lnTo>
                  <a:pt x="17026" y="10355"/>
                </a:lnTo>
                <a:lnTo>
                  <a:pt x="13334" y="15323"/>
                </a:lnTo>
                <a:lnTo>
                  <a:pt x="10168" y="20413"/>
                </a:lnTo>
                <a:lnTo>
                  <a:pt x="6608" y="25229"/>
                </a:lnTo>
                <a:lnTo>
                  <a:pt x="3691" y="30319"/>
                </a:lnTo>
                <a:lnTo>
                  <a:pt x="2417" y="32605"/>
                </a:lnTo>
                <a:lnTo>
                  <a:pt x="1523" y="-30401"/>
                </a:lnTo>
                <a:lnTo>
                  <a:pt x="643" y="-27871"/>
                </a:lnTo>
                <a:lnTo>
                  <a:pt x="262" y="-26987"/>
                </a:lnTo>
                <a:lnTo>
                  <a:pt x="0" y="-248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39"/>
          <p:cNvSpPr/>
          <p:nvPr/>
        </p:nvSpPr>
        <p:spPr>
          <a:xfrm>
            <a:off x="1527120" y="2682720"/>
            <a:ext cx="20520" cy="1800"/>
          </a:xfrm>
          <a:custGeom>
            <a:avLst/>
            <a:gdLst>
              <a:gd name="textAreaLeft" fmla="*/ 0 w 20520"/>
              <a:gd name="textAreaRight" fmla="*/ 20880 w 205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0955" h="1905">
                <a:moveTo>
                  <a:pt x="20823" y="0"/>
                </a:moveTo>
                <a:lnTo>
                  <a:pt x="12191" y="640"/>
                </a:lnTo>
                <a:lnTo>
                  <a:pt x="3428" y="1280"/>
                </a:lnTo>
                <a:lnTo>
                  <a:pt x="0" y="15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40"/>
          <p:cNvSpPr/>
          <p:nvPr/>
        </p:nvSpPr>
        <p:spPr>
          <a:xfrm>
            <a:off x="1492200" y="2649600"/>
            <a:ext cx="22320" cy="63360"/>
          </a:xfrm>
          <a:custGeom>
            <a:avLst/>
            <a:gdLst>
              <a:gd name="textAreaLeft" fmla="*/ 0 w 22320"/>
              <a:gd name="textAreaRight" fmla="*/ 22680 w 22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0955" h="64135">
                <a:moveTo>
                  <a:pt x="7751" y="0"/>
                </a:moveTo>
                <a:lnTo>
                  <a:pt x="14740" y="5821"/>
                </a:lnTo>
                <a:lnTo>
                  <a:pt x="16763" y="13837"/>
                </a:lnTo>
                <a:lnTo>
                  <a:pt x="20455" y="21945"/>
                </a:lnTo>
                <a:lnTo>
                  <a:pt x="20705" y="28193"/>
                </a:lnTo>
                <a:lnTo>
                  <a:pt x="17276" y="-32009"/>
                </a:lnTo>
                <a:lnTo>
                  <a:pt x="14858" y="-26309"/>
                </a:lnTo>
                <a:lnTo>
                  <a:pt x="12191" y="-20975"/>
                </a:lnTo>
                <a:lnTo>
                  <a:pt x="9787" y="-15519"/>
                </a:lnTo>
                <a:lnTo>
                  <a:pt x="6857" y="-10429"/>
                </a:lnTo>
                <a:lnTo>
                  <a:pt x="5596" y="-8143"/>
                </a:lnTo>
                <a:lnTo>
                  <a:pt x="3941" y="-6101"/>
                </a:lnTo>
                <a:lnTo>
                  <a:pt x="2285" y="-3967"/>
                </a:lnTo>
                <a:lnTo>
                  <a:pt x="1655" y="-3205"/>
                </a:lnTo>
                <a:lnTo>
                  <a:pt x="0" y="-19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41"/>
          <p:cNvSpPr/>
          <p:nvPr/>
        </p:nvSpPr>
        <p:spPr>
          <a:xfrm>
            <a:off x="1498680" y="265428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525" h="19050">
                <a:moveTo>
                  <a:pt x="0" y="0"/>
                </a:moveTo>
                <a:lnTo>
                  <a:pt x="3928" y="7772"/>
                </a:lnTo>
                <a:lnTo>
                  <a:pt x="7869" y="15636"/>
                </a:lnTo>
                <a:lnTo>
                  <a:pt x="9524" y="186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42"/>
          <p:cNvSpPr/>
          <p:nvPr/>
        </p:nvSpPr>
        <p:spPr>
          <a:xfrm>
            <a:off x="1500120" y="27036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630" y="1402"/>
                </a:moveTo>
                <a:lnTo>
                  <a:pt x="1142" y="396"/>
                </a:lnTo>
                <a:lnTo>
                  <a:pt x="2417" y="0"/>
                </a:lnTo>
                <a:lnTo>
                  <a:pt x="3428" y="518"/>
                </a:lnTo>
                <a:lnTo>
                  <a:pt x="4322" y="1158"/>
                </a:lnTo>
                <a:lnTo>
                  <a:pt x="4703" y="2407"/>
                </a:lnTo>
                <a:lnTo>
                  <a:pt x="4059" y="3444"/>
                </a:lnTo>
                <a:lnTo>
                  <a:pt x="3560" y="4450"/>
                </a:lnTo>
                <a:lnTo>
                  <a:pt x="2285" y="4693"/>
                </a:lnTo>
                <a:lnTo>
                  <a:pt x="1274" y="4206"/>
                </a:lnTo>
                <a:lnTo>
                  <a:pt x="380" y="3688"/>
                </a:lnTo>
                <a:lnTo>
                  <a:pt x="0" y="2407"/>
                </a:lnTo>
                <a:lnTo>
                  <a:pt x="630" y="14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43"/>
          <p:cNvSpPr/>
          <p:nvPr/>
        </p:nvSpPr>
        <p:spPr>
          <a:xfrm>
            <a:off x="1574640" y="2689200"/>
            <a:ext cx="65160" cy="19080"/>
          </a:xfrm>
          <a:custGeom>
            <a:avLst/>
            <a:gdLst>
              <a:gd name="textAreaLeft" fmla="*/ 0 w 65160"/>
              <a:gd name="textAreaRight" fmla="*/ 65520 w 65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4769" h="19050">
                <a:moveTo>
                  <a:pt x="-1148" y="18653"/>
                </a:moveTo>
                <a:lnTo>
                  <a:pt x="-9639" y="9218"/>
                </a:lnTo>
                <a:lnTo>
                  <a:pt x="-20166" y="1879"/>
                </a:lnTo>
                <a:lnTo>
                  <a:pt x="-26793" y="0"/>
                </a:lnTo>
                <a:lnTo>
                  <a:pt x="32765" y="2407"/>
                </a:lnTo>
                <a:lnTo>
                  <a:pt x="26801" y="3688"/>
                </a:lnTo>
                <a:lnTo>
                  <a:pt x="21086" y="5333"/>
                </a:lnTo>
                <a:lnTo>
                  <a:pt x="15239" y="6736"/>
                </a:lnTo>
                <a:lnTo>
                  <a:pt x="9656" y="8625"/>
                </a:lnTo>
                <a:lnTo>
                  <a:pt x="7120" y="9509"/>
                </a:lnTo>
                <a:lnTo>
                  <a:pt x="4834" y="10789"/>
                </a:lnTo>
                <a:lnTo>
                  <a:pt x="2548" y="12070"/>
                </a:lnTo>
                <a:lnTo>
                  <a:pt x="1655" y="12557"/>
                </a:lnTo>
                <a:lnTo>
                  <a:pt x="0" y="139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44"/>
          <p:cNvSpPr/>
          <p:nvPr/>
        </p:nvSpPr>
        <p:spPr>
          <a:xfrm>
            <a:off x="1616040" y="269712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144" h="13335">
                <a:moveTo>
                  <a:pt x="16882" y="13197"/>
                </a:moveTo>
                <a:lnTo>
                  <a:pt x="9905" y="7741"/>
                </a:lnTo>
                <a:lnTo>
                  <a:pt x="2785" y="213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45"/>
          <p:cNvSpPr/>
          <p:nvPr/>
        </p:nvSpPr>
        <p:spPr>
          <a:xfrm>
            <a:off x="1571760" y="265104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47625" h="43814">
                <a:moveTo>
                  <a:pt x="-18043" y="0"/>
                </a:moveTo>
                <a:lnTo>
                  <a:pt x="-18699" y="12389"/>
                </a:lnTo>
                <a:lnTo>
                  <a:pt x="-22242" y="24308"/>
                </a:lnTo>
                <a:lnTo>
                  <a:pt x="-26543" y="30479"/>
                </a:lnTo>
                <a:lnTo>
                  <a:pt x="32765" y="32369"/>
                </a:lnTo>
                <a:lnTo>
                  <a:pt x="27300" y="-30485"/>
                </a:lnTo>
                <a:lnTo>
                  <a:pt x="21848" y="-28199"/>
                </a:lnTo>
                <a:lnTo>
                  <a:pt x="16514" y="-25669"/>
                </a:lnTo>
                <a:lnTo>
                  <a:pt x="10799" y="-23748"/>
                </a:lnTo>
                <a:lnTo>
                  <a:pt x="8381" y="-22865"/>
                </a:lnTo>
                <a:lnTo>
                  <a:pt x="5714" y="-22499"/>
                </a:lnTo>
                <a:lnTo>
                  <a:pt x="3047" y="-21981"/>
                </a:lnTo>
                <a:lnTo>
                  <a:pt x="2154" y="-21859"/>
                </a:lnTo>
                <a:lnTo>
                  <a:pt x="0" y="-219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46"/>
          <p:cNvSpPr/>
          <p:nvPr/>
        </p:nvSpPr>
        <p:spPr>
          <a:xfrm>
            <a:off x="1609560" y="2654280"/>
            <a:ext cx="5040" cy="20520"/>
          </a:xfrm>
          <a:custGeom>
            <a:avLst/>
            <a:gdLst>
              <a:gd name="textAreaLeft" fmla="*/ 0 w 5040"/>
              <a:gd name="textAreaRight" fmla="*/ 5400 w 50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080" h="20955">
                <a:moveTo>
                  <a:pt x="4952" y="0"/>
                </a:moveTo>
                <a:lnTo>
                  <a:pt x="2916" y="8656"/>
                </a:lnTo>
                <a:lnTo>
                  <a:pt x="761" y="17404"/>
                </a:lnTo>
                <a:lnTo>
                  <a:pt x="0" y="20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47"/>
          <p:cNvSpPr/>
          <p:nvPr/>
        </p:nvSpPr>
        <p:spPr>
          <a:xfrm>
            <a:off x="1581120" y="26924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1655" y="365"/>
                </a:moveTo>
                <a:lnTo>
                  <a:pt x="2798" y="0"/>
                </a:lnTo>
                <a:lnTo>
                  <a:pt x="3941" y="640"/>
                </a:lnTo>
                <a:lnTo>
                  <a:pt x="4322" y="1645"/>
                </a:lnTo>
                <a:lnTo>
                  <a:pt x="4703" y="2773"/>
                </a:lnTo>
                <a:lnTo>
                  <a:pt x="4072" y="3931"/>
                </a:lnTo>
                <a:lnTo>
                  <a:pt x="3047" y="4297"/>
                </a:lnTo>
                <a:lnTo>
                  <a:pt x="1904" y="4693"/>
                </a:lnTo>
                <a:lnTo>
                  <a:pt x="761" y="4175"/>
                </a:lnTo>
                <a:lnTo>
                  <a:pt x="380" y="3047"/>
                </a:lnTo>
                <a:lnTo>
                  <a:pt x="0" y="2011"/>
                </a:lnTo>
                <a:lnTo>
                  <a:pt x="512" y="761"/>
                </a:lnTo>
                <a:lnTo>
                  <a:pt x="1655" y="36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48"/>
          <p:cNvSpPr/>
          <p:nvPr/>
        </p:nvSpPr>
        <p:spPr>
          <a:xfrm>
            <a:off x="1511280" y="271944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9209" h="58419">
                <a:moveTo>
                  <a:pt x="0" y="-7259"/>
                </a:moveTo>
                <a:lnTo>
                  <a:pt x="11829" y="-11709"/>
                </a:lnTo>
                <a:lnTo>
                  <a:pt x="22485" y="-18995"/>
                </a:lnTo>
                <a:lnTo>
                  <a:pt x="26551" y="-24389"/>
                </a:lnTo>
                <a:lnTo>
                  <a:pt x="26420" y="-30881"/>
                </a:lnTo>
                <a:lnTo>
                  <a:pt x="27431" y="28559"/>
                </a:lnTo>
                <a:lnTo>
                  <a:pt x="27944" y="22738"/>
                </a:lnTo>
                <a:lnTo>
                  <a:pt x="28706" y="16763"/>
                </a:lnTo>
                <a:lnTo>
                  <a:pt x="28955" y="10911"/>
                </a:lnTo>
                <a:lnTo>
                  <a:pt x="28955" y="8260"/>
                </a:lnTo>
                <a:lnTo>
                  <a:pt x="28574" y="5577"/>
                </a:lnTo>
                <a:lnTo>
                  <a:pt x="28193" y="2926"/>
                </a:lnTo>
                <a:lnTo>
                  <a:pt x="28075" y="2011"/>
                </a:lnTo>
                <a:lnTo>
                  <a:pt x="273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49"/>
          <p:cNvSpPr/>
          <p:nvPr/>
        </p:nvSpPr>
        <p:spPr>
          <a:xfrm>
            <a:off x="1511280" y="2760840"/>
            <a:ext cx="17640" cy="10800"/>
          </a:xfrm>
          <a:custGeom>
            <a:avLst/>
            <a:gdLst>
              <a:gd name="textAreaLeft" fmla="*/ 0 w 17640"/>
              <a:gd name="textAreaRight" fmla="*/ 18000 w 176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8415" h="11430">
                <a:moveTo>
                  <a:pt x="0" y="11064"/>
                </a:moveTo>
                <a:lnTo>
                  <a:pt x="7751" y="6492"/>
                </a:lnTo>
                <a:lnTo>
                  <a:pt x="15371" y="1767"/>
                </a:lnTo>
                <a:lnTo>
                  <a:pt x="1841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50"/>
          <p:cNvSpPr/>
          <p:nvPr/>
        </p:nvSpPr>
        <p:spPr>
          <a:xfrm>
            <a:off x="1542960" y="2719440"/>
            <a:ext cx="27000" cy="60120"/>
          </a:xfrm>
          <a:custGeom>
            <a:avLst/>
            <a:gdLst>
              <a:gd name="textAreaLeft" fmla="*/ 0 w 27000"/>
              <a:gd name="textAreaRight" fmla="*/ 27360 w 27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6034" h="60325">
                <a:moveTo>
                  <a:pt x="26039" y="-5460"/>
                </a:moveTo>
                <a:lnTo>
                  <a:pt x="14473" y="-10792"/>
                </a:lnTo>
                <a:lnTo>
                  <a:pt x="4363" y="-18641"/>
                </a:lnTo>
                <a:lnTo>
                  <a:pt x="643" y="-24389"/>
                </a:lnTo>
                <a:lnTo>
                  <a:pt x="1142" y="-30850"/>
                </a:lnTo>
                <a:lnTo>
                  <a:pt x="643" y="28590"/>
                </a:lnTo>
                <a:lnTo>
                  <a:pt x="512" y="22616"/>
                </a:lnTo>
                <a:lnTo>
                  <a:pt x="0" y="16763"/>
                </a:lnTo>
                <a:lnTo>
                  <a:pt x="262" y="10789"/>
                </a:lnTo>
                <a:lnTo>
                  <a:pt x="262" y="8138"/>
                </a:lnTo>
                <a:lnTo>
                  <a:pt x="893" y="5608"/>
                </a:lnTo>
                <a:lnTo>
                  <a:pt x="1405" y="2926"/>
                </a:lnTo>
                <a:lnTo>
                  <a:pt x="1655" y="1920"/>
                </a:lnTo>
                <a:lnTo>
                  <a:pt x="24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51"/>
          <p:cNvSpPr/>
          <p:nvPr/>
        </p:nvSpPr>
        <p:spPr>
          <a:xfrm>
            <a:off x="1552680" y="2760840"/>
            <a:ext cx="17280" cy="12600"/>
          </a:xfrm>
          <a:custGeom>
            <a:avLst/>
            <a:gdLst>
              <a:gd name="textAreaLeft" fmla="*/ 0 w 17280"/>
              <a:gd name="textAreaRight" fmla="*/ 17640 w 172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780" h="12700">
                <a:moveTo>
                  <a:pt x="17775" y="12191"/>
                </a:moveTo>
                <a:lnTo>
                  <a:pt x="10418" y="7132"/>
                </a:lnTo>
                <a:lnTo>
                  <a:pt x="3047" y="20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52"/>
          <p:cNvSpPr/>
          <p:nvPr/>
        </p:nvSpPr>
        <p:spPr>
          <a:xfrm>
            <a:off x="1539720" y="272736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444" h="4444">
                <a:moveTo>
                  <a:pt x="4190" y="2164"/>
                </a:moveTo>
                <a:lnTo>
                  <a:pt x="4190" y="3291"/>
                </a:lnTo>
                <a:lnTo>
                  <a:pt x="3179" y="4175"/>
                </a:lnTo>
                <a:lnTo>
                  <a:pt x="2036" y="4175"/>
                </a:lnTo>
                <a:lnTo>
                  <a:pt x="893" y="4175"/>
                </a:lnTo>
                <a:lnTo>
                  <a:pt x="0" y="3169"/>
                </a:lnTo>
                <a:lnTo>
                  <a:pt x="0" y="2042"/>
                </a:lnTo>
                <a:lnTo>
                  <a:pt x="131" y="883"/>
                </a:lnTo>
                <a:lnTo>
                  <a:pt x="1024" y="0"/>
                </a:lnTo>
                <a:lnTo>
                  <a:pt x="2167" y="0"/>
                </a:lnTo>
                <a:lnTo>
                  <a:pt x="3310" y="0"/>
                </a:lnTo>
                <a:lnTo>
                  <a:pt x="4322" y="1005"/>
                </a:lnTo>
                <a:lnTo>
                  <a:pt x="4190" y="21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53"/>
          <p:cNvSpPr/>
          <p:nvPr/>
        </p:nvSpPr>
        <p:spPr>
          <a:xfrm>
            <a:off x="1343160" y="2660760"/>
            <a:ext cx="63360" cy="17280"/>
          </a:xfrm>
          <a:custGeom>
            <a:avLst/>
            <a:gdLst>
              <a:gd name="textAreaLeft" fmla="*/ 0 w 63360"/>
              <a:gd name="textAreaRight" fmla="*/ 63720 w 63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3500" h="18414">
                <a:moveTo>
                  <a:pt x="0" y="0"/>
                </a:moveTo>
                <a:lnTo>
                  <a:pt x="8574" y="9437"/>
                </a:lnTo>
                <a:lnTo>
                  <a:pt x="19113" y="16693"/>
                </a:lnTo>
                <a:lnTo>
                  <a:pt x="25645" y="18409"/>
                </a:lnTo>
                <a:lnTo>
                  <a:pt x="31491" y="16001"/>
                </a:lnTo>
                <a:lnTo>
                  <a:pt x="-28199" y="14599"/>
                </a:lnTo>
                <a:lnTo>
                  <a:pt x="-22615" y="12953"/>
                </a:lnTo>
                <a:lnTo>
                  <a:pt x="-16900" y="11551"/>
                </a:lnTo>
                <a:lnTo>
                  <a:pt x="-11435" y="9631"/>
                </a:lnTo>
                <a:lnTo>
                  <a:pt x="-9030" y="8747"/>
                </a:lnTo>
                <a:lnTo>
                  <a:pt x="-6744" y="7345"/>
                </a:lnTo>
                <a:lnTo>
                  <a:pt x="-4458" y="6095"/>
                </a:lnTo>
                <a:lnTo>
                  <a:pt x="-3565" y="5577"/>
                </a:lnTo>
                <a:lnTo>
                  <a:pt x="-2041" y="41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54"/>
          <p:cNvSpPr/>
          <p:nvPr/>
        </p:nvSpPr>
        <p:spPr>
          <a:xfrm>
            <a:off x="1349280" y="265752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144" h="13335">
                <a:moveTo>
                  <a:pt x="0" y="0"/>
                </a:moveTo>
                <a:lnTo>
                  <a:pt x="6989" y="5455"/>
                </a:lnTo>
                <a:lnTo>
                  <a:pt x="13965" y="10911"/>
                </a:lnTo>
                <a:lnTo>
                  <a:pt x="16895" y="13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55"/>
          <p:cNvSpPr/>
          <p:nvPr/>
        </p:nvSpPr>
        <p:spPr>
          <a:xfrm>
            <a:off x="1363680" y="2671920"/>
            <a:ext cx="46080" cy="44280"/>
          </a:xfrm>
          <a:custGeom>
            <a:avLst/>
            <a:gdLst>
              <a:gd name="textAreaLeft" fmla="*/ 0 w 46080"/>
              <a:gd name="textAreaRight" fmla="*/ 46440 w 46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355" h="44450">
                <a:moveTo>
                  <a:pt x="0" y="-21584"/>
                </a:moveTo>
                <a:lnTo>
                  <a:pt x="475" y="31593"/>
                </a:lnTo>
                <a:lnTo>
                  <a:pt x="3839" y="19613"/>
                </a:lnTo>
                <a:lnTo>
                  <a:pt x="8000" y="13472"/>
                </a:lnTo>
                <a:lnTo>
                  <a:pt x="13965" y="11551"/>
                </a:lnTo>
                <a:lnTo>
                  <a:pt x="19299" y="8747"/>
                </a:lnTo>
                <a:lnTo>
                  <a:pt x="24764" y="6461"/>
                </a:lnTo>
                <a:lnTo>
                  <a:pt x="29967" y="3931"/>
                </a:lnTo>
                <a:lnTo>
                  <a:pt x="-30104" y="2042"/>
                </a:lnTo>
                <a:lnTo>
                  <a:pt x="-27699" y="1127"/>
                </a:lnTo>
                <a:lnTo>
                  <a:pt x="-25032" y="640"/>
                </a:lnTo>
                <a:lnTo>
                  <a:pt x="-22484" y="243"/>
                </a:lnTo>
                <a:lnTo>
                  <a:pt x="-21472" y="0"/>
                </a:lnTo>
                <a:lnTo>
                  <a:pt x="-19436" y="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56"/>
          <p:cNvSpPr/>
          <p:nvPr/>
        </p:nvSpPr>
        <p:spPr>
          <a:xfrm>
            <a:off x="1368360" y="269244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080" h="20955">
                <a:moveTo>
                  <a:pt x="0" y="20817"/>
                </a:moveTo>
                <a:lnTo>
                  <a:pt x="1904" y="12191"/>
                </a:lnTo>
                <a:lnTo>
                  <a:pt x="3809" y="3413"/>
                </a:lnTo>
                <a:lnTo>
                  <a:pt x="45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57"/>
          <p:cNvSpPr/>
          <p:nvPr/>
        </p:nvSpPr>
        <p:spPr>
          <a:xfrm>
            <a:off x="1395360" y="26701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3047" y="4328"/>
                </a:moveTo>
                <a:lnTo>
                  <a:pt x="2036" y="4724"/>
                </a:lnTo>
                <a:lnTo>
                  <a:pt x="761" y="4206"/>
                </a:lnTo>
                <a:lnTo>
                  <a:pt x="380" y="3047"/>
                </a:lnTo>
                <a:lnTo>
                  <a:pt x="0" y="2042"/>
                </a:lnTo>
                <a:lnTo>
                  <a:pt x="512" y="761"/>
                </a:lnTo>
                <a:lnTo>
                  <a:pt x="1655" y="396"/>
                </a:lnTo>
                <a:lnTo>
                  <a:pt x="2666" y="0"/>
                </a:lnTo>
                <a:lnTo>
                  <a:pt x="3941" y="640"/>
                </a:lnTo>
                <a:lnTo>
                  <a:pt x="4322" y="1676"/>
                </a:lnTo>
                <a:lnTo>
                  <a:pt x="4703" y="2804"/>
                </a:lnTo>
                <a:lnTo>
                  <a:pt x="4190" y="3962"/>
                </a:lnTo>
                <a:lnTo>
                  <a:pt x="3047" y="43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58"/>
          <p:cNvSpPr/>
          <p:nvPr/>
        </p:nvSpPr>
        <p:spPr>
          <a:xfrm>
            <a:off x="2155680" y="2666880"/>
            <a:ext cx="66960" cy="20880"/>
          </a:xfrm>
          <a:custGeom>
            <a:avLst/>
            <a:gdLst>
              <a:gd name="textAreaLeft" fmla="*/ 0 w 66960"/>
              <a:gd name="textAreaRight" fmla="*/ 67320 w 669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6039" h="20319">
                <a:moveTo>
                  <a:pt x="65781" y="19811"/>
                </a:moveTo>
                <a:lnTo>
                  <a:pt x="62221" y="11551"/>
                </a:lnTo>
                <a:lnTo>
                  <a:pt x="54982" y="7619"/>
                </a:lnTo>
                <a:lnTo>
                  <a:pt x="48005" y="1798"/>
                </a:lnTo>
                <a:lnTo>
                  <a:pt x="42028" y="0"/>
                </a:lnTo>
                <a:lnTo>
                  <a:pt x="35551" y="1645"/>
                </a:lnTo>
                <a:lnTo>
                  <a:pt x="29074" y="2285"/>
                </a:lnTo>
                <a:lnTo>
                  <a:pt x="22978" y="3322"/>
                </a:lnTo>
                <a:lnTo>
                  <a:pt x="16763" y="4084"/>
                </a:lnTo>
                <a:lnTo>
                  <a:pt x="10786" y="5455"/>
                </a:lnTo>
                <a:lnTo>
                  <a:pt x="8119" y="5974"/>
                </a:lnTo>
                <a:lnTo>
                  <a:pt x="5452" y="6979"/>
                </a:lnTo>
                <a:lnTo>
                  <a:pt x="2916" y="8138"/>
                </a:lnTo>
                <a:lnTo>
                  <a:pt x="1904" y="8381"/>
                </a:lnTo>
                <a:lnTo>
                  <a:pt x="0" y="96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59"/>
          <p:cNvSpPr/>
          <p:nvPr/>
        </p:nvSpPr>
        <p:spPr>
          <a:xfrm>
            <a:off x="2200320" y="2674800"/>
            <a:ext cx="15840" cy="12960"/>
          </a:xfrm>
          <a:custGeom>
            <a:avLst/>
            <a:gdLst>
              <a:gd name="textAreaLeft" fmla="*/ 0 w 15840"/>
              <a:gd name="textAreaRight" fmla="*/ 16200 w 15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5875" h="13969">
                <a:moveTo>
                  <a:pt x="15489" y="13959"/>
                </a:moveTo>
                <a:lnTo>
                  <a:pt x="9012" y="8107"/>
                </a:lnTo>
                <a:lnTo>
                  <a:pt x="2535" y="228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60"/>
          <p:cNvSpPr/>
          <p:nvPr/>
        </p:nvSpPr>
        <p:spPr>
          <a:xfrm>
            <a:off x="2155680" y="2631960"/>
            <a:ext cx="55800" cy="36720"/>
          </a:xfrm>
          <a:custGeom>
            <a:avLst/>
            <a:gdLst>
              <a:gd name="textAreaLeft" fmla="*/ 0 w 55800"/>
              <a:gd name="textAreaRight" fmla="*/ 56160 w 55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55880" h="37464">
                <a:moveTo>
                  <a:pt x="-10029" y="0"/>
                </a:moveTo>
                <a:lnTo>
                  <a:pt x="-9911" y="8900"/>
                </a:lnTo>
                <a:lnTo>
                  <a:pt x="-14732" y="15636"/>
                </a:lnTo>
                <a:lnTo>
                  <a:pt x="-18674" y="23743"/>
                </a:lnTo>
                <a:lnTo>
                  <a:pt x="-23364" y="27950"/>
                </a:lnTo>
                <a:lnTo>
                  <a:pt x="-29972" y="29077"/>
                </a:lnTo>
                <a:lnTo>
                  <a:pt x="29468" y="31120"/>
                </a:lnTo>
                <a:lnTo>
                  <a:pt x="23503" y="32765"/>
                </a:lnTo>
                <a:lnTo>
                  <a:pt x="17525" y="-30850"/>
                </a:lnTo>
                <a:lnTo>
                  <a:pt x="11561" y="-29601"/>
                </a:lnTo>
                <a:lnTo>
                  <a:pt x="8762" y="-28961"/>
                </a:lnTo>
                <a:lnTo>
                  <a:pt x="6095" y="-28839"/>
                </a:lnTo>
                <a:lnTo>
                  <a:pt x="3310" y="-28686"/>
                </a:lnTo>
                <a:lnTo>
                  <a:pt x="2167" y="-28564"/>
                </a:lnTo>
                <a:lnTo>
                  <a:pt x="0" y="-288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61"/>
          <p:cNvSpPr/>
          <p:nvPr/>
        </p:nvSpPr>
        <p:spPr>
          <a:xfrm>
            <a:off x="2197080" y="2631960"/>
            <a:ext cx="7920" cy="20880"/>
          </a:xfrm>
          <a:custGeom>
            <a:avLst/>
            <a:gdLst>
              <a:gd name="textAreaLeft" fmla="*/ 0 w 7920"/>
              <a:gd name="textAreaRight" fmla="*/ 8280 w 79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255" h="19685">
                <a:moveTo>
                  <a:pt x="8263" y="0"/>
                </a:moveTo>
                <a:lnTo>
                  <a:pt x="4834" y="7985"/>
                </a:lnTo>
                <a:lnTo>
                  <a:pt x="1405" y="16001"/>
                </a:lnTo>
                <a:lnTo>
                  <a:pt x="0" y="19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62"/>
          <p:cNvSpPr/>
          <p:nvPr/>
        </p:nvSpPr>
        <p:spPr>
          <a:xfrm>
            <a:off x="2165400" y="26686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4">
                <a:moveTo>
                  <a:pt x="2023" y="274"/>
                </a:moveTo>
                <a:lnTo>
                  <a:pt x="3166" y="0"/>
                </a:lnTo>
                <a:lnTo>
                  <a:pt x="4309" y="761"/>
                </a:lnTo>
                <a:lnTo>
                  <a:pt x="4571" y="1798"/>
                </a:lnTo>
                <a:lnTo>
                  <a:pt x="4821" y="2804"/>
                </a:lnTo>
                <a:lnTo>
                  <a:pt x="4059" y="3962"/>
                </a:lnTo>
                <a:lnTo>
                  <a:pt x="2785" y="4206"/>
                </a:lnTo>
                <a:lnTo>
                  <a:pt x="1642" y="4450"/>
                </a:lnTo>
                <a:lnTo>
                  <a:pt x="499" y="3809"/>
                </a:lnTo>
                <a:lnTo>
                  <a:pt x="249" y="2682"/>
                </a:lnTo>
                <a:lnTo>
                  <a:pt x="0" y="1676"/>
                </a:lnTo>
                <a:lnTo>
                  <a:pt x="761" y="640"/>
                </a:lnTo>
                <a:lnTo>
                  <a:pt x="2023" y="27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63"/>
          <p:cNvSpPr/>
          <p:nvPr/>
        </p:nvSpPr>
        <p:spPr>
          <a:xfrm>
            <a:off x="1908000" y="2903400"/>
            <a:ext cx="63720" cy="20880"/>
          </a:xfrm>
          <a:custGeom>
            <a:avLst/>
            <a:gdLst>
              <a:gd name="textAreaLeft" fmla="*/ 0 w 63720"/>
              <a:gd name="textAreaRight" fmla="*/ 64080 w 63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3500" h="20955">
                <a:moveTo>
                  <a:pt x="-2422" y="13563"/>
                </a:moveTo>
                <a:lnTo>
                  <a:pt x="-12450" y="5829"/>
                </a:lnTo>
                <a:lnTo>
                  <a:pt x="-24159" y="482"/>
                </a:lnTo>
                <a:lnTo>
                  <a:pt x="-30747" y="0"/>
                </a:lnTo>
                <a:lnTo>
                  <a:pt x="29455" y="3413"/>
                </a:lnTo>
                <a:lnTo>
                  <a:pt x="23871" y="5699"/>
                </a:lnTo>
                <a:lnTo>
                  <a:pt x="18668" y="8381"/>
                </a:lnTo>
                <a:lnTo>
                  <a:pt x="13334" y="10789"/>
                </a:lnTo>
                <a:lnTo>
                  <a:pt x="8250" y="13715"/>
                </a:lnTo>
                <a:lnTo>
                  <a:pt x="5964" y="14965"/>
                </a:lnTo>
                <a:lnTo>
                  <a:pt x="4059" y="16611"/>
                </a:lnTo>
                <a:lnTo>
                  <a:pt x="2023" y="18409"/>
                </a:lnTo>
                <a:lnTo>
                  <a:pt x="1261" y="18897"/>
                </a:lnTo>
                <a:lnTo>
                  <a:pt x="0" y="205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64"/>
          <p:cNvSpPr/>
          <p:nvPr/>
        </p:nvSpPr>
        <p:spPr>
          <a:xfrm>
            <a:off x="1946160" y="29098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050" h="10160">
                <a:moveTo>
                  <a:pt x="19049" y="9905"/>
                </a:moveTo>
                <a:lnTo>
                  <a:pt x="11048" y="5852"/>
                </a:lnTo>
                <a:lnTo>
                  <a:pt x="3179" y="164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65"/>
          <p:cNvSpPr/>
          <p:nvPr/>
        </p:nvSpPr>
        <p:spPr>
          <a:xfrm>
            <a:off x="1903320" y="2865600"/>
            <a:ext cx="39960" cy="50760"/>
          </a:xfrm>
          <a:custGeom>
            <a:avLst/>
            <a:gdLst>
              <a:gd name="textAreaLeft" fmla="*/ 0 w 39960"/>
              <a:gd name="textAreaRight" fmla="*/ 39960 w 39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005" h="51435">
                <a:moveTo>
                  <a:pt x="-27818" y="0"/>
                </a:moveTo>
                <a:lnTo>
                  <a:pt x="-26075" y="12274"/>
                </a:lnTo>
                <a:lnTo>
                  <a:pt x="-27310" y="24642"/>
                </a:lnTo>
                <a:lnTo>
                  <a:pt x="-30235" y="31363"/>
                </a:lnTo>
                <a:lnTo>
                  <a:pt x="29717" y="-31247"/>
                </a:lnTo>
                <a:lnTo>
                  <a:pt x="24883" y="-27558"/>
                </a:lnTo>
                <a:lnTo>
                  <a:pt x="19930" y="-24389"/>
                </a:lnTo>
                <a:lnTo>
                  <a:pt x="15239" y="-20944"/>
                </a:lnTo>
                <a:lnTo>
                  <a:pt x="10155" y="-18018"/>
                </a:lnTo>
                <a:lnTo>
                  <a:pt x="8000" y="-16769"/>
                </a:lnTo>
                <a:lnTo>
                  <a:pt x="5452" y="-15885"/>
                </a:lnTo>
                <a:lnTo>
                  <a:pt x="3047" y="-14970"/>
                </a:lnTo>
                <a:lnTo>
                  <a:pt x="2154" y="-14604"/>
                </a:lnTo>
                <a:lnTo>
                  <a:pt x="0" y="-143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66"/>
          <p:cNvSpPr/>
          <p:nvPr/>
        </p:nvSpPr>
        <p:spPr>
          <a:xfrm>
            <a:off x="1935000" y="2868480"/>
            <a:ext cx="1800" cy="20880"/>
          </a:xfrm>
          <a:custGeom>
            <a:avLst/>
            <a:gdLst>
              <a:gd name="textAreaLeft" fmla="*/ 0 w 1800"/>
              <a:gd name="textAreaRight" fmla="*/ 2160 w 180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1269" h="21589">
                <a:moveTo>
                  <a:pt x="893" y="0"/>
                </a:moveTo>
                <a:lnTo>
                  <a:pt x="512" y="8900"/>
                </a:lnTo>
                <a:lnTo>
                  <a:pt x="262" y="17769"/>
                </a:lnTo>
                <a:lnTo>
                  <a:pt x="0" y="213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67"/>
          <p:cNvSpPr/>
          <p:nvPr/>
        </p:nvSpPr>
        <p:spPr>
          <a:xfrm>
            <a:off x="1913040" y="29113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1405" y="518"/>
                </a:moveTo>
                <a:lnTo>
                  <a:pt x="2417" y="0"/>
                </a:lnTo>
                <a:lnTo>
                  <a:pt x="3691" y="396"/>
                </a:lnTo>
                <a:lnTo>
                  <a:pt x="4190" y="1402"/>
                </a:lnTo>
                <a:lnTo>
                  <a:pt x="4834" y="2285"/>
                </a:lnTo>
                <a:lnTo>
                  <a:pt x="4453" y="3688"/>
                </a:lnTo>
                <a:lnTo>
                  <a:pt x="3428" y="4206"/>
                </a:lnTo>
                <a:lnTo>
                  <a:pt x="2548" y="4846"/>
                </a:lnTo>
                <a:lnTo>
                  <a:pt x="1274" y="4450"/>
                </a:lnTo>
                <a:lnTo>
                  <a:pt x="643" y="3444"/>
                </a:lnTo>
                <a:lnTo>
                  <a:pt x="0" y="2407"/>
                </a:lnTo>
                <a:lnTo>
                  <a:pt x="380" y="1158"/>
                </a:lnTo>
                <a:lnTo>
                  <a:pt x="1405" y="51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68"/>
          <p:cNvSpPr/>
          <p:nvPr/>
        </p:nvSpPr>
        <p:spPr>
          <a:xfrm>
            <a:off x="1666800" y="2513160"/>
            <a:ext cx="17640" cy="68040"/>
          </a:xfrm>
          <a:custGeom>
            <a:avLst/>
            <a:gdLst>
              <a:gd name="textAreaLeft" fmla="*/ 0 w 17640"/>
              <a:gd name="textAreaRight" fmla="*/ 18000 w 176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7144" h="67944">
                <a:moveTo>
                  <a:pt x="16895" y="0"/>
                </a:moveTo>
                <a:lnTo>
                  <a:pt x="9275" y="4450"/>
                </a:lnTo>
                <a:lnTo>
                  <a:pt x="6095" y="12191"/>
                </a:lnTo>
                <a:lnTo>
                  <a:pt x="1142" y="19811"/>
                </a:lnTo>
                <a:lnTo>
                  <a:pt x="0" y="26060"/>
                </a:lnTo>
                <a:lnTo>
                  <a:pt x="2417" y="32400"/>
                </a:lnTo>
                <a:lnTo>
                  <a:pt x="3809" y="38861"/>
                </a:lnTo>
                <a:lnTo>
                  <a:pt x="5465" y="44836"/>
                </a:lnTo>
                <a:lnTo>
                  <a:pt x="6989" y="51053"/>
                </a:lnTo>
                <a:lnTo>
                  <a:pt x="9025" y="57028"/>
                </a:lnTo>
                <a:lnTo>
                  <a:pt x="9905" y="59710"/>
                </a:lnTo>
                <a:lnTo>
                  <a:pt x="11180" y="62240"/>
                </a:lnTo>
                <a:lnTo>
                  <a:pt x="12454" y="64648"/>
                </a:lnTo>
                <a:lnTo>
                  <a:pt x="12953" y="65684"/>
                </a:lnTo>
                <a:lnTo>
                  <a:pt x="14359" y="67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69"/>
          <p:cNvSpPr/>
          <p:nvPr/>
        </p:nvSpPr>
        <p:spPr>
          <a:xfrm>
            <a:off x="1674720" y="2519280"/>
            <a:ext cx="11160" cy="17640"/>
          </a:xfrm>
          <a:custGeom>
            <a:avLst/>
            <a:gdLst>
              <a:gd name="textAreaLeft" fmla="*/ 0 w 11160"/>
              <a:gd name="textAreaRight" fmla="*/ 11520 w 11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064" h="17780">
                <a:moveTo>
                  <a:pt x="12073" y="0"/>
                </a:moveTo>
                <a:lnTo>
                  <a:pt x="6989" y="7132"/>
                </a:lnTo>
                <a:lnTo>
                  <a:pt x="2036" y="14356"/>
                </a:lnTo>
                <a:lnTo>
                  <a:pt x="0" y="17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70"/>
          <p:cNvSpPr/>
          <p:nvPr/>
        </p:nvSpPr>
        <p:spPr>
          <a:xfrm>
            <a:off x="1630440" y="2529000"/>
            <a:ext cx="42840" cy="52200"/>
          </a:xfrm>
          <a:custGeom>
            <a:avLst/>
            <a:gdLst>
              <a:gd name="textAreaLeft" fmla="*/ 0 w 42840"/>
              <a:gd name="textAreaRight" fmla="*/ 43200 w 428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180" h="52069">
                <a:moveTo>
                  <a:pt x="0" y="0"/>
                </a:moveTo>
                <a:lnTo>
                  <a:pt x="12113" y="1394"/>
                </a:lnTo>
                <a:lnTo>
                  <a:pt x="24005" y="5911"/>
                </a:lnTo>
                <a:lnTo>
                  <a:pt x="29218" y="10424"/>
                </a:lnTo>
                <a:lnTo>
                  <a:pt x="31123" y="17007"/>
                </a:lnTo>
                <a:lnTo>
                  <a:pt x="-31628" y="22859"/>
                </a:lnTo>
                <a:lnTo>
                  <a:pt x="-29342" y="28712"/>
                </a:lnTo>
                <a:lnTo>
                  <a:pt x="-26793" y="-31003"/>
                </a:lnTo>
                <a:lnTo>
                  <a:pt x="-24770" y="-25029"/>
                </a:lnTo>
                <a:lnTo>
                  <a:pt x="-23876" y="-22346"/>
                </a:lnTo>
                <a:lnTo>
                  <a:pt x="-23364" y="-19573"/>
                </a:lnTo>
                <a:lnTo>
                  <a:pt x="-22865" y="-16769"/>
                </a:lnTo>
                <a:lnTo>
                  <a:pt x="-22733" y="-15763"/>
                </a:lnTo>
                <a:lnTo>
                  <a:pt x="-22733" y="-134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bject 71"/>
          <p:cNvSpPr/>
          <p:nvPr/>
        </p:nvSpPr>
        <p:spPr>
          <a:xfrm>
            <a:off x="1631880" y="2535120"/>
            <a:ext cx="20880" cy="6480"/>
          </a:xfrm>
          <a:custGeom>
            <a:avLst/>
            <a:gdLst>
              <a:gd name="textAreaLeft" fmla="*/ 0 w 20880"/>
              <a:gd name="textAreaRight" fmla="*/ 21240 w 208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350">
                <a:moveTo>
                  <a:pt x="0" y="0"/>
                </a:moveTo>
                <a:lnTo>
                  <a:pt x="8250" y="2529"/>
                </a:lnTo>
                <a:lnTo>
                  <a:pt x="16632" y="5212"/>
                </a:lnTo>
                <a:lnTo>
                  <a:pt x="19943" y="62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ject 72"/>
          <p:cNvSpPr/>
          <p:nvPr/>
        </p:nvSpPr>
        <p:spPr>
          <a:xfrm>
            <a:off x="1671480" y="2565360"/>
            <a:ext cx="5040" cy="6480"/>
          </a:xfrm>
          <a:custGeom>
            <a:avLst/>
            <a:gdLst>
              <a:gd name="textAreaLeft" fmla="*/ 0 w 5040"/>
              <a:gd name="textAreaRight" fmla="*/ 5400 w 50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444" h="5080">
                <a:moveTo>
                  <a:pt x="380" y="3200"/>
                </a:moveTo>
                <a:lnTo>
                  <a:pt x="0" y="2042"/>
                </a:lnTo>
                <a:lnTo>
                  <a:pt x="512" y="761"/>
                </a:lnTo>
                <a:lnTo>
                  <a:pt x="1523" y="396"/>
                </a:lnTo>
                <a:lnTo>
                  <a:pt x="2535" y="0"/>
                </a:lnTo>
                <a:lnTo>
                  <a:pt x="3678" y="761"/>
                </a:lnTo>
                <a:lnTo>
                  <a:pt x="4059" y="1920"/>
                </a:lnTo>
                <a:lnTo>
                  <a:pt x="4440" y="3047"/>
                </a:lnTo>
                <a:lnTo>
                  <a:pt x="3941" y="4328"/>
                </a:lnTo>
                <a:lnTo>
                  <a:pt x="2916" y="4724"/>
                </a:lnTo>
                <a:lnTo>
                  <a:pt x="1904" y="4968"/>
                </a:lnTo>
                <a:lnTo>
                  <a:pt x="761" y="4328"/>
                </a:lnTo>
                <a:lnTo>
                  <a:pt x="380" y="3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ject 73"/>
          <p:cNvSpPr/>
          <p:nvPr/>
        </p:nvSpPr>
        <p:spPr>
          <a:xfrm>
            <a:off x="1595520" y="2898720"/>
            <a:ext cx="22320" cy="63720"/>
          </a:xfrm>
          <a:custGeom>
            <a:avLst/>
            <a:gdLst>
              <a:gd name="textAreaLeft" fmla="*/ 0 w 22320"/>
              <a:gd name="textAreaRight" fmla="*/ 22680 w 22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2225" h="63500">
                <a:moveTo>
                  <a:pt x="21716" y="0"/>
                </a:moveTo>
                <a:lnTo>
                  <a:pt x="11248" y="7133"/>
                </a:lnTo>
                <a:lnTo>
                  <a:pt x="2612" y="16683"/>
                </a:lnTo>
                <a:lnTo>
                  <a:pt x="0" y="22981"/>
                </a:lnTo>
                <a:lnTo>
                  <a:pt x="1655" y="29199"/>
                </a:lnTo>
                <a:lnTo>
                  <a:pt x="2036" y="-30241"/>
                </a:lnTo>
                <a:lnTo>
                  <a:pt x="2929" y="-24389"/>
                </a:lnTo>
                <a:lnTo>
                  <a:pt x="3560" y="-18414"/>
                </a:lnTo>
                <a:lnTo>
                  <a:pt x="4834" y="-12562"/>
                </a:lnTo>
                <a:lnTo>
                  <a:pt x="5333" y="-10032"/>
                </a:lnTo>
                <a:lnTo>
                  <a:pt x="6358" y="-7503"/>
                </a:lnTo>
                <a:lnTo>
                  <a:pt x="7370" y="-5095"/>
                </a:lnTo>
                <a:lnTo>
                  <a:pt x="7619" y="-4180"/>
                </a:lnTo>
                <a:lnTo>
                  <a:pt x="8894" y="-24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74"/>
          <p:cNvSpPr/>
          <p:nvPr/>
        </p:nvSpPr>
        <p:spPr>
          <a:xfrm>
            <a:off x="1603440" y="290520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75" h="15239">
                <a:moveTo>
                  <a:pt x="15371" y="0"/>
                </a:moveTo>
                <a:lnTo>
                  <a:pt x="8894" y="6339"/>
                </a:lnTo>
                <a:lnTo>
                  <a:pt x="2548" y="12557"/>
                </a:lnTo>
                <a:lnTo>
                  <a:pt x="0" y="150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bject 75"/>
          <p:cNvSpPr/>
          <p:nvPr/>
        </p:nvSpPr>
        <p:spPr>
          <a:xfrm>
            <a:off x="1558800" y="2911320"/>
            <a:ext cx="38160" cy="54000"/>
          </a:xfrm>
          <a:custGeom>
            <a:avLst/>
            <a:gdLst>
              <a:gd name="textAreaLeft" fmla="*/ 0 w 38160"/>
              <a:gd name="textAreaRight" fmla="*/ 38520 w 38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7465" h="53339">
                <a:moveTo>
                  <a:pt x="0" y="0"/>
                </a:moveTo>
                <a:lnTo>
                  <a:pt x="12370" y="2358"/>
                </a:lnTo>
                <a:lnTo>
                  <a:pt x="24031" y="7552"/>
                </a:lnTo>
                <a:lnTo>
                  <a:pt x="29074" y="12435"/>
                </a:lnTo>
                <a:lnTo>
                  <a:pt x="30098" y="18775"/>
                </a:lnTo>
                <a:lnTo>
                  <a:pt x="32122" y="24505"/>
                </a:lnTo>
                <a:lnTo>
                  <a:pt x="-31890" y="30205"/>
                </a:lnTo>
                <a:lnTo>
                  <a:pt x="-30104" y="-29601"/>
                </a:lnTo>
                <a:lnTo>
                  <a:pt x="-28842" y="-23748"/>
                </a:lnTo>
                <a:lnTo>
                  <a:pt x="-28330" y="-21219"/>
                </a:lnTo>
                <a:lnTo>
                  <a:pt x="-28199" y="-18567"/>
                </a:lnTo>
                <a:lnTo>
                  <a:pt x="-28199" y="-15885"/>
                </a:lnTo>
                <a:lnTo>
                  <a:pt x="-28080" y="-14879"/>
                </a:lnTo>
                <a:lnTo>
                  <a:pt x="-28461" y="-127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ject 76"/>
          <p:cNvSpPr/>
          <p:nvPr/>
        </p:nvSpPr>
        <p:spPr>
          <a:xfrm>
            <a:off x="1560600" y="2917800"/>
            <a:ext cx="20520" cy="6480"/>
          </a:xfrm>
          <a:custGeom>
            <a:avLst/>
            <a:gdLst>
              <a:gd name="textAreaLeft" fmla="*/ 0 w 20520"/>
              <a:gd name="textAreaRight" fmla="*/ 20880 w 20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7619">
                <a:moveTo>
                  <a:pt x="0" y="0"/>
                </a:moveTo>
                <a:lnTo>
                  <a:pt x="8381" y="3200"/>
                </a:lnTo>
                <a:lnTo>
                  <a:pt x="16763" y="6370"/>
                </a:lnTo>
                <a:lnTo>
                  <a:pt x="20061" y="76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ject 77"/>
          <p:cNvSpPr/>
          <p:nvPr/>
        </p:nvSpPr>
        <p:spPr>
          <a:xfrm>
            <a:off x="1595520" y="294948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080" h="5080">
                <a:moveTo>
                  <a:pt x="249" y="2651"/>
                </a:moveTo>
                <a:lnTo>
                  <a:pt x="0" y="1523"/>
                </a:lnTo>
                <a:lnTo>
                  <a:pt x="761" y="365"/>
                </a:lnTo>
                <a:lnTo>
                  <a:pt x="1904" y="243"/>
                </a:lnTo>
                <a:lnTo>
                  <a:pt x="3047" y="0"/>
                </a:lnTo>
                <a:lnTo>
                  <a:pt x="4059" y="640"/>
                </a:lnTo>
                <a:lnTo>
                  <a:pt x="4309" y="1767"/>
                </a:lnTo>
                <a:lnTo>
                  <a:pt x="4571" y="2926"/>
                </a:lnTo>
                <a:lnTo>
                  <a:pt x="3809" y="4053"/>
                </a:lnTo>
                <a:lnTo>
                  <a:pt x="2785" y="4297"/>
                </a:lnTo>
                <a:lnTo>
                  <a:pt x="1642" y="4571"/>
                </a:lnTo>
                <a:lnTo>
                  <a:pt x="499" y="3809"/>
                </a:lnTo>
                <a:lnTo>
                  <a:pt x="249" y="265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ject 78"/>
          <p:cNvSpPr/>
          <p:nvPr/>
        </p:nvSpPr>
        <p:spPr>
          <a:xfrm>
            <a:off x="1562040" y="2081160"/>
            <a:ext cx="36720" cy="54000"/>
          </a:xfrm>
          <a:custGeom>
            <a:avLst/>
            <a:gdLst>
              <a:gd name="textAreaLeft" fmla="*/ 0 w 36720"/>
              <a:gd name="textAreaRight" fmla="*/ 37080 w 36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830" h="53975">
                <a:moveTo>
                  <a:pt x="-29092" y="0"/>
                </a:moveTo>
                <a:lnTo>
                  <a:pt x="24074" y="2615"/>
                </a:lnTo>
                <a:lnTo>
                  <a:pt x="12501" y="8074"/>
                </a:lnTo>
                <a:lnTo>
                  <a:pt x="7619" y="12953"/>
                </a:lnTo>
                <a:lnTo>
                  <a:pt x="6726" y="19293"/>
                </a:lnTo>
                <a:lnTo>
                  <a:pt x="4821" y="25145"/>
                </a:lnTo>
                <a:lnTo>
                  <a:pt x="3428" y="30967"/>
                </a:lnTo>
                <a:lnTo>
                  <a:pt x="1642" y="-28839"/>
                </a:lnTo>
                <a:lnTo>
                  <a:pt x="630" y="-23139"/>
                </a:lnTo>
                <a:lnTo>
                  <a:pt x="118" y="-20457"/>
                </a:lnTo>
                <a:lnTo>
                  <a:pt x="118" y="-17805"/>
                </a:lnTo>
                <a:lnTo>
                  <a:pt x="0" y="-15123"/>
                </a:lnTo>
                <a:lnTo>
                  <a:pt x="0" y="-14117"/>
                </a:lnTo>
                <a:lnTo>
                  <a:pt x="499" y="-120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ject 79"/>
          <p:cNvSpPr/>
          <p:nvPr/>
        </p:nvSpPr>
        <p:spPr>
          <a:xfrm>
            <a:off x="1577880" y="2087640"/>
            <a:ext cx="20880" cy="7920"/>
          </a:xfrm>
          <a:custGeom>
            <a:avLst/>
            <a:gdLst>
              <a:gd name="textAreaLeft" fmla="*/ 0 w 20880"/>
              <a:gd name="textAreaRight" fmla="*/ 21240 w 2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319" h="8255">
                <a:moveTo>
                  <a:pt x="19943" y="0"/>
                </a:moveTo>
                <a:lnTo>
                  <a:pt x="11561" y="3322"/>
                </a:lnTo>
                <a:lnTo>
                  <a:pt x="3297" y="6736"/>
                </a:lnTo>
                <a:lnTo>
                  <a:pt x="0" y="8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ject 80"/>
          <p:cNvSpPr/>
          <p:nvPr/>
        </p:nvSpPr>
        <p:spPr>
          <a:xfrm>
            <a:off x="1539720" y="2070000"/>
            <a:ext cx="22320" cy="63720"/>
          </a:xfrm>
          <a:custGeom>
            <a:avLst/>
            <a:gdLst>
              <a:gd name="textAreaLeft" fmla="*/ 0 w 22320"/>
              <a:gd name="textAreaRight" fmla="*/ 22680 w 22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2225" h="63500">
                <a:moveTo>
                  <a:pt x="0" y="0"/>
                </a:moveTo>
                <a:lnTo>
                  <a:pt x="10646" y="6914"/>
                </a:lnTo>
                <a:lnTo>
                  <a:pt x="19459" y="16266"/>
                </a:lnTo>
                <a:lnTo>
                  <a:pt x="22229" y="22494"/>
                </a:lnTo>
                <a:lnTo>
                  <a:pt x="20823" y="28834"/>
                </a:lnTo>
                <a:lnTo>
                  <a:pt x="20442" y="-30606"/>
                </a:lnTo>
                <a:lnTo>
                  <a:pt x="19680" y="-24754"/>
                </a:lnTo>
                <a:lnTo>
                  <a:pt x="19181" y="-18811"/>
                </a:lnTo>
                <a:lnTo>
                  <a:pt x="18038" y="-12959"/>
                </a:lnTo>
                <a:lnTo>
                  <a:pt x="17525" y="-10429"/>
                </a:lnTo>
                <a:lnTo>
                  <a:pt x="16632" y="-7868"/>
                </a:lnTo>
                <a:lnTo>
                  <a:pt x="15620" y="-5339"/>
                </a:lnTo>
                <a:lnTo>
                  <a:pt x="15371" y="-4455"/>
                </a:lnTo>
                <a:lnTo>
                  <a:pt x="14228" y="-26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ject 81"/>
          <p:cNvSpPr/>
          <p:nvPr/>
        </p:nvSpPr>
        <p:spPr>
          <a:xfrm>
            <a:off x="1539720" y="20764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75" h="15239">
                <a:moveTo>
                  <a:pt x="0" y="0"/>
                </a:moveTo>
                <a:lnTo>
                  <a:pt x="6476" y="6095"/>
                </a:lnTo>
                <a:lnTo>
                  <a:pt x="12953" y="12191"/>
                </a:lnTo>
                <a:lnTo>
                  <a:pt x="15620" y="147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ject 82"/>
          <p:cNvSpPr/>
          <p:nvPr/>
        </p:nvSpPr>
        <p:spPr>
          <a:xfrm>
            <a:off x="1557360" y="212076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249" y="1920"/>
                </a:moveTo>
                <a:lnTo>
                  <a:pt x="499" y="761"/>
                </a:lnTo>
                <a:lnTo>
                  <a:pt x="1523" y="0"/>
                </a:lnTo>
                <a:lnTo>
                  <a:pt x="2666" y="121"/>
                </a:lnTo>
                <a:lnTo>
                  <a:pt x="3809" y="396"/>
                </a:lnTo>
                <a:lnTo>
                  <a:pt x="4571" y="1523"/>
                </a:lnTo>
                <a:lnTo>
                  <a:pt x="4440" y="2682"/>
                </a:lnTo>
                <a:lnTo>
                  <a:pt x="4190" y="3809"/>
                </a:lnTo>
                <a:lnTo>
                  <a:pt x="3047" y="4571"/>
                </a:lnTo>
                <a:lnTo>
                  <a:pt x="1904" y="4328"/>
                </a:lnTo>
                <a:lnTo>
                  <a:pt x="761" y="4084"/>
                </a:lnTo>
                <a:lnTo>
                  <a:pt x="0" y="3047"/>
                </a:lnTo>
                <a:lnTo>
                  <a:pt x="249" y="19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ject 83"/>
          <p:cNvSpPr/>
          <p:nvPr/>
        </p:nvSpPr>
        <p:spPr>
          <a:xfrm>
            <a:off x="1160640" y="3708360"/>
            <a:ext cx="1169640" cy="105876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70939" h="1059179">
                <a:moveTo>
                  <a:pt x="585215" y="0"/>
                </a:moveTo>
                <a:lnTo>
                  <a:pt x="537217" y="1755"/>
                </a:lnTo>
                <a:lnTo>
                  <a:pt x="490287" y="6931"/>
                </a:lnTo>
                <a:lnTo>
                  <a:pt x="444577" y="15391"/>
                </a:lnTo>
                <a:lnTo>
                  <a:pt x="400237" y="26999"/>
                </a:lnTo>
                <a:lnTo>
                  <a:pt x="357417" y="41618"/>
                </a:lnTo>
                <a:lnTo>
                  <a:pt x="316269" y="59113"/>
                </a:lnTo>
                <a:lnTo>
                  <a:pt x="276943" y="79346"/>
                </a:lnTo>
                <a:lnTo>
                  <a:pt x="239589" y="102182"/>
                </a:lnTo>
                <a:lnTo>
                  <a:pt x="204358" y="127484"/>
                </a:lnTo>
                <a:lnTo>
                  <a:pt x="171400" y="155116"/>
                </a:lnTo>
                <a:lnTo>
                  <a:pt x="140867" y="184941"/>
                </a:lnTo>
                <a:lnTo>
                  <a:pt x="112908" y="216824"/>
                </a:lnTo>
                <a:lnTo>
                  <a:pt x="87675" y="250627"/>
                </a:lnTo>
                <a:lnTo>
                  <a:pt x="65318" y="286216"/>
                </a:lnTo>
                <a:lnTo>
                  <a:pt x="45987" y="323452"/>
                </a:lnTo>
                <a:lnTo>
                  <a:pt x="29833" y="362201"/>
                </a:lnTo>
                <a:lnTo>
                  <a:pt x="17007" y="402325"/>
                </a:lnTo>
                <a:lnTo>
                  <a:pt x="7659" y="443689"/>
                </a:lnTo>
                <a:lnTo>
                  <a:pt x="1939" y="486156"/>
                </a:lnTo>
                <a:lnTo>
                  <a:pt x="0" y="529589"/>
                </a:lnTo>
                <a:lnTo>
                  <a:pt x="1939" y="573023"/>
                </a:lnTo>
                <a:lnTo>
                  <a:pt x="7659" y="615490"/>
                </a:lnTo>
                <a:lnTo>
                  <a:pt x="17007" y="656854"/>
                </a:lnTo>
                <a:lnTo>
                  <a:pt x="29833" y="696978"/>
                </a:lnTo>
                <a:lnTo>
                  <a:pt x="45987" y="735727"/>
                </a:lnTo>
                <a:lnTo>
                  <a:pt x="65318" y="772963"/>
                </a:lnTo>
                <a:lnTo>
                  <a:pt x="87675" y="808552"/>
                </a:lnTo>
                <a:lnTo>
                  <a:pt x="112908" y="842355"/>
                </a:lnTo>
                <a:lnTo>
                  <a:pt x="140867" y="874238"/>
                </a:lnTo>
                <a:lnTo>
                  <a:pt x="171400" y="904063"/>
                </a:lnTo>
                <a:lnTo>
                  <a:pt x="204358" y="931695"/>
                </a:lnTo>
                <a:lnTo>
                  <a:pt x="239589" y="956997"/>
                </a:lnTo>
                <a:lnTo>
                  <a:pt x="276943" y="979833"/>
                </a:lnTo>
                <a:lnTo>
                  <a:pt x="316269" y="1000066"/>
                </a:lnTo>
                <a:lnTo>
                  <a:pt x="357417" y="1017561"/>
                </a:lnTo>
                <a:lnTo>
                  <a:pt x="400237" y="1032180"/>
                </a:lnTo>
                <a:lnTo>
                  <a:pt x="444577" y="1043788"/>
                </a:lnTo>
                <a:lnTo>
                  <a:pt x="490287" y="1052248"/>
                </a:lnTo>
                <a:lnTo>
                  <a:pt x="537217" y="1057424"/>
                </a:lnTo>
                <a:lnTo>
                  <a:pt x="585215" y="1059179"/>
                </a:lnTo>
                <a:lnTo>
                  <a:pt x="633214" y="1057424"/>
                </a:lnTo>
                <a:lnTo>
                  <a:pt x="680144" y="1052248"/>
                </a:lnTo>
                <a:lnTo>
                  <a:pt x="725854" y="1043788"/>
                </a:lnTo>
                <a:lnTo>
                  <a:pt x="770194" y="1032180"/>
                </a:lnTo>
                <a:lnTo>
                  <a:pt x="813014" y="1017561"/>
                </a:lnTo>
                <a:lnTo>
                  <a:pt x="854162" y="1000066"/>
                </a:lnTo>
                <a:lnTo>
                  <a:pt x="893488" y="979833"/>
                </a:lnTo>
                <a:lnTo>
                  <a:pt x="930842" y="956997"/>
                </a:lnTo>
                <a:lnTo>
                  <a:pt x="966073" y="931695"/>
                </a:lnTo>
                <a:lnTo>
                  <a:pt x="999031" y="904063"/>
                </a:lnTo>
                <a:lnTo>
                  <a:pt x="1029564" y="874238"/>
                </a:lnTo>
                <a:lnTo>
                  <a:pt x="1057523" y="842355"/>
                </a:lnTo>
                <a:lnTo>
                  <a:pt x="1082756" y="808552"/>
                </a:lnTo>
                <a:lnTo>
                  <a:pt x="1105113" y="772963"/>
                </a:lnTo>
                <a:lnTo>
                  <a:pt x="1124444" y="735727"/>
                </a:lnTo>
                <a:lnTo>
                  <a:pt x="1140598" y="696978"/>
                </a:lnTo>
                <a:lnTo>
                  <a:pt x="1153424" y="656854"/>
                </a:lnTo>
                <a:lnTo>
                  <a:pt x="1162772" y="615490"/>
                </a:lnTo>
                <a:lnTo>
                  <a:pt x="1168492" y="573023"/>
                </a:lnTo>
                <a:lnTo>
                  <a:pt x="1170431" y="529589"/>
                </a:lnTo>
                <a:lnTo>
                  <a:pt x="1168492" y="486156"/>
                </a:lnTo>
                <a:lnTo>
                  <a:pt x="1162772" y="443689"/>
                </a:lnTo>
                <a:lnTo>
                  <a:pt x="1153424" y="402325"/>
                </a:lnTo>
                <a:lnTo>
                  <a:pt x="1140598" y="362201"/>
                </a:lnTo>
                <a:lnTo>
                  <a:pt x="1124444" y="323452"/>
                </a:lnTo>
                <a:lnTo>
                  <a:pt x="1105113" y="286216"/>
                </a:lnTo>
                <a:lnTo>
                  <a:pt x="1082756" y="250627"/>
                </a:lnTo>
                <a:lnTo>
                  <a:pt x="1057523" y="216824"/>
                </a:lnTo>
                <a:lnTo>
                  <a:pt x="1029564" y="184941"/>
                </a:lnTo>
                <a:lnTo>
                  <a:pt x="999031" y="155116"/>
                </a:lnTo>
                <a:lnTo>
                  <a:pt x="966073" y="127484"/>
                </a:lnTo>
                <a:lnTo>
                  <a:pt x="930842" y="102182"/>
                </a:lnTo>
                <a:lnTo>
                  <a:pt x="893488" y="79346"/>
                </a:lnTo>
                <a:lnTo>
                  <a:pt x="854162" y="59113"/>
                </a:lnTo>
                <a:lnTo>
                  <a:pt x="813014" y="41618"/>
                </a:lnTo>
                <a:lnTo>
                  <a:pt x="770194" y="26999"/>
                </a:lnTo>
                <a:lnTo>
                  <a:pt x="725854" y="15391"/>
                </a:lnTo>
                <a:lnTo>
                  <a:pt x="680144" y="6931"/>
                </a:lnTo>
                <a:lnTo>
                  <a:pt x="633214" y="1755"/>
                </a:lnTo>
                <a:lnTo>
                  <a:pt x="585215" y="0"/>
                </a:lnTo>
                <a:close/>
              </a:path>
            </a:pathLst>
          </a:cu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bject 84"/>
          <p:cNvSpPr/>
          <p:nvPr/>
        </p:nvSpPr>
        <p:spPr>
          <a:xfrm>
            <a:off x="1160640" y="3708360"/>
            <a:ext cx="1169640" cy="105876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70939" h="1059179">
                <a:moveTo>
                  <a:pt x="0" y="529589"/>
                </a:moveTo>
                <a:lnTo>
                  <a:pt x="1939" y="486156"/>
                </a:lnTo>
                <a:lnTo>
                  <a:pt x="7659" y="443689"/>
                </a:lnTo>
                <a:lnTo>
                  <a:pt x="17007" y="402325"/>
                </a:lnTo>
                <a:lnTo>
                  <a:pt x="29833" y="362201"/>
                </a:lnTo>
                <a:lnTo>
                  <a:pt x="45987" y="323452"/>
                </a:lnTo>
                <a:lnTo>
                  <a:pt x="65318" y="286216"/>
                </a:lnTo>
                <a:lnTo>
                  <a:pt x="87675" y="250627"/>
                </a:lnTo>
                <a:lnTo>
                  <a:pt x="112908" y="216824"/>
                </a:lnTo>
                <a:lnTo>
                  <a:pt x="140867" y="184941"/>
                </a:lnTo>
                <a:lnTo>
                  <a:pt x="171400" y="155116"/>
                </a:lnTo>
                <a:lnTo>
                  <a:pt x="204358" y="127484"/>
                </a:lnTo>
                <a:lnTo>
                  <a:pt x="239589" y="102182"/>
                </a:lnTo>
                <a:lnTo>
                  <a:pt x="276943" y="79346"/>
                </a:lnTo>
                <a:lnTo>
                  <a:pt x="316269" y="59113"/>
                </a:lnTo>
                <a:lnTo>
                  <a:pt x="357417" y="41618"/>
                </a:lnTo>
                <a:lnTo>
                  <a:pt x="400237" y="26999"/>
                </a:lnTo>
                <a:lnTo>
                  <a:pt x="444577" y="15391"/>
                </a:lnTo>
                <a:lnTo>
                  <a:pt x="490287" y="6931"/>
                </a:lnTo>
                <a:lnTo>
                  <a:pt x="537217" y="1755"/>
                </a:lnTo>
                <a:lnTo>
                  <a:pt x="585215" y="0"/>
                </a:lnTo>
                <a:lnTo>
                  <a:pt x="633214" y="1755"/>
                </a:lnTo>
                <a:lnTo>
                  <a:pt x="680144" y="6931"/>
                </a:lnTo>
                <a:lnTo>
                  <a:pt x="725854" y="15391"/>
                </a:lnTo>
                <a:lnTo>
                  <a:pt x="770194" y="26999"/>
                </a:lnTo>
                <a:lnTo>
                  <a:pt x="813014" y="41618"/>
                </a:lnTo>
                <a:lnTo>
                  <a:pt x="854162" y="59113"/>
                </a:lnTo>
                <a:lnTo>
                  <a:pt x="893488" y="79346"/>
                </a:lnTo>
                <a:lnTo>
                  <a:pt x="930842" y="102182"/>
                </a:lnTo>
                <a:lnTo>
                  <a:pt x="966073" y="127484"/>
                </a:lnTo>
                <a:lnTo>
                  <a:pt x="999031" y="155116"/>
                </a:lnTo>
                <a:lnTo>
                  <a:pt x="1029564" y="184941"/>
                </a:lnTo>
                <a:lnTo>
                  <a:pt x="1057523" y="216824"/>
                </a:lnTo>
                <a:lnTo>
                  <a:pt x="1082756" y="250627"/>
                </a:lnTo>
                <a:lnTo>
                  <a:pt x="1105113" y="286216"/>
                </a:lnTo>
                <a:lnTo>
                  <a:pt x="1124444" y="323452"/>
                </a:lnTo>
                <a:lnTo>
                  <a:pt x="1140598" y="362201"/>
                </a:lnTo>
                <a:lnTo>
                  <a:pt x="1153424" y="402325"/>
                </a:lnTo>
                <a:lnTo>
                  <a:pt x="1162772" y="443689"/>
                </a:lnTo>
                <a:lnTo>
                  <a:pt x="1168492" y="486156"/>
                </a:lnTo>
                <a:lnTo>
                  <a:pt x="1170431" y="529589"/>
                </a:lnTo>
                <a:lnTo>
                  <a:pt x="1168492" y="573023"/>
                </a:lnTo>
                <a:lnTo>
                  <a:pt x="1162772" y="615490"/>
                </a:lnTo>
                <a:lnTo>
                  <a:pt x="1153424" y="656854"/>
                </a:lnTo>
                <a:lnTo>
                  <a:pt x="1140598" y="696978"/>
                </a:lnTo>
                <a:lnTo>
                  <a:pt x="1124444" y="735727"/>
                </a:lnTo>
                <a:lnTo>
                  <a:pt x="1105113" y="772963"/>
                </a:lnTo>
                <a:lnTo>
                  <a:pt x="1082756" y="808552"/>
                </a:lnTo>
                <a:lnTo>
                  <a:pt x="1057523" y="842355"/>
                </a:lnTo>
                <a:lnTo>
                  <a:pt x="1029564" y="874238"/>
                </a:lnTo>
                <a:lnTo>
                  <a:pt x="999031" y="904063"/>
                </a:lnTo>
                <a:lnTo>
                  <a:pt x="966073" y="931695"/>
                </a:lnTo>
                <a:lnTo>
                  <a:pt x="930842" y="956997"/>
                </a:lnTo>
                <a:lnTo>
                  <a:pt x="893488" y="979833"/>
                </a:lnTo>
                <a:lnTo>
                  <a:pt x="854162" y="1000066"/>
                </a:lnTo>
                <a:lnTo>
                  <a:pt x="813014" y="1017561"/>
                </a:lnTo>
                <a:lnTo>
                  <a:pt x="770194" y="1032180"/>
                </a:lnTo>
                <a:lnTo>
                  <a:pt x="725854" y="1043788"/>
                </a:lnTo>
                <a:lnTo>
                  <a:pt x="680144" y="1052248"/>
                </a:lnTo>
                <a:lnTo>
                  <a:pt x="633214" y="1057424"/>
                </a:lnTo>
                <a:lnTo>
                  <a:pt x="585215" y="1059179"/>
                </a:lnTo>
                <a:lnTo>
                  <a:pt x="537217" y="1057424"/>
                </a:lnTo>
                <a:lnTo>
                  <a:pt x="490287" y="1052248"/>
                </a:lnTo>
                <a:lnTo>
                  <a:pt x="444577" y="1043788"/>
                </a:lnTo>
                <a:lnTo>
                  <a:pt x="400237" y="1032180"/>
                </a:lnTo>
                <a:lnTo>
                  <a:pt x="357417" y="1017561"/>
                </a:lnTo>
                <a:lnTo>
                  <a:pt x="316269" y="1000066"/>
                </a:lnTo>
                <a:lnTo>
                  <a:pt x="276943" y="979833"/>
                </a:lnTo>
                <a:lnTo>
                  <a:pt x="239589" y="956997"/>
                </a:lnTo>
                <a:lnTo>
                  <a:pt x="204358" y="931695"/>
                </a:lnTo>
                <a:lnTo>
                  <a:pt x="171400" y="904063"/>
                </a:lnTo>
                <a:lnTo>
                  <a:pt x="140867" y="874238"/>
                </a:lnTo>
                <a:lnTo>
                  <a:pt x="112908" y="842355"/>
                </a:lnTo>
                <a:lnTo>
                  <a:pt x="87675" y="808552"/>
                </a:lnTo>
                <a:lnTo>
                  <a:pt x="65318" y="772963"/>
                </a:lnTo>
                <a:lnTo>
                  <a:pt x="45987" y="735727"/>
                </a:lnTo>
                <a:lnTo>
                  <a:pt x="29833" y="696978"/>
                </a:lnTo>
                <a:lnTo>
                  <a:pt x="17007" y="656854"/>
                </a:lnTo>
                <a:lnTo>
                  <a:pt x="7659" y="615490"/>
                </a:lnTo>
                <a:lnTo>
                  <a:pt x="1939" y="573023"/>
                </a:lnTo>
                <a:lnTo>
                  <a:pt x="0" y="529589"/>
                </a:lnTo>
                <a:close/>
              </a:path>
            </a:pathLst>
          </a:custGeom>
          <a:noFill/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ject 85"/>
          <p:cNvSpPr/>
          <p:nvPr/>
        </p:nvSpPr>
        <p:spPr>
          <a:xfrm>
            <a:off x="2006640" y="3986280"/>
            <a:ext cx="22320" cy="68040"/>
          </a:xfrm>
          <a:custGeom>
            <a:avLst/>
            <a:gdLst>
              <a:gd name="textAreaLeft" fmla="*/ 0 w 22320"/>
              <a:gd name="textAreaRight" fmla="*/ 22680 w 223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2860" h="68579">
                <a:moveTo>
                  <a:pt x="11477" y="0"/>
                </a:moveTo>
                <a:lnTo>
                  <a:pt x="4457" y="10331"/>
                </a:lnTo>
                <a:lnTo>
                  <a:pt x="0" y="22640"/>
                </a:lnTo>
                <a:lnTo>
                  <a:pt x="47" y="29336"/>
                </a:lnTo>
                <a:lnTo>
                  <a:pt x="3726" y="35432"/>
                </a:lnTo>
                <a:lnTo>
                  <a:pt x="6393" y="41528"/>
                </a:lnTo>
                <a:lnTo>
                  <a:pt x="9441" y="47375"/>
                </a:lnTo>
                <a:lnTo>
                  <a:pt x="12108" y="53339"/>
                </a:lnTo>
                <a:lnTo>
                  <a:pt x="15418" y="59054"/>
                </a:lnTo>
                <a:lnTo>
                  <a:pt x="16811" y="61472"/>
                </a:lnTo>
                <a:lnTo>
                  <a:pt x="18585" y="63758"/>
                </a:lnTo>
                <a:lnTo>
                  <a:pt x="20371" y="66162"/>
                </a:lnTo>
                <a:lnTo>
                  <a:pt x="21133" y="66924"/>
                </a:lnTo>
                <a:lnTo>
                  <a:pt x="22776" y="684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86"/>
          <p:cNvSpPr/>
          <p:nvPr/>
        </p:nvSpPr>
        <p:spPr>
          <a:xfrm>
            <a:off x="2013120" y="39924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89" h="19685">
                <a:moveTo>
                  <a:pt x="8381" y="0"/>
                </a:moveTo>
                <a:lnTo>
                  <a:pt x="4821" y="8132"/>
                </a:lnTo>
                <a:lnTo>
                  <a:pt x="1392" y="16251"/>
                </a:lnTo>
                <a:lnTo>
                  <a:pt x="0" y="194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87"/>
          <p:cNvSpPr/>
          <p:nvPr/>
        </p:nvSpPr>
        <p:spPr>
          <a:xfrm>
            <a:off x="1967040" y="40114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3339" h="45720">
                <a:moveTo>
                  <a:pt x="0" y="851"/>
                </a:moveTo>
                <a:lnTo>
                  <a:pt x="11985" y="0"/>
                </a:lnTo>
                <a:lnTo>
                  <a:pt x="24371" y="2327"/>
                </a:lnTo>
                <a:lnTo>
                  <a:pt x="30992" y="6066"/>
                </a:lnTo>
                <a:lnTo>
                  <a:pt x="-31247" y="12281"/>
                </a:lnTo>
                <a:lnTo>
                  <a:pt x="-27305" y="17746"/>
                </a:lnTo>
                <a:lnTo>
                  <a:pt x="-23876" y="23330"/>
                </a:lnTo>
                <a:lnTo>
                  <a:pt x="-20066" y="28664"/>
                </a:lnTo>
                <a:lnTo>
                  <a:pt x="-16900" y="-31157"/>
                </a:lnTo>
                <a:lnTo>
                  <a:pt x="-15494" y="-28740"/>
                </a:lnTo>
                <a:lnTo>
                  <a:pt x="-14351" y="-25942"/>
                </a:lnTo>
                <a:lnTo>
                  <a:pt x="-13340" y="-23156"/>
                </a:lnTo>
                <a:lnTo>
                  <a:pt x="-12959" y="-22132"/>
                </a:lnTo>
                <a:lnTo>
                  <a:pt x="-12578" y="-199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88"/>
          <p:cNvSpPr/>
          <p:nvPr/>
        </p:nvSpPr>
        <p:spPr>
          <a:xfrm>
            <a:off x="1969920" y="4017960"/>
            <a:ext cx="22320" cy="3240"/>
          </a:xfrm>
          <a:custGeom>
            <a:avLst/>
            <a:gdLst>
              <a:gd name="textAreaLeft" fmla="*/ 0 w 22320"/>
              <a:gd name="textAreaRight" fmla="*/ 22680 w 22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1589" h="3175">
                <a:moveTo>
                  <a:pt x="0" y="0"/>
                </a:moveTo>
                <a:lnTo>
                  <a:pt x="8762" y="1024"/>
                </a:lnTo>
                <a:lnTo>
                  <a:pt x="17525" y="2167"/>
                </a:lnTo>
                <a:lnTo>
                  <a:pt x="21073" y="26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89"/>
          <p:cNvSpPr/>
          <p:nvPr/>
        </p:nvSpPr>
        <p:spPr>
          <a:xfrm>
            <a:off x="2016000" y="404172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630" y="3547"/>
                </a:moveTo>
                <a:lnTo>
                  <a:pt x="0" y="2404"/>
                </a:lnTo>
                <a:lnTo>
                  <a:pt x="249" y="1011"/>
                </a:lnTo>
                <a:lnTo>
                  <a:pt x="1142" y="499"/>
                </a:lnTo>
                <a:lnTo>
                  <a:pt x="2154" y="0"/>
                </a:lnTo>
                <a:lnTo>
                  <a:pt x="3428" y="380"/>
                </a:lnTo>
                <a:lnTo>
                  <a:pt x="4059" y="1523"/>
                </a:lnTo>
                <a:lnTo>
                  <a:pt x="4703" y="2666"/>
                </a:lnTo>
                <a:lnTo>
                  <a:pt x="4440" y="3928"/>
                </a:lnTo>
                <a:lnTo>
                  <a:pt x="3428" y="4571"/>
                </a:lnTo>
                <a:lnTo>
                  <a:pt x="2535" y="5071"/>
                </a:lnTo>
                <a:lnTo>
                  <a:pt x="1274" y="4571"/>
                </a:lnTo>
                <a:lnTo>
                  <a:pt x="630" y="35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90"/>
          <p:cNvSpPr/>
          <p:nvPr/>
        </p:nvSpPr>
        <p:spPr>
          <a:xfrm>
            <a:off x="1882800" y="3932280"/>
            <a:ext cx="47520" cy="52200"/>
          </a:xfrm>
          <a:custGeom>
            <a:avLst/>
            <a:gdLst>
              <a:gd name="textAreaLeft" fmla="*/ 0 w 47520"/>
              <a:gd name="textAreaRight" fmla="*/ 47880 w 475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6989" h="52070">
                <a:moveTo>
                  <a:pt x="-19173" y="-13852"/>
                </a:moveTo>
                <a:lnTo>
                  <a:pt x="-18794" y="-25919"/>
                </a:lnTo>
                <a:lnTo>
                  <a:pt x="-21505" y="27333"/>
                </a:lnTo>
                <a:lnTo>
                  <a:pt x="-25400" y="20823"/>
                </a:lnTo>
                <a:lnTo>
                  <a:pt x="-31746" y="17775"/>
                </a:lnTo>
                <a:lnTo>
                  <a:pt x="28193" y="13965"/>
                </a:lnTo>
                <a:lnTo>
                  <a:pt x="22610" y="10667"/>
                </a:lnTo>
                <a:lnTo>
                  <a:pt x="17144" y="7107"/>
                </a:lnTo>
                <a:lnTo>
                  <a:pt x="11429" y="4059"/>
                </a:lnTo>
                <a:lnTo>
                  <a:pt x="8762" y="2666"/>
                </a:lnTo>
                <a:lnTo>
                  <a:pt x="6095" y="1642"/>
                </a:lnTo>
                <a:lnTo>
                  <a:pt x="3310" y="761"/>
                </a:lnTo>
                <a:lnTo>
                  <a:pt x="2285" y="3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ject 91"/>
          <p:cNvSpPr/>
          <p:nvPr/>
        </p:nvSpPr>
        <p:spPr>
          <a:xfrm>
            <a:off x="1920960" y="3960720"/>
            <a:ext cx="3240" cy="20880"/>
          </a:xfrm>
          <a:custGeom>
            <a:avLst/>
            <a:gdLst>
              <a:gd name="textAreaLeft" fmla="*/ 0 w 3240"/>
              <a:gd name="textAreaRight" fmla="*/ 3600 w 32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3810" h="20954">
                <a:moveTo>
                  <a:pt x="3297" y="20954"/>
                </a:moveTo>
                <a:lnTo>
                  <a:pt x="1904" y="12191"/>
                </a:lnTo>
                <a:lnTo>
                  <a:pt x="499" y="342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ject 92"/>
          <p:cNvSpPr/>
          <p:nvPr/>
        </p:nvSpPr>
        <p:spPr>
          <a:xfrm>
            <a:off x="1889280" y="3925800"/>
            <a:ext cx="69840" cy="20880"/>
          </a:xfrm>
          <a:custGeom>
            <a:avLst/>
            <a:gdLst>
              <a:gd name="textAreaLeft" fmla="*/ 0 w 69840"/>
              <a:gd name="textAreaRight" fmla="*/ 70200 w 6984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69214" h="21589">
                <a:moveTo>
                  <a:pt x="68698" y="9262"/>
                </a:moveTo>
                <a:lnTo>
                  <a:pt x="58614" y="16661"/>
                </a:lnTo>
                <a:lnTo>
                  <a:pt x="46454" y="21488"/>
                </a:lnTo>
                <a:lnTo>
                  <a:pt x="39742" y="21585"/>
                </a:lnTo>
                <a:lnTo>
                  <a:pt x="33646" y="18025"/>
                </a:lnTo>
                <a:lnTo>
                  <a:pt x="27300" y="15489"/>
                </a:lnTo>
                <a:lnTo>
                  <a:pt x="21454" y="12691"/>
                </a:lnTo>
                <a:lnTo>
                  <a:pt x="15358" y="10155"/>
                </a:lnTo>
                <a:lnTo>
                  <a:pt x="9643" y="7107"/>
                </a:lnTo>
                <a:lnTo>
                  <a:pt x="7107" y="5833"/>
                </a:lnTo>
                <a:lnTo>
                  <a:pt x="4690" y="4059"/>
                </a:lnTo>
                <a:lnTo>
                  <a:pt x="2404" y="2285"/>
                </a:lnTo>
                <a:lnTo>
                  <a:pt x="1523" y="16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ject 93"/>
          <p:cNvSpPr/>
          <p:nvPr/>
        </p:nvSpPr>
        <p:spPr>
          <a:xfrm>
            <a:off x="1933560" y="39322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5" h="9525">
                <a:moveTo>
                  <a:pt x="19299" y="0"/>
                </a:moveTo>
                <a:lnTo>
                  <a:pt x="11298" y="3809"/>
                </a:lnTo>
                <a:lnTo>
                  <a:pt x="3179" y="7619"/>
                </a:lnTo>
                <a:lnTo>
                  <a:pt x="0" y="90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ject 94"/>
          <p:cNvSpPr/>
          <p:nvPr/>
        </p:nvSpPr>
        <p:spPr>
          <a:xfrm>
            <a:off x="1895400" y="39337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3428" y="630"/>
                </a:moveTo>
                <a:lnTo>
                  <a:pt x="4571" y="1261"/>
                </a:lnTo>
                <a:lnTo>
                  <a:pt x="5071" y="2535"/>
                </a:lnTo>
                <a:lnTo>
                  <a:pt x="4571" y="3428"/>
                </a:lnTo>
                <a:lnTo>
                  <a:pt x="4059" y="4440"/>
                </a:lnTo>
                <a:lnTo>
                  <a:pt x="2785" y="4690"/>
                </a:lnTo>
                <a:lnTo>
                  <a:pt x="1642" y="4059"/>
                </a:lnTo>
                <a:lnTo>
                  <a:pt x="499" y="3547"/>
                </a:lnTo>
                <a:lnTo>
                  <a:pt x="0" y="2285"/>
                </a:lnTo>
                <a:lnTo>
                  <a:pt x="499" y="1261"/>
                </a:lnTo>
                <a:lnTo>
                  <a:pt x="1011" y="249"/>
                </a:lnTo>
                <a:lnTo>
                  <a:pt x="2285" y="0"/>
                </a:lnTo>
                <a:lnTo>
                  <a:pt x="3428" y="6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95"/>
          <p:cNvSpPr/>
          <p:nvPr/>
        </p:nvSpPr>
        <p:spPr>
          <a:xfrm>
            <a:off x="1778040" y="4044960"/>
            <a:ext cx="50760" cy="41400"/>
          </a:xfrm>
          <a:custGeom>
            <a:avLst/>
            <a:gdLst>
              <a:gd name="textAreaLeft" fmla="*/ 0 w 50760"/>
              <a:gd name="textAreaRight" fmla="*/ 51120 w 507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2069" h="40639">
                <a:moveTo>
                  <a:pt x="-13721" y="1624"/>
                </a:moveTo>
                <a:lnTo>
                  <a:pt x="-26001" y="0"/>
                </a:lnTo>
                <a:lnTo>
                  <a:pt x="27167" y="1319"/>
                </a:lnTo>
                <a:lnTo>
                  <a:pt x="19943" y="4422"/>
                </a:lnTo>
                <a:lnTo>
                  <a:pt x="17013" y="10137"/>
                </a:lnTo>
                <a:lnTo>
                  <a:pt x="13334" y="14959"/>
                </a:lnTo>
                <a:lnTo>
                  <a:pt x="10037" y="20043"/>
                </a:lnTo>
                <a:lnTo>
                  <a:pt x="6608" y="24865"/>
                </a:lnTo>
                <a:lnTo>
                  <a:pt x="3678" y="29949"/>
                </a:lnTo>
                <a:lnTo>
                  <a:pt x="2417" y="32235"/>
                </a:lnTo>
                <a:lnTo>
                  <a:pt x="1523" y="-30765"/>
                </a:lnTo>
                <a:lnTo>
                  <a:pt x="630" y="-28217"/>
                </a:lnTo>
                <a:lnTo>
                  <a:pt x="249" y="-27336"/>
                </a:lnTo>
                <a:lnTo>
                  <a:pt x="0" y="-251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ject 96"/>
          <p:cNvSpPr/>
          <p:nvPr/>
        </p:nvSpPr>
        <p:spPr>
          <a:xfrm>
            <a:off x="1805040" y="4051440"/>
            <a:ext cx="22320" cy="1440"/>
          </a:xfrm>
          <a:custGeom>
            <a:avLst/>
            <a:gdLst>
              <a:gd name="textAreaLeft" fmla="*/ 0 w 22320"/>
              <a:gd name="textAreaRight" fmla="*/ 22680 w 2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225" h="1270">
                <a:moveTo>
                  <a:pt x="21716" y="0"/>
                </a:moveTo>
                <a:lnTo>
                  <a:pt x="12691" y="380"/>
                </a:lnTo>
                <a:lnTo>
                  <a:pt x="3547" y="880"/>
                </a:lnTo>
                <a:lnTo>
                  <a:pt x="0" y="10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ject 97"/>
          <p:cNvSpPr/>
          <p:nvPr/>
        </p:nvSpPr>
        <p:spPr>
          <a:xfrm>
            <a:off x="1770120" y="4016520"/>
            <a:ext cx="20520" cy="64800"/>
          </a:xfrm>
          <a:custGeom>
            <a:avLst/>
            <a:gdLst>
              <a:gd name="textAreaLeft" fmla="*/ 0 w 20520"/>
              <a:gd name="textAreaRight" fmla="*/ 20880 w 205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0955" h="64770">
                <a:moveTo>
                  <a:pt x="6608" y="0"/>
                </a:moveTo>
                <a:lnTo>
                  <a:pt x="14509" y="9967"/>
                </a:lnTo>
                <a:lnTo>
                  <a:pt x="19927" y="21561"/>
                </a:lnTo>
                <a:lnTo>
                  <a:pt x="20705" y="28824"/>
                </a:lnTo>
                <a:lnTo>
                  <a:pt x="17276" y="-31247"/>
                </a:lnTo>
                <a:lnTo>
                  <a:pt x="14990" y="-25663"/>
                </a:lnTo>
                <a:lnTo>
                  <a:pt x="12323" y="-20329"/>
                </a:lnTo>
                <a:lnTo>
                  <a:pt x="9905" y="-14864"/>
                </a:lnTo>
                <a:lnTo>
                  <a:pt x="6989" y="-9661"/>
                </a:lnTo>
                <a:lnTo>
                  <a:pt x="5714" y="-7375"/>
                </a:lnTo>
                <a:lnTo>
                  <a:pt x="4059" y="-5339"/>
                </a:lnTo>
                <a:lnTo>
                  <a:pt x="2285" y="-3302"/>
                </a:lnTo>
                <a:lnTo>
                  <a:pt x="1655" y="-2540"/>
                </a:lnTo>
                <a:lnTo>
                  <a:pt x="0" y="-11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98"/>
          <p:cNvSpPr/>
          <p:nvPr/>
        </p:nvSpPr>
        <p:spPr>
          <a:xfrm>
            <a:off x="1773360" y="402264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794" h="19685">
                <a:moveTo>
                  <a:pt x="0" y="0"/>
                </a:moveTo>
                <a:lnTo>
                  <a:pt x="4322" y="8000"/>
                </a:lnTo>
                <a:lnTo>
                  <a:pt x="8644" y="16001"/>
                </a:lnTo>
                <a:lnTo>
                  <a:pt x="10286" y="19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99"/>
          <p:cNvSpPr/>
          <p:nvPr/>
        </p:nvSpPr>
        <p:spPr>
          <a:xfrm>
            <a:off x="1776240" y="4070520"/>
            <a:ext cx="5040" cy="6120"/>
          </a:xfrm>
          <a:custGeom>
            <a:avLst/>
            <a:gdLst>
              <a:gd name="textAreaLeft" fmla="*/ 0 w 5040"/>
              <a:gd name="textAreaRight" fmla="*/ 5400 w 5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630" y="1405"/>
                </a:moveTo>
                <a:lnTo>
                  <a:pt x="1142" y="380"/>
                </a:lnTo>
                <a:lnTo>
                  <a:pt x="2535" y="0"/>
                </a:lnTo>
                <a:lnTo>
                  <a:pt x="3547" y="643"/>
                </a:lnTo>
                <a:lnTo>
                  <a:pt x="4571" y="1274"/>
                </a:lnTo>
                <a:lnTo>
                  <a:pt x="4952" y="2548"/>
                </a:lnTo>
                <a:lnTo>
                  <a:pt x="4309" y="3560"/>
                </a:lnTo>
                <a:lnTo>
                  <a:pt x="3809" y="4571"/>
                </a:lnTo>
                <a:lnTo>
                  <a:pt x="2404" y="4834"/>
                </a:lnTo>
                <a:lnTo>
                  <a:pt x="1392" y="4322"/>
                </a:lnTo>
                <a:lnTo>
                  <a:pt x="380" y="3691"/>
                </a:lnTo>
                <a:lnTo>
                  <a:pt x="0" y="2417"/>
                </a:lnTo>
                <a:lnTo>
                  <a:pt x="630" y="140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bject 100"/>
          <p:cNvSpPr/>
          <p:nvPr/>
        </p:nvSpPr>
        <p:spPr>
          <a:xfrm>
            <a:off x="1255680" y="4127400"/>
            <a:ext cx="304920" cy="216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bject 101"/>
          <p:cNvSpPr/>
          <p:nvPr/>
        </p:nvSpPr>
        <p:spPr>
          <a:xfrm>
            <a:off x="1420920" y="4183200"/>
            <a:ext cx="118800" cy="139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bject 102"/>
          <p:cNvSpPr/>
          <p:nvPr/>
        </p:nvSpPr>
        <p:spPr>
          <a:xfrm>
            <a:off x="1449360" y="4210200"/>
            <a:ext cx="65160" cy="6192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bject 103"/>
          <p:cNvSpPr/>
          <p:nvPr/>
        </p:nvSpPr>
        <p:spPr>
          <a:xfrm>
            <a:off x="1301760" y="4191120"/>
            <a:ext cx="38160" cy="54000"/>
          </a:xfrm>
          <a:custGeom>
            <a:avLst/>
            <a:gdLst>
              <a:gd name="textAreaLeft" fmla="*/ 0 w 38160"/>
              <a:gd name="textAreaRight" fmla="*/ 38520 w 38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830" h="53975">
                <a:moveTo>
                  <a:pt x="-28829" y="0"/>
                </a:moveTo>
                <a:lnTo>
                  <a:pt x="24267" y="2575"/>
                </a:lnTo>
                <a:lnTo>
                  <a:pt x="12743" y="8028"/>
                </a:lnTo>
                <a:lnTo>
                  <a:pt x="7370" y="13085"/>
                </a:lnTo>
                <a:lnTo>
                  <a:pt x="6476" y="19430"/>
                </a:lnTo>
                <a:lnTo>
                  <a:pt x="4703" y="25277"/>
                </a:lnTo>
                <a:lnTo>
                  <a:pt x="3297" y="30992"/>
                </a:lnTo>
                <a:lnTo>
                  <a:pt x="1523" y="-28829"/>
                </a:lnTo>
                <a:lnTo>
                  <a:pt x="512" y="-22983"/>
                </a:lnTo>
                <a:lnTo>
                  <a:pt x="0" y="-20447"/>
                </a:lnTo>
                <a:lnTo>
                  <a:pt x="0" y="-17780"/>
                </a:lnTo>
                <a:lnTo>
                  <a:pt x="0" y="-14982"/>
                </a:lnTo>
                <a:lnTo>
                  <a:pt x="0" y="-14102"/>
                </a:lnTo>
                <a:lnTo>
                  <a:pt x="512" y="-119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104"/>
          <p:cNvSpPr/>
          <p:nvPr/>
        </p:nvSpPr>
        <p:spPr>
          <a:xfrm>
            <a:off x="1317600" y="4197240"/>
            <a:ext cx="20520" cy="7920"/>
          </a:xfrm>
          <a:custGeom>
            <a:avLst/>
            <a:gdLst>
              <a:gd name="textAreaLeft" fmla="*/ 0 w 20520"/>
              <a:gd name="textAreaRight" fmla="*/ 20880 w 20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319" h="8254">
                <a:moveTo>
                  <a:pt x="20192" y="0"/>
                </a:moveTo>
                <a:lnTo>
                  <a:pt x="11810" y="3297"/>
                </a:lnTo>
                <a:lnTo>
                  <a:pt x="3428" y="6726"/>
                </a:lnTo>
                <a:lnTo>
                  <a:pt x="0" y="8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105"/>
          <p:cNvSpPr/>
          <p:nvPr/>
        </p:nvSpPr>
        <p:spPr>
          <a:xfrm>
            <a:off x="1279440" y="4179960"/>
            <a:ext cx="22320" cy="63360"/>
          </a:xfrm>
          <a:custGeom>
            <a:avLst/>
            <a:gdLst>
              <a:gd name="textAreaLeft" fmla="*/ 0 w 22320"/>
              <a:gd name="textAreaRight" fmla="*/ 22680 w 22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2859" h="63500">
                <a:moveTo>
                  <a:pt x="0" y="0"/>
                </a:moveTo>
                <a:lnTo>
                  <a:pt x="10710" y="6890"/>
                </a:lnTo>
                <a:lnTo>
                  <a:pt x="19663" y="15993"/>
                </a:lnTo>
                <a:lnTo>
                  <a:pt x="22741" y="22597"/>
                </a:lnTo>
                <a:lnTo>
                  <a:pt x="21335" y="28824"/>
                </a:lnTo>
                <a:lnTo>
                  <a:pt x="20954" y="-30485"/>
                </a:lnTo>
                <a:lnTo>
                  <a:pt x="20192" y="-24651"/>
                </a:lnTo>
                <a:lnTo>
                  <a:pt x="19811" y="-18674"/>
                </a:lnTo>
                <a:lnTo>
                  <a:pt x="18800" y="-12840"/>
                </a:lnTo>
                <a:lnTo>
                  <a:pt x="18287" y="-10292"/>
                </a:lnTo>
                <a:lnTo>
                  <a:pt x="17407" y="-7756"/>
                </a:lnTo>
                <a:lnTo>
                  <a:pt x="16382" y="-5339"/>
                </a:lnTo>
                <a:lnTo>
                  <a:pt x="16001" y="-4327"/>
                </a:lnTo>
                <a:lnTo>
                  <a:pt x="14858" y="-25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ject 106"/>
          <p:cNvSpPr/>
          <p:nvPr/>
        </p:nvSpPr>
        <p:spPr>
          <a:xfrm>
            <a:off x="1278000" y="4186080"/>
            <a:ext cx="17280" cy="16200"/>
          </a:xfrm>
          <a:custGeom>
            <a:avLst/>
            <a:gdLst>
              <a:gd name="textAreaLeft" fmla="*/ 0 w 17280"/>
              <a:gd name="textAreaRight" fmla="*/ 17640 w 17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6509" h="15239">
                <a:moveTo>
                  <a:pt x="0" y="0"/>
                </a:moveTo>
                <a:lnTo>
                  <a:pt x="6608" y="6227"/>
                </a:lnTo>
                <a:lnTo>
                  <a:pt x="13334" y="12323"/>
                </a:lnTo>
                <a:lnTo>
                  <a:pt x="16001" y="147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ject 107"/>
          <p:cNvSpPr/>
          <p:nvPr/>
        </p:nvSpPr>
        <p:spPr>
          <a:xfrm>
            <a:off x="1298520" y="42307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249" y="1904"/>
                </a:moveTo>
                <a:lnTo>
                  <a:pt x="499" y="761"/>
                </a:lnTo>
                <a:lnTo>
                  <a:pt x="1523" y="0"/>
                </a:lnTo>
                <a:lnTo>
                  <a:pt x="2666" y="131"/>
                </a:lnTo>
                <a:lnTo>
                  <a:pt x="3928" y="380"/>
                </a:lnTo>
                <a:lnTo>
                  <a:pt x="4690" y="1523"/>
                </a:lnTo>
                <a:lnTo>
                  <a:pt x="4440" y="2666"/>
                </a:lnTo>
                <a:lnTo>
                  <a:pt x="4190" y="3809"/>
                </a:lnTo>
                <a:lnTo>
                  <a:pt x="3166" y="4571"/>
                </a:lnTo>
                <a:lnTo>
                  <a:pt x="1904" y="4322"/>
                </a:lnTo>
                <a:lnTo>
                  <a:pt x="761" y="4072"/>
                </a:lnTo>
                <a:lnTo>
                  <a:pt x="0" y="3047"/>
                </a:lnTo>
                <a:lnTo>
                  <a:pt x="249" y="19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ject 108"/>
          <p:cNvSpPr/>
          <p:nvPr/>
        </p:nvSpPr>
        <p:spPr>
          <a:xfrm>
            <a:off x="1374840" y="4181400"/>
            <a:ext cx="63360" cy="25560"/>
          </a:xfrm>
          <a:custGeom>
            <a:avLst/>
            <a:gdLst>
              <a:gd name="textAreaLeft" fmla="*/ 0 w 63360"/>
              <a:gd name="textAreaRight" fmla="*/ 63720 w 63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3500" h="26035">
                <a:moveTo>
                  <a:pt x="-2422" y="10286"/>
                </a:moveTo>
                <a:lnTo>
                  <a:pt x="-13408" y="3844"/>
                </a:lnTo>
                <a:lnTo>
                  <a:pt x="-25571" y="51"/>
                </a:lnTo>
                <a:lnTo>
                  <a:pt x="32003" y="0"/>
                </a:lnTo>
                <a:lnTo>
                  <a:pt x="27169" y="4309"/>
                </a:lnTo>
                <a:lnTo>
                  <a:pt x="21835" y="7488"/>
                </a:lnTo>
                <a:lnTo>
                  <a:pt x="17013" y="10786"/>
                </a:lnTo>
                <a:lnTo>
                  <a:pt x="11929" y="13965"/>
                </a:lnTo>
                <a:lnTo>
                  <a:pt x="7238" y="17644"/>
                </a:lnTo>
                <a:lnTo>
                  <a:pt x="5202" y="19299"/>
                </a:lnTo>
                <a:lnTo>
                  <a:pt x="3428" y="21335"/>
                </a:lnTo>
                <a:lnTo>
                  <a:pt x="1773" y="23359"/>
                </a:lnTo>
                <a:lnTo>
                  <a:pt x="1011" y="24121"/>
                </a:lnTo>
                <a:lnTo>
                  <a:pt x="0" y="260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ject 109"/>
          <p:cNvSpPr/>
          <p:nvPr/>
        </p:nvSpPr>
        <p:spPr>
          <a:xfrm>
            <a:off x="1413000" y="4187880"/>
            <a:ext cx="20520" cy="7920"/>
          </a:xfrm>
          <a:custGeom>
            <a:avLst/>
            <a:gdLst>
              <a:gd name="textAreaLeft" fmla="*/ 0 w 20520"/>
              <a:gd name="textAreaRight" fmla="*/ 20880 w 20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955" h="8254">
                <a:moveTo>
                  <a:pt x="20954" y="7751"/>
                </a:moveTo>
                <a:lnTo>
                  <a:pt x="12191" y="4571"/>
                </a:lnTo>
                <a:lnTo>
                  <a:pt x="3428" y="127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bject 110"/>
          <p:cNvSpPr/>
          <p:nvPr/>
        </p:nvSpPr>
        <p:spPr>
          <a:xfrm>
            <a:off x="1370160" y="4143240"/>
            <a:ext cx="34920" cy="57240"/>
          </a:xfrm>
          <a:custGeom>
            <a:avLst/>
            <a:gdLst>
              <a:gd name="textAreaLeft" fmla="*/ 0 w 34920"/>
              <a:gd name="textAreaRight" fmla="*/ 35280 w 349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925" h="57785">
                <a:moveTo>
                  <a:pt x="29717" y="0"/>
                </a:moveTo>
                <a:lnTo>
                  <a:pt x="-32044" y="12008"/>
                </a:lnTo>
                <a:lnTo>
                  <a:pt x="-31160" y="24524"/>
                </a:lnTo>
                <a:lnTo>
                  <a:pt x="32516" y="32647"/>
                </a:lnTo>
                <a:lnTo>
                  <a:pt x="27313" y="-29079"/>
                </a:lnTo>
                <a:lnTo>
                  <a:pt x="23122" y="-24638"/>
                </a:lnTo>
                <a:lnTo>
                  <a:pt x="18668" y="-20697"/>
                </a:lnTo>
                <a:lnTo>
                  <a:pt x="14359" y="-16506"/>
                </a:lnTo>
                <a:lnTo>
                  <a:pt x="9787" y="-12827"/>
                </a:lnTo>
                <a:lnTo>
                  <a:pt x="7751" y="-11303"/>
                </a:lnTo>
                <a:lnTo>
                  <a:pt x="5333" y="-10029"/>
                </a:lnTo>
                <a:lnTo>
                  <a:pt x="2929" y="-8768"/>
                </a:lnTo>
                <a:lnTo>
                  <a:pt x="2036" y="-8255"/>
                </a:lnTo>
                <a:lnTo>
                  <a:pt x="0" y="-77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bject 111"/>
          <p:cNvSpPr/>
          <p:nvPr/>
        </p:nvSpPr>
        <p:spPr>
          <a:xfrm>
            <a:off x="1395360" y="4146480"/>
            <a:ext cx="3240" cy="22320"/>
          </a:xfrm>
          <a:custGeom>
            <a:avLst/>
            <a:gdLst>
              <a:gd name="textAreaLeft" fmla="*/ 0 w 3240"/>
              <a:gd name="textAreaRight" fmla="*/ 3600 w 3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75" h="22225">
                <a:moveTo>
                  <a:pt x="0" y="0"/>
                </a:moveTo>
                <a:lnTo>
                  <a:pt x="1142" y="9262"/>
                </a:lnTo>
                <a:lnTo>
                  <a:pt x="2167" y="18406"/>
                </a:lnTo>
                <a:lnTo>
                  <a:pt x="2666" y="220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ject 112"/>
          <p:cNvSpPr/>
          <p:nvPr/>
        </p:nvSpPr>
        <p:spPr>
          <a:xfrm>
            <a:off x="1378080" y="419400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1011" y="761"/>
                </a:moveTo>
                <a:lnTo>
                  <a:pt x="1904" y="0"/>
                </a:lnTo>
                <a:lnTo>
                  <a:pt x="3297" y="131"/>
                </a:lnTo>
                <a:lnTo>
                  <a:pt x="4059" y="1142"/>
                </a:lnTo>
                <a:lnTo>
                  <a:pt x="4821" y="2036"/>
                </a:lnTo>
                <a:lnTo>
                  <a:pt x="4703" y="3428"/>
                </a:lnTo>
                <a:lnTo>
                  <a:pt x="3809" y="4190"/>
                </a:lnTo>
                <a:lnTo>
                  <a:pt x="2916" y="4952"/>
                </a:lnTo>
                <a:lnTo>
                  <a:pt x="1523" y="4703"/>
                </a:lnTo>
                <a:lnTo>
                  <a:pt x="761" y="3809"/>
                </a:lnTo>
                <a:lnTo>
                  <a:pt x="0" y="2798"/>
                </a:lnTo>
                <a:lnTo>
                  <a:pt x="131" y="1405"/>
                </a:lnTo>
                <a:lnTo>
                  <a:pt x="1011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ject 113"/>
          <p:cNvSpPr/>
          <p:nvPr/>
        </p:nvSpPr>
        <p:spPr>
          <a:xfrm>
            <a:off x="1336680" y="4230720"/>
            <a:ext cx="19080" cy="68400"/>
          </a:xfrm>
          <a:custGeom>
            <a:avLst/>
            <a:gdLst>
              <a:gd name="textAreaLeft" fmla="*/ 0 w 19080"/>
              <a:gd name="textAreaRight" fmla="*/ 19440 w 190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8415" h="67945">
                <a:moveTo>
                  <a:pt x="0" y="67436"/>
                </a:moveTo>
                <a:lnTo>
                  <a:pt x="9313" y="58979"/>
                </a:lnTo>
                <a:lnTo>
                  <a:pt x="16524" y="48162"/>
                </a:lnTo>
                <a:lnTo>
                  <a:pt x="18025" y="41660"/>
                </a:lnTo>
                <a:lnTo>
                  <a:pt x="15739" y="35183"/>
                </a:lnTo>
                <a:lnTo>
                  <a:pt x="14477" y="28824"/>
                </a:lnTo>
                <a:lnTo>
                  <a:pt x="12953" y="22728"/>
                </a:lnTo>
                <a:lnTo>
                  <a:pt x="11548" y="16514"/>
                </a:lnTo>
                <a:lnTo>
                  <a:pt x="9643" y="10536"/>
                </a:lnTo>
                <a:lnTo>
                  <a:pt x="8881" y="7869"/>
                </a:lnTo>
                <a:lnTo>
                  <a:pt x="7619" y="5333"/>
                </a:lnTo>
                <a:lnTo>
                  <a:pt x="6345" y="2798"/>
                </a:lnTo>
                <a:lnTo>
                  <a:pt x="5833" y="1773"/>
                </a:lnTo>
                <a:lnTo>
                  <a:pt x="45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bject 114"/>
          <p:cNvSpPr/>
          <p:nvPr/>
        </p:nvSpPr>
        <p:spPr>
          <a:xfrm>
            <a:off x="1335240" y="4275000"/>
            <a:ext cx="14040" cy="17640"/>
          </a:xfrm>
          <a:custGeom>
            <a:avLst/>
            <a:gdLst>
              <a:gd name="textAreaLeft" fmla="*/ 0 w 14040"/>
              <a:gd name="textAreaRight" fmla="*/ 14400 w 140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3334" h="17145">
                <a:moveTo>
                  <a:pt x="0" y="17026"/>
                </a:moveTo>
                <a:lnTo>
                  <a:pt x="5333" y="9905"/>
                </a:lnTo>
                <a:lnTo>
                  <a:pt x="10667" y="2798"/>
                </a:lnTo>
                <a:lnTo>
                  <a:pt x="128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bject 115"/>
          <p:cNvSpPr/>
          <p:nvPr/>
        </p:nvSpPr>
        <p:spPr>
          <a:xfrm>
            <a:off x="1351080" y="4230720"/>
            <a:ext cx="41040" cy="52200"/>
          </a:xfrm>
          <a:custGeom>
            <a:avLst/>
            <a:gdLst>
              <a:gd name="textAreaLeft" fmla="*/ 0 w 41040"/>
              <a:gd name="textAreaRight" fmla="*/ 41400 w 410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2544" h="53339">
                <a:moveTo>
                  <a:pt x="-23377" y="-12709"/>
                </a:moveTo>
                <a:lnTo>
                  <a:pt x="29949" y="-14256"/>
                </a:lnTo>
                <a:lnTo>
                  <a:pt x="18155" y="-18897"/>
                </a:lnTo>
                <a:lnTo>
                  <a:pt x="12691" y="-23627"/>
                </a:lnTo>
                <a:lnTo>
                  <a:pt x="10917" y="-30235"/>
                </a:lnTo>
                <a:lnTo>
                  <a:pt x="8250" y="29336"/>
                </a:lnTo>
                <a:lnTo>
                  <a:pt x="6095" y="23359"/>
                </a:lnTo>
                <a:lnTo>
                  <a:pt x="3678" y="17525"/>
                </a:lnTo>
                <a:lnTo>
                  <a:pt x="1773" y="11548"/>
                </a:lnTo>
                <a:lnTo>
                  <a:pt x="880" y="8881"/>
                </a:lnTo>
                <a:lnTo>
                  <a:pt x="499" y="6095"/>
                </a:lnTo>
                <a:lnTo>
                  <a:pt x="118" y="3297"/>
                </a:lnTo>
                <a:lnTo>
                  <a:pt x="0" y="215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116"/>
          <p:cNvSpPr/>
          <p:nvPr/>
        </p:nvSpPr>
        <p:spPr>
          <a:xfrm>
            <a:off x="1370160" y="4270320"/>
            <a:ext cx="20520" cy="6480"/>
          </a:xfrm>
          <a:custGeom>
            <a:avLst/>
            <a:gdLst>
              <a:gd name="textAreaLeft" fmla="*/ 0 w 20520"/>
              <a:gd name="textAreaRight" fmla="*/ 20880 w 20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20192" y="6739"/>
                </a:moveTo>
                <a:lnTo>
                  <a:pt x="11810" y="3941"/>
                </a:lnTo>
                <a:lnTo>
                  <a:pt x="3297" y="11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117"/>
          <p:cNvSpPr/>
          <p:nvPr/>
        </p:nvSpPr>
        <p:spPr>
          <a:xfrm>
            <a:off x="1346040" y="424008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4190" y="1904"/>
                </a:moveTo>
                <a:lnTo>
                  <a:pt x="4571" y="3047"/>
                </a:lnTo>
                <a:lnTo>
                  <a:pt x="3928" y="4322"/>
                </a:lnTo>
                <a:lnTo>
                  <a:pt x="2916" y="4571"/>
                </a:lnTo>
                <a:lnTo>
                  <a:pt x="1904" y="4952"/>
                </a:lnTo>
                <a:lnTo>
                  <a:pt x="761" y="4190"/>
                </a:lnTo>
                <a:lnTo>
                  <a:pt x="380" y="3047"/>
                </a:lnTo>
                <a:lnTo>
                  <a:pt x="0" y="1904"/>
                </a:lnTo>
                <a:lnTo>
                  <a:pt x="499" y="643"/>
                </a:lnTo>
                <a:lnTo>
                  <a:pt x="1523" y="380"/>
                </a:lnTo>
                <a:lnTo>
                  <a:pt x="2666" y="0"/>
                </a:lnTo>
                <a:lnTo>
                  <a:pt x="3809" y="643"/>
                </a:lnTo>
                <a:lnTo>
                  <a:pt x="4190" y="19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118"/>
          <p:cNvSpPr/>
          <p:nvPr/>
        </p:nvSpPr>
        <p:spPr>
          <a:xfrm>
            <a:off x="1454040" y="4387680"/>
            <a:ext cx="222480" cy="287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119"/>
          <p:cNvSpPr/>
          <p:nvPr/>
        </p:nvSpPr>
        <p:spPr>
          <a:xfrm>
            <a:off x="1471680" y="4400640"/>
            <a:ext cx="131760" cy="1299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120"/>
          <p:cNvSpPr/>
          <p:nvPr/>
        </p:nvSpPr>
        <p:spPr>
          <a:xfrm>
            <a:off x="1494000" y="4440240"/>
            <a:ext cx="63360" cy="63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121"/>
          <p:cNvSpPr/>
          <p:nvPr/>
        </p:nvSpPr>
        <p:spPr>
          <a:xfrm>
            <a:off x="1573200" y="4597560"/>
            <a:ext cx="65160" cy="20520"/>
          </a:xfrm>
          <a:custGeom>
            <a:avLst/>
            <a:gdLst>
              <a:gd name="textAreaLeft" fmla="*/ 0 w 65160"/>
              <a:gd name="textAreaRight" fmla="*/ 65520 w 65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4769" h="20320">
                <a:moveTo>
                  <a:pt x="0" y="5714"/>
                </a:moveTo>
                <a:lnTo>
                  <a:pt x="9828" y="13763"/>
                </a:lnTo>
                <a:lnTo>
                  <a:pt x="21376" y="19333"/>
                </a:lnTo>
                <a:lnTo>
                  <a:pt x="28574" y="20192"/>
                </a:lnTo>
                <a:lnTo>
                  <a:pt x="-31496" y="16895"/>
                </a:lnTo>
                <a:lnTo>
                  <a:pt x="-25781" y="14609"/>
                </a:lnTo>
                <a:lnTo>
                  <a:pt x="-20447" y="12073"/>
                </a:lnTo>
                <a:lnTo>
                  <a:pt x="-14995" y="9787"/>
                </a:lnTo>
                <a:lnTo>
                  <a:pt x="-9779" y="6989"/>
                </a:lnTo>
                <a:lnTo>
                  <a:pt x="-7493" y="5714"/>
                </a:lnTo>
                <a:lnTo>
                  <a:pt x="-5339" y="4072"/>
                </a:lnTo>
                <a:lnTo>
                  <a:pt x="-3302" y="2285"/>
                </a:lnTo>
                <a:lnTo>
                  <a:pt x="-2540" y="1655"/>
                </a:lnTo>
                <a:lnTo>
                  <a:pt x="-11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122"/>
          <p:cNvSpPr/>
          <p:nvPr/>
        </p:nvSpPr>
        <p:spPr>
          <a:xfrm>
            <a:off x="1577880" y="460044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9050" h="10795">
                <a:moveTo>
                  <a:pt x="0" y="0"/>
                </a:moveTo>
                <a:lnTo>
                  <a:pt x="7882" y="4440"/>
                </a:lnTo>
                <a:lnTo>
                  <a:pt x="15752" y="8894"/>
                </a:lnTo>
                <a:lnTo>
                  <a:pt x="18931" y="106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123"/>
          <p:cNvSpPr/>
          <p:nvPr/>
        </p:nvSpPr>
        <p:spPr>
          <a:xfrm>
            <a:off x="1600200" y="4605480"/>
            <a:ext cx="41400" cy="50760"/>
          </a:xfrm>
          <a:custGeom>
            <a:avLst/>
            <a:gdLst>
              <a:gd name="textAreaLeft" fmla="*/ 0 w 41400"/>
              <a:gd name="textAreaRight" fmla="*/ 41760 w 41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1275" h="51435">
                <a:moveTo>
                  <a:pt x="1517" y="-14351"/>
                </a:moveTo>
                <a:lnTo>
                  <a:pt x="0" y="-26604"/>
                </a:lnTo>
                <a:lnTo>
                  <a:pt x="1453" y="26596"/>
                </a:lnTo>
                <a:lnTo>
                  <a:pt x="4697" y="19312"/>
                </a:lnTo>
                <a:lnTo>
                  <a:pt x="10412" y="16514"/>
                </a:lnTo>
                <a:lnTo>
                  <a:pt x="15365" y="12953"/>
                </a:lnTo>
                <a:lnTo>
                  <a:pt x="20436" y="9787"/>
                </a:lnTo>
                <a:lnTo>
                  <a:pt x="25389" y="6358"/>
                </a:lnTo>
                <a:lnTo>
                  <a:pt x="30605" y="3560"/>
                </a:lnTo>
                <a:lnTo>
                  <a:pt x="-32645" y="2285"/>
                </a:lnTo>
                <a:lnTo>
                  <a:pt x="-30110" y="1405"/>
                </a:lnTo>
                <a:lnTo>
                  <a:pt x="-27574" y="643"/>
                </a:lnTo>
                <a:lnTo>
                  <a:pt x="-26681" y="262"/>
                </a:lnTo>
                <a:lnTo>
                  <a:pt x="-24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124"/>
          <p:cNvSpPr/>
          <p:nvPr/>
        </p:nvSpPr>
        <p:spPr>
          <a:xfrm>
            <a:off x="1606680" y="4632480"/>
            <a:ext cx="2880" cy="21960"/>
          </a:xfrm>
          <a:custGeom>
            <a:avLst/>
            <a:gdLst>
              <a:gd name="textAreaLeft" fmla="*/ 0 w 2880"/>
              <a:gd name="textAreaRight" fmla="*/ 3240 w 28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905" h="22225">
                <a:moveTo>
                  <a:pt x="0" y="21716"/>
                </a:moveTo>
                <a:lnTo>
                  <a:pt x="512" y="12704"/>
                </a:lnTo>
                <a:lnTo>
                  <a:pt x="1142" y="3560"/>
                </a:lnTo>
                <a:lnTo>
                  <a:pt x="14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125"/>
          <p:cNvSpPr/>
          <p:nvPr/>
        </p:nvSpPr>
        <p:spPr>
          <a:xfrm>
            <a:off x="1627200" y="46054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428" y="4322"/>
                </a:moveTo>
                <a:lnTo>
                  <a:pt x="2417" y="4821"/>
                </a:lnTo>
                <a:lnTo>
                  <a:pt x="1142" y="4440"/>
                </a:lnTo>
                <a:lnTo>
                  <a:pt x="512" y="3428"/>
                </a:lnTo>
                <a:lnTo>
                  <a:pt x="0" y="2417"/>
                </a:lnTo>
                <a:lnTo>
                  <a:pt x="380" y="1142"/>
                </a:lnTo>
                <a:lnTo>
                  <a:pt x="1392" y="512"/>
                </a:lnTo>
                <a:lnTo>
                  <a:pt x="2417" y="0"/>
                </a:lnTo>
                <a:lnTo>
                  <a:pt x="3678" y="380"/>
                </a:lnTo>
                <a:lnTo>
                  <a:pt x="4322" y="1392"/>
                </a:lnTo>
                <a:lnTo>
                  <a:pt x="4821" y="2417"/>
                </a:lnTo>
                <a:lnTo>
                  <a:pt x="4440" y="3678"/>
                </a:lnTo>
                <a:lnTo>
                  <a:pt x="3428" y="432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126"/>
          <p:cNvSpPr/>
          <p:nvPr/>
        </p:nvSpPr>
        <p:spPr>
          <a:xfrm>
            <a:off x="1509840" y="4533840"/>
            <a:ext cx="56880" cy="38160"/>
          </a:xfrm>
          <a:custGeom>
            <a:avLst/>
            <a:gdLst>
              <a:gd name="textAreaLeft" fmla="*/ 0 w 56880"/>
              <a:gd name="textAreaRight" fmla="*/ 57240 w 56880"/>
              <a:gd name="textAreaTop" fmla="*/ 0 h 38160"/>
              <a:gd name="textAreaBottom" fmla="*/ 38160 h 38160"/>
            </a:gdLst>
            <a:ahLst/>
            <a:rect l="textAreaLeft" t="textAreaTop" r="textAreaRight" b="textAreaBottom"/>
            <a:pathLst>
              <a:path w="56515" h="38100">
                <a:moveTo>
                  <a:pt x="0" y="0"/>
                </a:moveTo>
                <a:lnTo>
                  <a:pt x="2658" y="12216"/>
                </a:lnTo>
                <a:lnTo>
                  <a:pt x="8442" y="23739"/>
                </a:lnTo>
                <a:lnTo>
                  <a:pt x="13453" y="28456"/>
                </a:lnTo>
                <a:lnTo>
                  <a:pt x="20192" y="29717"/>
                </a:lnTo>
                <a:lnTo>
                  <a:pt x="26288" y="31885"/>
                </a:lnTo>
                <a:lnTo>
                  <a:pt x="32384" y="-32009"/>
                </a:lnTo>
                <a:lnTo>
                  <a:pt x="-27187" y="-30104"/>
                </a:lnTo>
                <a:lnTo>
                  <a:pt x="-20960" y="-28698"/>
                </a:lnTo>
                <a:lnTo>
                  <a:pt x="-18293" y="-28067"/>
                </a:lnTo>
                <a:lnTo>
                  <a:pt x="-15376" y="-27936"/>
                </a:lnTo>
                <a:lnTo>
                  <a:pt x="-12578" y="-27686"/>
                </a:lnTo>
                <a:lnTo>
                  <a:pt x="-11566" y="-27686"/>
                </a:lnTo>
                <a:lnTo>
                  <a:pt x="-9280" y="-279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127"/>
          <p:cNvSpPr/>
          <p:nvPr/>
        </p:nvSpPr>
        <p:spPr>
          <a:xfrm>
            <a:off x="1515960" y="4535640"/>
            <a:ext cx="7920" cy="18720"/>
          </a:xfrm>
          <a:custGeom>
            <a:avLst/>
            <a:gdLst>
              <a:gd name="textAreaLeft" fmla="*/ 0 w 7920"/>
              <a:gd name="textAreaRight" fmla="*/ 8280 w 79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8255" h="19685">
                <a:moveTo>
                  <a:pt x="0" y="0"/>
                </a:moveTo>
                <a:lnTo>
                  <a:pt x="3428" y="8119"/>
                </a:lnTo>
                <a:lnTo>
                  <a:pt x="6857" y="16382"/>
                </a:lnTo>
                <a:lnTo>
                  <a:pt x="8263" y="195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128"/>
          <p:cNvSpPr/>
          <p:nvPr/>
        </p:nvSpPr>
        <p:spPr>
          <a:xfrm>
            <a:off x="1495440" y="4570560"/>
            <a:ext cx="66600" cy="20520"/>
          </a:xfrm>
          <a:custGeom>
            <a:avLst/>
            <a:gdLst>
              <a:gd name="textAreaLeft" fmla="*/ 0 w 66600"/>
              <a:gd name="textAreaRight" fmla="*/ 66960 w 66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7309" h="20320">
                <a:moveTo>
                  <a:pt x="0" y="20074"/>
                </a:moveTo>
                <a:lnTo>
                  <a:pt x="7673" y="10065"/>
                </a:lnTo>
                <a:lnTo>
                  <a:pt x="17798" y="1975"/>
                </a:lnTo>
                <a:lnTo>
                  <a:pt x="24252" y="0"/>
                </a:lnTo>
                <a:lnTo>
                  <a:pt x="30860" y="1786"/>
                </a:lnTo>
                <a:lnTo>
                  <a:pt x="37337" y="2417"/>
                </a:lnTo>
                <a:lnTo>
                  <a:pt x="43552" y="3560"/>
                </a:lnTo>
                <a:lnTo>
                  <a:pt x="49779" y="4322"/>
                </a:lnTo>
                <a:lnTo>
                  <a:pt x="56006" y="5714"/>
                </a:lnTo>
                <a:lnTo>
                  <a:pt x="58673" y="6227"/>
                </a:lnTo>
                <a:lnTo>
                  <a:pt x="61340" y="7370"/>
                </a:lnTo>
                <a:lnTo>
                  <a:pt x="64007" y="8381"/>
                </a:lnTo>
                <a:lnTo>
                  <a:pt x="64888" y="8762"/>
                </a:lnTo>
                <a:lnTo>
                  <a:pt x="66793" y="9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129"/>
          <p:cNvSpPr/>
          <p:nvPr/>
        </p:nvSpPr>
        <p:spPr>
          <a:xfrm>
            <a:off x="1501920" y="457668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875" h="14604">
                <a:moveTo>
                  <a:pt x="0" y="14228"/>
                </a:moveTo>
                <a:lnTo>
                  <a:pt x="6595" y="8263"/>
                </a:lnTo>
                <a:lnTo>
                  <a:pt x="13203" y="2417"/>
                </a:lnTo>
                <a:lnTo>
                  <a:pt x="158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130"/>
          <p:cNvSpPr/>
          <p:nvPr/>
        </p:nvSpPr>
        <p:spPr>
          <a:xfrm>
            <a:off x="1549440" y="457056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023" y="4190"/>
                </a:moveTo>
                <a:lnTo>
                  <a:pt x="880" y="3941"/>
                </a:lnTo>
                <a:lnTo>
                  <a:pt x="0" y="2929"/>
                </a:lnTo>
                <a:lnTo>
                  <a:pt x="249" y="1786"/>
                </a:lnTo>
                <a:lnTo>
                  <a:pt x="499" y="761"/>
                </a:lnTo>
                <a:lnTo>
                  <a:pt x="1642" y="0"/>
                </a:lnTo>
                <a:lnTo>
                  <a:pt x="2916" y="262"/>
                </a:lnTo>
                <a:lnTo>
                  <a:pt x="4190" y="643"/>
                </a:lnTo>
                <a:lnTo>
                  <a:pt x="4952" y="1655"/>
                </a:lnTo>
                <a:lnTo>
                  <a:pt x="4690" y="2798"/>
                </a:lnTo>
                <a:lnTo>
                  <a:pt x="4440" y="3809"/>
                </a:lnTo>
                <a:lnTo>
                  <a:pt x="3297" y="4453"/>
                </a:lnTo>
                <a:lnTo>
                  <a:pt x="2023" y="419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131"/>
          <p:cNvSpPr/>
          <p:nvPr/>
        </p:nvSpPr>
        <p:spPr>
          <a:xfrm>
            <a:off x="1608120" y="4540320"/>
            <a:ext cx="54000" cy="38160"/>
          </a:xfrm>
          <a:custGeom>
            <a:avLst/>
            <a:gdLst>
              <a:gd name="textAreaLeft" fmla="*/ 0 w 54000"/>
              <a:gd name="textAreaRight" fmla="*/ 54360 w 54000"/>
              <a:gd name="textAreaTop" fmla="*/ 0 h 38160"/>
              <a:gd name="textAreaBottom" fmla="*/ 38160 h 38160"/>
            </a:gdLst>
            <a:ahLst/>
            <a:rect l="textAreaLeft" t="textAreaTop" r="textAreaRight" b="textAreaBottom"/>
            <a:pathLst>
              <a:path w="54610" h="38100">
                <a:moveTo>
                  <a:pt x="-11054" y="2587"/>
                </a:moveTo>
                <a:lnTo>
                  <a:pt x="-23242" y="0"/>
                </a:lnTo>
                <a:lnTo>
                  <a:pt x="29754" y="394"/>
                </a:lnTo>
                <a:lnTo>
                  <a:pt x="22360" y="2968"/>
                </a:lnTo>
                <a:lnTo>
                  <a:pt x="19181" y="8552"/>
                </a:lnTo>
                <a:lnTo>
                  <a:pt x="15121" y="13124"/>
                </a:lnTo>
                <a:lnTo>
                  <a:pt x="11561" y="17827"/>
                </a:lnTo>
                <a:lnTo>
                  <a:pt x="7751" y="22399"/>
                </a:lnTo>
                <a:lnTo>
                  <a:pt x="4453" y="27352"/>
                </a:lnTo>
                <a:lnTo>
                  <a:pt x="3047" y="29638"/>
                </a:lnTo>
                <a:lnTo>
                  <a:pt x="1904" y="32055"/>
                </a:lnTo>
                <a:lnTo>
                  <a:pt x="893" y="-31076"/>
                </a:lnTo>
                <a:lnTo>
                  <a:pt x="512" y="-30183"/>
                </a:lnTo>
                <a:lnTo>
                  <a:pt x="0" y="-280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132"/>
          <p:cNvSpPr/>
          <p:nvPr/>
        </p:nvSpPr>
        <p:spPr>
          <a:xfrm>
            <a:off x="1636560" y="4546440"/>
            <a:ext cx="22320" cy="360"/>
          </a:xfrm>
          <a:custGeom>
            <a:avLst/>
            <a:gdLst/>
            <a:ahLst/>
            <a:rect l="l" t="t" r="r" b="b"/>
            <a:pathLst>
              <a:path w="22225" h="635">
                <a:moveTo>
                  <a:pt x="21716" y="512"/>
                </a:moveTo>
                <a:lnTo>
                  <a:pt x="12704" y="262"/>
                </a:lnTo>
                <a:lnTo>
                  <a:pt x="356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133"/>
          <p:cNvSpPr/>
          <p:nvPr/>
        </p:nvSpPr>
        <p:spPr>
          <a:xfrm>
            <a:off x="1600200" y="4508640"/>
            <a:ext cx="23760" cy="64800"/>
          </a:xfrm>
          <a:custGeom>
            <a:avLst/>
            <a:gdLst>
              <a:gd name="textAreaLeft" fmla="*/ 0 w 23760"/>
              <a:gd name="textAreaRight" fmla="*/ 24120 w 237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3494" h="64135">
                <a:moveTo>
                  <a:pt x="11180" y="0"/>
                </a:moveTo>
                <a:lnTo>
                  <a:pt x="18294" y="10530"/>
                </a:lnTo>
                <a:lnTo>
                  <a:pt x="22851" y="22506"/>
                </a:lnTo>
                <a:lnTo>
                  <a:pt x="23122" y="29717"/>
                </a:lnTo>
                <a:lnTo>
                  <a:pt x="19312" y="-30603"/>
                </a:lnTo>
                <a:lnTo>
                  <a:pt x="16645" y="-25151"/>
                </a:lnTo>
                <a:lnTo>
                  <a:pt x="13597" y="-20066"/>
                </a:lnTo>
                <a:lnTo>
                  <a:pt x="10930" y="-14732"/>
                </a:lnTo>
                <a:lnTo>
                  <a:pt x="7619" y="-9779"/>
                </a:lnTo>
                <a:lnTo>
                  <a:pt x="6095" y="-7625"/>
                </a:lnTo>
                <a:lnTo>
                  <a:pt x="4322" y="-5720"/>
                </a:lnTo>
                <a:lnTo>
                  <a:pt x="2417" y="-3815"/>
                </a:lnTo>
                <a:lnTo>
                  <a:pt x="1786" y="-3053"/>
                </a:lnTo>
                <a:lnTo>
                  <a:pt x="0" y="-19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134"/>
          <p:cNvSpPr/>
          <p:nvPr/>
        </p:nvSpPr>
        <p:spPr>
          <a:xfrm>
            <a:off x="1608120" y="4513320"/>
            <a:ext cx="9720" cy="20520"/>
          </a:xfrm>
          <a:custGeom>
            <a:avLst/>
            <a:gdLst>
              <a:gd name="textAreaLeft" fmla="*/ 0 w 9720"/>
              <a:gd name="textAreaRight" fmla="*/ 10080 w 97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90" h="20320">
                <a:moveTo>
                  <a:pt x="0" y="0"/>
                </a:moveTo>
                <a:lnTo>
                  <a:pt x="3678" y="8263"/>
                </a:lnTo>
                <a:lnTo>
                  <a:pt x="7357" y="16514"/>
                </a:lnTo>
                <a:lnTo>
                  <a:pt x="8881" y="198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bject 135"/>
          <p:cNvSpPr/>
          <p:nvPr/>
        </p:nvSpPr>
        <p:spPr>
          <a:xfrm>
            <a:off x="1608120" y="456264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630" y="1261"/>
                </a:moveTo>
                <a:lnTo>
                  <a:pt x="1261" y="249"/>
                </a:lnTo>
                <a:lnTo>
                  <a:pt x="2666" y="0"/>
                </a:lnTo>
                <a:lnTo>
                  <a:pt x="3547" y="630"/>
                </a:lnTo>
                <a:lnTo>
                  <a:pt x="4571" y="1392"/>
                </a:lnTo>
                <a:lnTo>
                  <a:pt x="4821" y="2666"/>
                </a:lnTo>
                <a:lnTo>
                  <a:pt x="4190" y="3678"/>
                </a:lnTo>
                <a:lnTo>
                  <a:pt x="3547" y="4571"/>
                </a:lnTo>
                <a:lnTo>
                  <a:pt x="2285" y="4821"/>
                </a:lnTo>
                <a:lnTo>
                  <a:pt x="1261" y="4190"/>
                </a:lnTo>
                <a:lnTo>
                  <a:pt x="249" y="3547"/>
                </a:lnTo>
                <a:lnTo>
                  <a:pt x="0" y="2285"/>
                </a:lnTo>
                <a:lnTo>
                  <a:pt x="630" y="1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136"/>
          <p:cNvSpPr/>
          <p:nvPr/>
        </p:nvSpPr>
        <p:spPr>
          <a:xfrm>
            <a:off x="1512720" y="3790800"/>
            <a:ext cx="222480" cy="2844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137"/>
          <p:cNvSpPr/>
          <p:nvPr/>
        </p:nvSpPr>
        <p:spPr>
          <a:xfrm>
            <a:off x="1550880" y="3938760"/>
            <a:ext cx="139680" cy="118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bject 138"/>
          <p:cNvSpPr/>
          <p:nvPr/>
        </p:nvSpPr>
        <p:spPr>
          <a:xfrm>
            <a:off x="1600200" y="3965400"/>
            <a:ext cx="66600" cy="619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139"/>
          <p:cNvSpPr/>
          <p:nvPr/>
        </p:nvSpPr>
        <p:spPr>
          <a:xfrm>
            <a:off x="1589040" y="3835440"/>
            <a:ext cx="66600" cy="22320"/>
          </a:xfrm>
          <a:custGeom>
            <a:avLst/>
            <a:gdLst>
              <a:gd name="textAreaLeft" fmla="*/ 0 w 66600"/>
              <a:gd name="textAreaRight" fmla="*/ 66960 w 66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6675" h="22225">
                <a:moveTo>
                  <a:pt x="66556" y="22229"/>
                </a:moveTo>
                <a:lnTo>
                  <a:pt x="64270" y="13965"/>
                </a:lnTo>
                <a:lnTo>
                  <a:pt x="57412" y="9012"/>
                </a:lnTo>
                <a:lnTo>
                  <a:pt x="51185" y="2666"/>
                </a:lnTo>
                <a:lnTo>
                  <a:pt x="45220" y="0"/>
                </a:lnTo>
                <a:lnTo>
                  <a:pt x="38099" y="761"/>
                </a:lnTo>
                <a:lnTo>
                  <a:pt x="31373" y="512"/>
                </a:lnTo>
                <a:lnTo>
                  <a:pt x="24896" y="630"/>
                </a:lnTo>
                <a:lnTo>
                  <a:pt x="18419" y="380"/>
                </a:lnTo>
                <a:lnTo>
                  <a:pt x="11810" y="893"/>
                </a:lnTo>
                <a:lnTo>
                  <a:pt x="9025" y="1011"/>
                </a:lnTo>
                <a:lnTo>
                  <a:pt x="6095" y="1655"/>
                </a:lnTo>
                <a:lnTo>
                  <a:pt x="3310" y="2285"/>
                </a:lnTo>
                <a:lnTo>
                  <a:pt x="2167" y="2417"/>
                </a:lnTo>
                <a:lnTo>
                  <a:pt x="0" y="32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ject 140"/>
          <p:cNvSpPr/>
          <p:nvPr/>
        </p:nvSpPr>
        <p:spPr>
          <a:xfrm>
            <a:off x="1635120" y="3843360"/>
            <a:ext cx="14400" cy="15840"/>
          </a:xfrm>
          <a:custGeom>
            <a:avLst/>
            <a:gdLst>
              <a:gd name="textAreaLeft" fmla="*/ 0 w 14400"/>
              <a:gd name="textAreaRight" fmla="*/ 14760 w 14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969" h="15875">
                <a:moveTo>
                  <a:pt x="13847" y="15502"/>
                </a:moveTo>
                <a:lnTo>
                  <a:pt x="8000" y="9025"/>
                </a:lnTo>
                <a:lnTo>
                  <a:pt x="2285" y="25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bject 141"/>
          <p:cNvSpPr/>
          <p:nvPr/>
        </p:nvSpPr>
        <p:spPr>
          <a:xfrm>
            <a:off x="1590840" y="3803760"/>
            <a:ext cx="63360" cy="28440"/>
          </a:xfrm>
          <a:custGeom>
            <a:avLst/>
            <a:gdLst>
              <a:gd name="textAreaLeft" fmla="*/ 0 w 63360"/>
              <a:gd name="textAreaRight" fmla="*/ 63720 w 63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3500" h="28575">
                <a:moveTo>
                  <a:pt x="-2028" y="0"/>
                </a:moveTo>
                <a:lnTo>
                  <a:pt x="-3302" y="8494"/>
                </a:lnTo>
                <a:lnTo>
                  <a:pt x="-9398" y="14090"/>
                </a:lnTo>
                <a:lnTo>
                  <a:pt x="-14732" y="21329"/>
                </a:lnTo>
                <a:lnTo>
                  <a:pt x="-20316" y="24758"/>
                </a:lnTo>
                <a:lnTo>
                  <a:pt x="-27437" y="24877"/>
                </a:lnTo>
                <a:lnTo>
                  <a:pt x="31504" y="26020"/>
                </a:lnTo>
                <a:lnTo>
                  <a:pt x="25027" y="26663"/>
                </a:lnTo>
                <a:lnTo>
                  <a:pt x="18550" y="27675"/>
                </a:lnTo>
                <a:lnTo>
                  <a:pt x="12073" y="28056"/>
                </a:lnTo>
                <a:lnTo>
                  <a:pt x="9143" y="28306"/>
                </a:lnTo>
                <a:lnTo>
                  <a:pt x="6227" y="28056"/>
                </a:lnTo>
                <a:lnTo>
                  <a:pt x="3310" y="27806"/>
                </a:lnTo>
                <a:lnTo>
                  <a:pt x="2167" y="27806"/>
                </a:lnTo>
                <a:lnTo>
                  <a:pt x="0" y="27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bject 142"/>
          <p:cNvSpPr/>
          <p:nvPr/>
        </p:nvSpPr>
        <p:spPr>
          <a:xfrm>
            <a:off x="1636560" y="3803760"/>
            <a:ext cx="12960" cy="17280"/>
          </a:xfrm>
          <a:custGeom>
            <a:avLst/>
            <a:gdLst>
              <a:gd name="textAreaLeft" fmla="*/ 0 w 12960"/>
              <a:gd name="textAreaRight" fmla="*/ 13320 w 12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064" h="17145">
                <a:moveTo>
                  <a:pt x="11692" y="0"/>
                </a:moveTo>
                <a:lnTo>
                  <a:pt x="6857" y="7117"/>
                </a:lnTo>
                <a:lnTo>
                  <a:pt x="1904" y="14225"/>
                </a:lnTo>
                <a:lnTo>
                  <a:pt x="0" y="171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bject 143"/>
          <p:cNvSpPr/>
          <p:nvPr/>
        </p:nvSpPr>
        <p:spPr>
          <a:xfrm>
            <a:off x="1601640" y="383220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285" y="118"/>
                </a:moveTo>
                <a:lnTo>
                  <a:pt x="3547" y="0"/>
                </a:lnTo>
                <a:lnTo>
                  <a:pt x="4571" y="880"/>
                </a:lnTo>
                <a:lnTo>
                  <a:pt x="4690" y="1904"/>
                </a:lnTo>
                <a:lnTo>
                  <a:pt x="4690" y="2916"/>
                </a:lnTo>
                <a:lnTo>
                  <a:pt x="3809" y="3809"/>
                </a:lnTo>
                <a:lnTo>
                  <a:pt x="2535" y="3928"/>
                </a:lnTo>
                <a:lnTo>
                  <a:pt x="1261" y="4059"/>
                </a:lnTo>
                <a:lnTo>
                  <a:pt x="118" y="3166"/>
                </a:lnTo>
                <a:lnTo>
                  <a:pt x="0" y="2154"/>
                </a:lnTo>
                <a:lnTo>
                  <a:pt x="0" y="1142"/>
                </a:lnTo>
                <a:lnTo>
                  <a:pt x="1011" y="249"/>
                </a:lnTo>
                <a:lnTo>
                  <a:pt x="2285" y="11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144"/>
          <p:cNvSpPr/>
          <p:nvPr/>
        </p:nvSpPr>
        <p:spPr>
          <a:xfrm>
            <a:off x="1641600" y="3889440"/>
            <a:ext cx="39600" cy="58680"/>
          </a:xfrm>
          <a:custGeom>
            <a:avLst/>
            <a:gdLst>
              <a:gd name="textAreaLeft" fmla="*/ 0 w 39600"/>
              <a:gd name="textAreaRight" fmla="*/ 39600 w 396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369" h="59054">
                <a:moveTo>
                  <a:pt x="-28580" y="-6731"/>
                </a:moveTo>
                <a:lnTo>
                  <a:pt x="-26165" y="-18736"/>
                </a:lnTo>
                <a:lnTo>
                  <a:pt x="-26767" y="-31438"/>
                </a:lnTo>
                <a:lnTo>
                  <a:pt x="-29460" y="27313"/>
                </a:lnTo>
                <a:lnTo>
                  <a:pt x="30361" y="23240"/>
                </a:lnTo>
                <a:lnTo>
                  <a:pt x="25408" y="18550"/>
                </a:lnTo>
                <a:lnTo>
                  <a:pt x="20455" y="14359"/>
                </a:lnTo>
                <a:lnTo>
                  <a:pt x="15620" y="9905"/>
                </a:lnTo>
                <a:lnTo>
                  <a:pt x="10549" y="5846"/>
                </a:lnTo>
                <a:lnTo>
                  <a:pt x="8263" y="4072"/>
                </a:lnTo>
                <a:lnTo>
                  <a:pt x="5596" y="2666"/>
                </a:lnTo>
                <a:lnTo>
                  <a:pt x="3047" y="1274"/>
                </a:lnTo>
                <a:lnTo>
                  <a:pt x="2167" y="76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bject 145"/>
          <p:cNvSpPr/>
          <p:nvPr/>
        </p:nvSpPr>
        <p:spPr>
          <a:xfrm>
            <a:off x="1673280" y="3922560"/>
            <a:ext cx="1440" cy="22320"/>
          </a:xfrm>
          <a:custGeom>
            <a:avLst/>
            <a:gdLst>
              <a:gd name="textAreaLeft" fmla="*/ 0 w 1440"/>
              <a:gd name="textAreaRight" fmla="*/ 1800 w 1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35" h="21589">
                <a:moveTo>
                  <a:pt x="0" y="21217"/>
                </a:moveTo>
                <a:lnTo>
                  <a:pt x="131" y="12323"/>
                </a:lnTo>
                <a:lnTo>
                  <a:pt x="249" y="3560"/>
                </a:lnTo>
                <a:lnTo>
                  <a:pt x="2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ject 146"/>
          <p:cNvSpPr/>
          <p:nvPr/>
        </p:nvSpPr>
        <p:spPr>
          <a:xfrm>
            <a:off x="1649520" y="3882960"/>
            <a:ext cx="66600" cy="30240"/>
          </a:xfrm>
          <a:custGeom>
            <a:avLst/>
            <a:gdLst>
              <a:gd name="textAreaLeft" fmla="*/ 0 w 66600"/>
              <a:gd name="textAreaRight" fmla="*/ 66960 w 66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6675" h="29210">
                <a:moveTo>
                  <a:pt x="66162" y="20836"/>
                </a:moveTo>
                <a:lnTo>
                  <a:pt x="54955" y="26284"/>
                </a:lnTo>
                <a:lnTo>
                  <a:pt x="42139" y="29063"/>
                </a:lnTo>
                <a:lnTo>
                  <a:pt x="35564" y="27944"/>
                </a:lnTo>
                <a:lnTo>
                  <a:pt x="30098" y="23372"/>
                </a:lnTo>
                <a:lnTo>
                  <a:pt x="24383" y="19943"/>
                </a:lnTo>
                <a:lnTo>
                  <a:pt x="19049" y="16133"/>
                </a:lnTo>
                <a:lnTo>
                  <a:pt x="13466" y="12704"/>
                </a:lnTo>
                <a:lnTo>
                  <a:pt x="8381" y="8762"/>
                </a:lnTo>
                <a:lnTo>
                  <a:pt x="5964" y="6989"/>
                </a:lnTo>
                <a:lnTo>
                  <a:pt x="4059" y="4834"/>
                </a:lnTo>
                <a:lnTo>
                  <a:pt x="2036" y="2666"/>
                </a:lnTo>
                <a:lnTo>
                  <a:pt x="1274" y="190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ject 147"/>
          <p:cNvSpPr/>
          <p:nvPr/>
        </p:nvSpPr>
        <p:spPr>
          <a:xfrm>
            <a:off x="1689120" y="3900600"/>
            <a:ext cx="22320" cy="6120"/>
          </a:xfrm>
          <a:custGeom>
            <a:avLst/>
            <a:gdLst>
              <a:gd name="textAreaLeft" fmla="*/ 0 w 22320"/>
              <a:gd name="textAreaRight" fmla="*/ 22680 w 223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0955" h="5714">
                <a:moveTo>
                  <a:pt x="20442" y="0"/>
                </a:moveTo>
                <a:lnTo>
                  <a:pt x="11929" y="2417"/>
                </a:lnTo>
                <a:lnTo>
                  <a:pt x="3428" y="4703"/>
                </a:lnTo>
                <a:lnTo>
                  <a:pt x="0" y="57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bject 148"/>
          <p:cNvSpPr/>
          <p:nvPr/>
        </p:nvSpPr>
        <p:spPr>
          <a:xfrm>
            <a:off x="1652760" y="389268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3678" y="761"/>
                </a:moveTo>
                <a:lnTo>
                  <a:pt x="4690" y="1523"/>
                </a:lnTo>
                <a:lnTo>
                  <a:pt x="4952" y="2798"/>
                </a:lnTo>
                <a:lnTo>
                  <a:pt x="4309" y="3678"/>
                </a:lnTo>
                <a:lnTo>
                  <a:pt x="3678" y="4571"/>
                </a:lnTo>
                <a:lnTo>
                  <a:pt x="2285" y="4703"/>
                </a:lnTo>
                <a:lnTo>
                  <a:pt x="1261" y="3809"/>
                </a:lnTo>
                <a:lnTo>
                  <a:pt x="249" y="3047"/>
                </a:lnTo>
                <a:lnTo>
                  <a:pt x="0" y="1773"/>
                </a:lnTo>
                <a:lnTo>
                  <a:pt x="630" y="893"/>
                </a:lnTo>
                <a:lnTo>
                  <a:pt x="1261" y="0"/>
                </a:lnTo>
                <a:lnTo>
                  <a:pt x="2666" y="0"/>
                </a:lnTo>
                <a:lnTo>
                  <a:pt x="3678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149"/>
          <p:cNvSpPr/>
          <p:nvPr/>
        </p:nvSpPr>
        <p:spPr>
          <a:xfrm>
            <a:off x="1544760" y="3871800"/>
            <a:ext cx="64800" cy="22320"/>
          </a:xfrm>
          <a:custGeom>
            <a:avLst/>
            <a:gdLst>
              <a:gd name="textAreaLeft" fmla="*/ 0 w 64800"/>
              <a:gd name="textAreaRight" fmla="*/ 65160 w 64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6040" h="22860">
                <a:moveTo>
                  <a:pt x="0" y="10155"/>
                </a:moveTo>
                <a:lnTo>
                  <a:pt x="10333" y="17422"/>
                </a:lnTo>
                <a:lnTo>
                  <a:pt x="22297" y="22202"/>
                </a:lnTo>
                <a:lnTo>
                  <a:pt x="29586" y="22597"/>
                </a:lnTo>
                <a:lnTo>
                  <a:pt x="-30485" y="18787"/>
                </a:lnTo>
                <a:lnTo>
                  <a:pt x="-24638" y="16251"/>
                </a:lnTo>
                <a:lnTo>
                  <a:pt x="-19304" y="13334"/>
                </a:lnTo>
                <a:lnTo>
                  <a:pt x="-13721" y="10667"/>
                </a:lnTo>
                <a:lnTo>
                  <a:pt x="-8518" y="7488"/>
                </a:lnTo>
                <a:lnTo>
                  <a:pt x="-6232" y="6095"/>
                </a:lnTo>
                <a:lnTo>
                  <a:pt x="-4196" y="4309"/>
                </a:lnTo>
                <a:lnTo>
                  <a:pt x="-2041" y="2404"/>
                </a:lnTo>
                <a:lnTo>
                  <a:pt x="-1279" y="1773"/>
                </a:lnTo>
                <a:lnTo>
                  <a:pt x="-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bject 150"/>
          <p:cNvSpPr/>
          <p:nvPr/>
        </p:nvSpPr>
        <p:spPr>
          <a:xfrm>
            <a:off x="1549440" y="38782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4" h="9525">
                <a:moveTo>
                  <a:pt x="0" y="0"/>
                </a:moveTo>
                <a:lnTo>
                  <a:pt x="8132" y="3809"/>
                </a:lnTo>
                <a:lnTo>
                  <a:pt x="16382" y="7619"/>
                </a:lnTo>
                <a:lnTo>
                  <a:pt x="19680" y="91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ject 151"/>
          <p:cNvSpPr/>
          <p:nvPr/>
        </p:nvSpPr>
        <p:spPr>
          <a:xfrm>
            <a:off x="1573200" y="3879720"/>
            <a:ext cx="41400" cy="54000"/>
          </a:xfrm>
          <a:custGeom>
            <a:avLst/>
            <a:gdLst>
              <a:gd name="textAreaLeft" fmla="*/ 0 w 41400"/>
              <a:gd name="textAreaRight" fmla="*/ 41760 w 41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1275" h="53975">
                <a:moveTo>
                  <a:pt x="1859" y="-11816"/>
                </a:moveTo>
                <a:lnTo>
                  <a:pt x="0" y="-24037"/>
                </a:lnTo>
                <a:lnTo>
                  <a:pt x="1194" y="29109"/>
                </a:lnTo>
                <a:lnTo>
                  <a:pt x="4263" y="21716"/>
                </a:lnTo>
                <a:lnTo>
                  <a:pt x="10110" y="18537"/>
                </a:lnTo>
                <a:lnTo>
                  <a:pt x="15063" y="14596"/>
                </a:lnTo>
                <a:lnTo>
                  <a:pt x="20016" y="11167"/>
                </a:lnTo>
                <a:lnTo>
                  <a:pt x="24969" y="7357"/>
                </a:lnTo>
                <a:lnTo>
                  <a:pt x="30171" y="4190"/>
                </a:lnTo>
                <a:lnTo>
                  <a:pt x="32457" y="2785"/>
                </a:lnTo>
                <a:lnTo>
                  <a:pt x="-30412" y="1773"/>
                </a:lnTo>
                <a:lnTo>
                  <a:pt x="-27863" y="761"/>
                </a:lnTo>
                <a:lnTo>
                  <a:pt x="-26983" y="380"/>
                </a:lnTo>
                <a:lnTo>
                  <a:pt x="-248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bject 152"/>
          <p:cNvSpPr/>
          <p:nvPr/>
        </p:nvSpPr>
        <p:spPr>
          <a:xfrm>
            <a:off x="1579680" y="3908520"/>
            <a:ext cx="1440" cy="21960"/>
          </a:xfrm>
          <a:custGeom>
            <a:avLst/>
            <a:gdLst>
              <a:gd name="textAreaLeft" fmla="*/ 0 w 1440"/>
              <a:gd name="textAreaRight" fmla="*/ 1440 w 144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69" h="21589">
                <a:moveTo>
                  <a:pt x="0" y="21585"/>
                </a:moveTo>
                <a:lnTo>
                  <a:pt x="380" y="12572"/>
                </a:lnTo>
                <a:lnTo>
                  <a:pt x="630" y="3560"/>
                </a:lnTo>
                <a:lnTo>
                  <a:pt x="76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bject 153"/>
          <p:cNvSpPr/>
          <p:nvPr/>
        </p:nvSpPr>
        <p:spPr>
          <a:xfrm>
            <a:off x="1598760" y="3879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3560" y="4190"/>
                </a:moveTo>
                <a:lnTo>
                  <a:pt x="2548" y="4821"/>
                </a:lnTo>
                <a:lnTo>
                  <a:pt x="1274" y="4440"/>
                </a:lnTo>
                <a:lnTo>
                  <a:pt x="643" y="3547"/>
                </a:lnTo>
                <a:lnTo>
                  <a:pt x="0" y="2535"/>
                </a:lnTo>
                <a:lnTo>
                  <a:pt x="380" y="1261"/>
                </a:lnTo>
                <a:lnTo>
                  <a:pt x="1405" y="630"/>
                </a:lnTo>
                <a:lnTo>
                  <a:pt x="2417" y="0"/>
                </a:lnTo>
                <a:lnTo>
                  <a:pt x="3691" y="249"/>
                </a:lnTo>
                <a:lnTo>
                  <a:pt x="4322" y="1261"/>
                </a:lnTo>
                <a:lnTo>
                  <a:pt x="4952" y="2285"/>
                </a:lnTo>
                <a:lnTo>
                  <a:pt x="4571" y="3547"/>
                </a:lnTo>
                <a:lnTo>
                  <a:pt x="3560" y="419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154"/>
          <p:cNvSpPr/>
          <p:nvPr/>
        </p:nvSpPr>
        <p:spPr>
          <a:xfrm>
            <a:off x="1689120" y="4167360"/>
            <a:ext cx="295200" cy="214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bject 155"/>
          <p:cNvSpPr/>
          <p:nvPr/>
        </p:nvSpPr>
        <p:spPr>
          <a:xfrm>
            <a:off x="1846440" y="4187880"/>
            <a:ext cx="126720" cy="13644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bject 156"/>
          <p:cNvSpPr/>
          <p:nvPr/>
        </p:nvSpPr>
        <p:spPr>
          <a:xfrm>
            <a:off x="1871640" y="4213080"/>
            <a:ext cx="61920" cy="65160"/>
          </a:xfrm>
          <a:prstGeom prst="rect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bject 157"/>
          <p:cNvSpPr/>
          <p:nvPr/>
        </p:nvSpPr>
        <p:spPr>
          <a:xfrm>
            <a:off x="1239840" y="3757680"/>
            <a:ext cx="1004760" cy="960480"/>
          </a:xfrm>
          <a:prstGeom prst="rect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bject 158"/>
          <p:cNvSpPr/>
          <p:nvPr/>
        </p:nvSpPr>
        <p:spPr>
          <a:xfrm>
            <a:off x="1314360" y="4430880"/>
            <a:ext cx="68400" cy="17280"/>
          </a:xfrm>
          <a:custGeom>
            <a:avLst/>
            <a:gdLst>
              <a:gd name="textAreaLeft" fmla="*/ 0 w 68400"/>
              <a:gd name="textAreaRight" fmla="*/ 68760 w 68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9215" h="18414">
                <a:moveTo>
                  <a:pt x="68829" y="18156"/>
                </a:moveTo>
                <a:lnTo>
                  <a:pt x="65019" y="10418"/>
                </a:lnTo>
                <a:lnTo>
                  <a:pt x="57399" y="6857"/>
                </a:lnTo>
                <a:lnTo>
                  <a:pt x="50160" y="1523"/>
                </a:lnTo>
                <a:lnTo>
                  <a:pt x="43814" y="0"/>
                </a:lnTo>
                <a:lnTo>
                  <a:pt x="37075" y="2036"/>
                </a:lnTo>
                <a:lnTo>
                  <a:pt x="30348" y="2916"/>
                </a:lnTo>
                <a:lnTo>
                  <a:pt x="24002" y="4190"/>
                </a:lnTo>
                <a:lnTo>
                  <a:pt x="17525" y="5202"/>
                </a:lnTo>
                <a:lnTo>
                  <a:pt x="11167" y="6857"/>
                </a:lnTo>
                <a:lnTo>
                  <a:pt x="8381" y="7488"/>
                </a:lnTo>
                <a:lnTo>
                  <a:pt x="5714" y="8631"/>
                </a:lnTo>
                <a:lnTo>
                  <a:pt x="2916" y="9774"/>
                </a:lnTo>
                <a:lnTo>
                  <a:pt x="1904" y="10155"/>
                </a:lnTo>
                <a:lnTo>
                  <a:pt x="0" y="11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159"/>
          <p:cNvSpPr/>
          <p:nvPr/>
        </p:nvSpPr>
        <p:spPr>
          <a:xfrm>
            <a:off x="1360440" y="4437000"/>
            <a:ext cx="15840" cy="12600"/>
          </a:xfrm>
          <a:custGeom>
            <a:avLst/>
            <a:gdLst>
              <a:gd name="textAreaLeft" fmla="*/ 0 w 15840"/>
              <a:gd name="textAreaRight" fmla="*/ 16200 w 15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509" h="13335">
                <a:moveTo>
                  <a:pt x="16382" y="12822"/>
                </a:moveTo>
                <a:lnTo>
                  <a:pt x="9524" y="7488"/>
                </a:lnTo>
                <a:lnTo>
                  <a:pt x="2785" y="215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bject 160"/>
          <p:cNvSpPr/>
          <p:nvPr/>
        </p:nvSpPr>
        <p:spPr>
          <a:xfrm>
            <a:off x="1314360" y="4394160"/>
            <a:ext cx="58680" cy="38160"/>
          </a:xfrm>
          <a:custGeom>
            <a:avLst/>
            <a:gdLst>
              <a:gd name="textAreaLeft" fmla="*/ 0 w 58680"/>
              <a:gd name="textAreaRight" fmla="*/ 59040 w 58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8419" h="38735">
                <a:moveTo>
                  <a:pt x="-7743" y="0"/>
                </a:moveTo>
                <a:lnTo>
                  <a:pt x="-7493" y="8631"/>
                </a:lnTo>
                <a:lnTo>
                  <a:pt x="-12578" y="15371"/>
                </a:lnTo>
                <a:lnTo>
                  <a:pt x="-16506" y="23372"/>
                </a:lnTo>
                <a:lnTo>
                  <a:pt x="-21459" y="27681"/>
                </a:lnTo>
                <a:lnTo>
                  <a:pt x="-28317" y="29087"/>
                </a:lnTo>
                <a:lnTo>
                  <a:pt x="30860" y="31373"/>
                </a:lnTo>
                <a:lnTo>
                  <a:pt x="24515" y="-32258"/>
                </a:lnTo>
                <a:lnTo>
                  <a:pt x="18419" y="-30235"/>
                </a:lnTo>
                <a:lnTo>
                  <a:pt x="12073" y="-28580"/>
                </a:lnTo>
                <a:lnTo>
                  <a:pt x="9275" y="-27949"/>
                </a:lnTo>
                <a:lnTo>
                  <a:pt x="6358" y="-27686"/>
                </a:lnTo>
                <a:lnTo>
                  <a:pt x="3428" y="-27305"/>
                </a:lnTo>
                <a:lnTo>
                  <a:pt x="2285" y="-27187"/>
                </a:lnTo>
                <a:lnTo>
                  <a:pt x="0" y="-274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bject 161"/>
          <p:cNvSpPr/>
          <p:nvPr/>
        </p:nvSpPr>
        <p:spPr>
          <a:xfrm>
            <a:off x="1357200" y="4395960"/>
            <a:ext cx="9720" cy="18720"/>
          </a:xfrm>
          <a:custGeom>
            <a:avLst/>
            <a:gdLst>
              <a:gd name="textAreaLeft" fmla="*/ 0 w 9720"/>
              <a:gd name="textAreaRight" fmla="*/ 10080 w 9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8890" h="19050">
                <a:moveTo>
                  <a:pt x="8500" y="0"/>
                </a:moveTo>
                <a:lnTo>
                  <a:pt x="4952" y="8000"/>
                </a:lnTo>
                <a:lnTo>
                  <a:pt x="1392" y="15870"/>
                </a:lnTo>
                <a:lnTo>
                  <a:pt x="0" y="190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ject 162"/>
          <p:cNvSpPr/>
          <p:nvPr/>
        </p:nvSpPr>
        <p:spPr>
          <a:xfrm>
            <a:off x="1325520" y="44323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036" y="262"/>
                </a:moveTo>
                <a:lnTo>
                  <a:pt x="3297" y="0"/>
                </a:lnTo>
                <a:lnTo>
                  <a:pt x="4440" y="512"/>
                </a:lnTo>
                <a:lnTo>
                  <a:pt x="4703" y="1523"/>
                </a:lnTo>
                <a:lnTo>
                  <a:pt x="4952" y="2548"/>
                </a:lnTo>
                <a:lnTo>
                  <a:pt x="4190" y="3691"/>
                </a:lnTo>
                <a:lnTo>
                  <a:pt x="2916" y="3941"/>
                </a:lnTo>
                <a:lnTo>
                  <a:pt x="1655" y="4190"/>
                </a:lnTo>
                <a:lnTo>
                  <a:pt x="512" y="3691"/>
                </a:lnTo>
                <a:lnTo>
                  <a:pt x="249" y="2666"/>
                </a:lnTo>
                <a:lnTo>
                  <a:pt x="0" y="1655"/>
                </a:lnTo>
                <a:lnTo>
                  <a:pt x="761" y="512"/>
                </a:lnTo>
                <a:lnTo>
                  <a:pt x="2036" y="26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bject 163"/>
          <p:cNvSpPr/>
          <p:nvPr/>
        </p:nvSpPr>
        <p:spPr>
          <a:xfrm>
            <a:off x="1314360" y="4529160"/>
            <a:ext cx="42840" cy="57240"/>
          </a:xfrm>
          <a:custGeom>
            <a:avLst/>
            <a:gdLst>
              <a:gd name="textAreaLeft" fmla="*/ 0 w 42840"/>
              <a:gd name="textAreaRight" fmla="*/ 43200 w 42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544" h="56514">
                <a:moveTo>
                  <a:pt x="-25282" y="-9030"/>
                </a:moveTo>
                <a:lnTo>
                  <a:pt x="-23496" y="-21010"/>
                </a:lnTo>
                <a:lnTo>
                  <a:pt x="-24814" y="31950"/>
                </a:lnTo>
                <a:lnTo>
                  <a:pt x="-27949" y="25145"/>
                </a:lnTo>
                <a:lnTo>
                  <a:pt x="31622" y="21454"/>
                </a:lnTo>
                <a:lnTo>
                  <a:pt x="26538" y="17013"/>
                </a:lnTo>
                <a:lnTo>
                  <a:pt x="21335" y="13072"/>
                </a:lnTo>
                <a:lnTo>
                  <a:pt x="16251" y="8881"/>
                </a:lnTo>
                <a:lnTo>
                  <a:pt x="10917" y="5333"/>
                </a:lnTo>
                <a:lnTo>
                  <a:pt x="8500" y="3678"/>
                </a:lnTo>
                <a:lnTo>
                  <a:pt x="5833" y="2404"/>
                </a:lnTo>
                <a:lnTo>
                  <a:pt x="3166" y="1142"/>
                </a:lnTo>
                <a:lnTo>
                  <a:pt x="2154" y="6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164"/>
          <p:cNvSpPr/>
          <p:nvPr/>
        </p:nvSpPr>
        <p:spPr>
          <a:xfrm>
            <a:off x="1347840" y="4560840"/>
            <a:ext cx="1440" cy="22320"/>
          </a:xfrm>
          <a:custGeom>
            <a:avLst/>
            <a:gdLst>
              <a:gd name="textAreaLeft" fmla="*/ 0 w 1440"/>
              <a:gd name="textAreaRight" fmla="*/ 1440 w 1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69" h="21589">
                <a:moveTo>
                  <a:pt x="1011" y="21204"/>
                </a:moveTo>
                <a:lnTo>
                  <a:pt x="630" y="12310"/>
                </a:lnTo>
                <a:lnTo>
                  <a:pt x="249" y="35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ject 165"/>
          <p:cNvSpPr/>
          <p:nvPr/>
        </p:nvSpPr>
        <p:spPr>
          <a:xfrm>
            <a:off x="1320840" y="4522680"/>
            <a:ext cx="68400" cy="27000"/>
          </a:xfrm>
          <a:custGeom>
            <a:avLst/>
            <a:gdLst>
              <a:gd name="textAreaLeft" fmla="*/ 0 w 68400"/>
              <a:gd name="textAreaRight" fmla="*/ 68760 w 684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7944" h="26670">
                <a:moveTo>
                  <a:pt x="67436" y="16882"/>
                </a:moveTo>
                <a:lnTo>
                  <a:pt x="56531" y="23010"/>
                </a:lnTo>
                <a:lnTo>
                  <a:pt x="43931" y="26467"/>
                </a:lnTo>
                <a:lnTo>
                  <a:pt x="37219" y="25907"/>
                </a:lnTo>
                <a:lnTo>
                  <a:pt x="31504" y="21585"/>
                </a:lnTo>
                <a:lnTo>
                  <a:pt x="25526" y="18406"/>
                </a:lnTo>
                <a:lnTo>
                  <a:pt x="20074" y="14977"/>
                </a:lnTo>
                <a:lnTo>
                  <a:pt x="14359" y="11810"/>
                </a:lnTo>
                <a:lnTo>
                  <a:pt x="8894" y="8119"/>
                </a:lnTo>
                <a:lnTo>
                  <a:pt x="6476" y="6595"/>
                </a:lnTo>
                <a:lnTo>
                  <a:pt x="4322" y="4571"/>
                </a:lnTo>
                <a:lnTo>
                  <a:pt x="2285" y="2535"/>
                </a:lnTo>
                <a:lnTo>
                  <a:pt x="1405" y="177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ject 166"/>
          <p:cNvSpPr/>
          <p:nvPr/>
        </p:nvSpPr>
        <p:spPr>
          <a:xfrm>
            <a:off x="1363680" y="4537080"/>
            <a:ext cx="19080" cy="6480"/>
          </a:xfrm>
          <a:custGeom>
            <a:avLst/>
            <a:gdLst>
              <a:gd name="textAreaLeft" fmla="*/ 0 w 19080"/>
              <a:gd name="textAreaRight" fmla="*/ 19440 w 190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20074" y="0"/>
                </a:moveTo>
                <a:lnTo>
                  <a:pt x="11692" y="2798"/>
                </a:lnTo>
                <a:lnTo>
                  <a:pt x="3310" y="5714"/>
                </a:lnTo>
                <a:lnTo>
                  <a:pt x="0" y="6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bject 167"/>
          <p:cNvSpPr/>
          <p:nvPr/>
        </p:nvSpPr>
        <p:spPr>
          <a:xfrm>
            <a:off x="1325520" y="45324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560" y="761"/>
                </a:moveTo>
                <a:lnTo>
                  <a:pt x="4571" y="1523"/>
                </a:lnTo>
                <a:lnTo>
                  <a:pt x="4952" y="2785"/>
                </a:lnTo>
                <a:lnTo>
                  <a:pt x="4322" y="3678"/>
                </a:lnTo>
                <a:lnTo>
                  <a:pt x="3809" y="4571"/>
                </a:lnTo>
                <a:lnTo>
                  <a:pt x="2417" y="4821"/>
                </a:lnTo>
                <a:lnTo>
                  <a:pt x="1392" y="4059"/>
                </a:lnTo>
                <a:lnTo>
                  <a:pt x="249" y="3297"/>
                </a:lnTo>
                <a:lnTo>
                  <a:pt x="0" y="2023"/>
                </a:lnTo>
                <a:lnTo>
                  <a:pt x="512" y="1142"/>
                </a:lnTo>
                <a:lnTo>
                  <a:pt x="1142" y="249"/>
                </a:lnTo>
                <a:lnTo>
                  <a:pt x="2535" y="0"/>
                </a:lnTo>
                <a:lnTo>
                  <a:pt x="3560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168"/>
          <p:cNvSpPr/>
          <p:nvPr/>
        </p:nvSpPr>
        <p:spPr>
          <a:xfrm>
            <a:off x="2039760" y="3846600"/>
            <a:ext cx="17640" cy="69840"/>
          </a:xfrm>
          <a:custGeom>
            <a:avLst/>
            <a:gdLst>
              <a:gd name="textAreaLeft" fmla="*/ 0 w 17640"/>
              <a:gd name="textAreaRight" fmla="*/ 18000 w 176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144" h="69850">
                <a:moveTo>
                  <a:pt x="16895" y="0"/>
                </a:moveTo>
                <a:lnTo>
                  <a:pt x="7950" y="8745"/>
                </a:lnTo>
                <a:lnTo>
                  <a:pt x="1203" y="19964"/>
                </a:lnTo>
                <a:lnTo>
                  <a:pt x="0" y="26538"/>
                </a:lnTo>
                <a:lnTo>
                  <a:pt x="2535" y="33146"/>
                </a:lnTo>
                <a:lnTo>
                  <a:pt x="3941" y="39742"/>
                </a:lnTo>
                <a:lnTo>
                  <a:pt x="5714" y="46100"/>
                </a:lnTo>
                <a:lnTo>
                  <a:pt x="7238" y="52446"/>
                </a:lnTo>
                <a:lnTo>
                  <a:pt x="9275" y="58542"/>
                </a:lnTo>
                <a:lnTo>
                  <a:pt x="10155" y="61340"/>
                </a:lnTo>
                <a:lnTo>
                  <a:pt x="11429" y="64007"/>
                </a:lnTo>
                <a:lnTo>
                  <a:pt x="12822" y="66543"/>
                </a:lnTo>
                <a:lnTo>
                  <a:pt x="13334" y="67555"/>
                </a:lnTo>
                <a:lnTo>
                  <a:pt x="14727" y="693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169"/>
          <p:cNvSpPr/>
          <p:nvPr/>
        </p:nvSpPr>
        <p:spPr>
          <a:xfrm>
            <a:off x="2048040" y="3852720"/>
            <a:ext cx="10800" cy="17640"/>
          </a:xfrm>
          <a:custGeom>
            <a:avLst/>
            <a:gdLst>
              <a:gd name="textAreaLeft" fmla="*/ 0 w 10800"/>
              <a:gd name="textAreaRight" fmla="*/ 11160 w 10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064" h="17779">
                <a:moveTo>
                  <a:pt x="12060" y="0"/>
                </a:moveTo>
                <a:lnTo>
                  <a:pt x="6989" y="7238"/>
                </a:lnTo>
                <a:lnTo>
                  <a:pt x="2036" y="14477"/>
                </a:lnTo>
                <a:lnTo>
                  <a:pt x="0" y="174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170"/>
          <p:cNvSpPr/>
          <p:nvPr/>
        </p:nvSpPr>
        <p:spPr>
          <a:xfrm>
            <a:off x="2001960" y="3862440"/>
            <a:ext cx="44280" cy="54000"/>
          </a:xfrm>
          <a:custGeom>
            <a:avLst/>
            <a:gdLst>
              <a:gd name="textAreaLeft" fmla="*/ 0 w 44280"/>
              <a:gd name="textAreaRight" fmla="*/ 44640 w 44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814" h="54610">
                <a:moveTo>
                  <a:pt x="0" y="0"/>
                </a:moveTo>
                <a:lnTo>
                  <a:pt x="12093" y="1603"/>
                </a:lnTo>
                <a:lnTo>
                  <a:pt x="23952" y="6304"/>
                </a:lnTo>
                <a:lnTo>
                  <a:pt x="29455" y="11180"/>
                </a:lnTo>
                <a:lnTo>
                  <a:pt x="31491" y="17906"/>
                </a:lnTo>
                <a:lnTo>
                  <a:pt x="-31247" y="24134"/>
                </a:lnTo>
                <a:lnTo>
                  <a:pt x="-28961" y="30230"/>
                </a:lnTo>
                <a:lnTo>
                  <a:pt x="-26294" y="-29342"/>
                </a:lnTo>
                <a:lnTo>
                  <a:pt x="-24270" y="-23246"/>
                </a:lnTo>
                <a:lnTo>
                  <a:pt x="-23377" y="-20447"/>
                </a:lnTo>
                <a:lnTo>
                  <a:pt x="-22865" y="-17531"/>
                </a:lnTo>
                <a:lnTo>
                  <a:pt x="-22365" y="-14732"/>
                </a:lnTo>
                <a:lnTo>
                  <a:pt x="-22103" y="-13589"/>
                </a:lnTo>
                <a:lnTo>
                  <a:pt x="-22103" y="-113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171"/>
          <p:cNvSpPr/>
          <p:nvPr/>
        </p:nvSpPr>
        <p:spPr>
          <a:xfrm>
            <a:off x="2004840" y="3868560"/>
            <a:ext cx="19080" cy="6480"/>
          </a:xfrm>
          <a:custGeom>
            <a:avLst/>
            <a:gdLst>
              <a:gd name="textAreaLeft" fmla="*/ 0 w 19080"/>
              <a:gd name="textAreaRight" fmla="*/ 19440 w 190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0" y="0"/>
                </a:moveTo>
                <a:lnTo>
                  <a:pt x="8381" y="2798"/>
                </a:lnTo>
                <a:lnTo>
                  <a:pt x="16763" y="5583"/>
                </a:lnTo>
                <a:lnTo>
                  <a:pt x="20061" y="6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172"/>
          <p:cNvSpPr/>
          <p:nvPr/>
        </p:nvSpPr>
        <p:spPr>
          <a:xfrm>
            <a:off x="2044800" y="39006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80" y="3166"/>
                </a:moveTo>
                <a:lnTo>
                  <a:pt x="0" y="1904"/>
                </a:lnTo>
                <a:lnTo>
                  <a:pt x="512" y="630"/>
                </a:lnTo>
                <a:lnTo>
                  <a:pt x="1523" y="249"/>
                </a:lnTo>
                <a:lnTo>
                  <a:pt x="2535" y="0"/>
                </a:lnTo>
                <a:lnTo>
                  <a:pt x="3678" y="630"/>
                </a:lnTo>
                <a:lnTo>
                  <a:pt x="4059" y="1904"/>
                </a:lnTo>
                <a:lnTo>
                  <a:pt x="4571" y="3047"/>
                </a:lnTo>
                <a:lnTo>
                  <a:pt x="4059" y="4309"/>
                </a:lnTo>
                <a:lnTo>
                  <a:pt x="2916" y="4690"/>
                </a:lnTo>
                <a:lnTo>
                  <a:pt x="1904" y="5071"/>
                </a:lnTo>
                <a:lnTo>
                  <a:pt x="761" y="4309"/>
                </a:lnTo>
                <a:lnTo>
                  <a:pt x="380" y="31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173"/>
          <p:cNvSpPr/>
          <p:nvPr/>
        </p:nvSpPr>
        <p:spPr>
          <a:xfrm>
            <a:off x="3290760" y="3056040"/>
            <a:ext cx="1478160" cy="20160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174"/>
          <p:cNvSpPr/>
          <p:nvPr/>
        </p:nvSpPr>
        <p:spPr>
          <a:xfrm>
            <a:off x="3290760" y="2809800"/>
            <a:ext cx="1478160" cy="203400"/>
          </a:xfrm>
          <a:prstGeom prst="rect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175"/>
          <p:cNvSpPr/>
          <p:nvPr/>
        </p:nvSpPr>
        <p:spPr>
          <a:xfrm>
            <a:off x="3782880" y="2809800"/>
            <a:ext cx="63720" cy="203400"/>
          </a:xfrm>
          <a:prstGeom prst="rect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176"/>
          <p:cNvSpPr/>
          <p:nvPr/>
        </p:nvSpPr>
        <p:spPr>
          <a:xfrm>
            <a:off x="3979800" y="2809800"/>
            <a:ext cx="63720" cy="203400"/>
          </a:xfrm>
          <a:prstGeom prst="rect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177"/>
          <p:cNvSpPr/>
          <p:nvPr/>
        </p:nvSpPr>
        <p:spPr>
          <a:xfrm>
            <a:off x="3879720" y="2809800"/>
            <a:ext cx="32040" cy="203400"/>
          </a:xfrm>
          <a:prstGeom prst="rect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178"/>
          <p:cNvSpPr/>
          <p:nvPr/>
        </p:nvSpPr>
        <p:spPr>
          <a:xfrm>
            <a:off x="4175280" y="2809800"/>
            <a:ext cx="33120" cy="203400"/>
          </a:xfrm>
          <a:prstGeom prst="rect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179"/>
          <p:cNvSpPr/>
          <p:nvPr/>
        </p:nvSpPr>
        <p:spPr>
          <a:xfrm>
            <a:off x="4243320" y="2809800"/>
            <a:ext cx="63720" cy="20340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180"/>
          <p:cNvSpPr/>
          <p:nvPr/>
        </p:nvSpPr>
        <p:spPr>
          <a:xfrm>
            <a:off x="4438800" y="2809800"/>
            <a:ext cx="31680" cy="203400"/>
          </a:xfrm>
          <a:prstGeom prst="rect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181"/>
          <p:cNvSpPr/>
          <p:nvPr/>
        </p:nvSpPr>
        <p:spPr>
          <a:xfrm>
            <a:off x="4373640" y="2809800"/>
            <a:ext cx="31680" cy="203400"/>
          </a:xfrm>
          <a:prstGeom prst="rect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182"/>
          <p:cNvSpPr/>
          <p:nvPr/>
        </p:nvSpPr>
        <p:spPr>
          <a:xfrm>
            <a:off x="3716280" y="2809800"/>
            <a:ext cx="31680" cy="203400"/>
          </a:xfrm>
          <a:prstGeom prst="rect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183"/>
          <p:cNvSpPr/>
          <p:nvPr/>
        </p:nvSpPr>
        <p:spPr>
          <a:xfrm>
            <a:off x="4110120" y="2809800"/>
            <a:ext cx="31680" cy="203400"/>
          </a:xfrm>
          <a:prstGeom prst="rect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184"/>
          <p:cNvSpPr/>
          <p:nvPr/>
        </p:nvSpPr>
        <p:spPr>
          <a:xfrm>
            <a:off x="3486240" y="2809800"/>
            <a:ext cx="31680" cy="203400"/>
          </a:xfrm>
          <a:prstGeom prst="rect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185"/>
          <p:cNvSpPr/>
          <p:nvPr/>
        </p:nvSpPr>
        <p:spPr>
          <a:xfrm>
            <a:off x="2368440" y="2438280"/>
            <a:ext cx="803520" cy="454320"/>
          </a:xfrm>
          <a:custGeom>
            <a:avLst/>
            <a:gdLst>
              <a:gd name="textAreaLeft" fmla="*/ 0 w 803520"/>
              <a:gd name="textAreaRight" fmla="*/ 803880 w 8035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803275" h="454025">
                <a:moveTo>
                  <a:pt x="688983" y="397390"/>
                </a:moveTo>
                <a:lnTo>
                  <a:pt x="661034" y="447293"/>
                </a:lnTo>
                <a:lnTo>
                  <a:pt x="802782" y="453877"/>
                </a:lnTo>
                <a:lnTo>
                  <a:pt x="768684" y="403585"/>
                </a:lnTo>
                <a:lnTo>
                  <a:pt x="700034" y="403585"/>
                </a:lnTo>
                <a:lnTo>
                  <a:pt x="688983" y="397390"/>
                </a:lnTo>
                <a:close/>
              </a:path>
              <a:path w="803275" h="454025">
                <a:moveTo>
                  <a:pt x="695172" y="386340"/>
                </a:moveTo>
                <a:lnTo>
                  <a:pt x="688983" y="397390"/>
                </a:lnTo>
                <a:lnTo>
                  <a:pt x="700034" y="403585"/>
                </a:lnTo>
                <a:lnTo>
                  <a:pt x="706252" y="392551"/>
                </a:lnTo>
                <a:lnTo>
                  <a:pt x="695172" y="386340"/>
                </a:lnTo>
                <a:close/>
              </a:path>
              <a:path w="803275" h="454025">
                <a:moveTo>
                  <a:pt x="723137" y="336407"/>
                </a:moveTo>
                <a:lnTo>
                  <a:pt x="695172" y="386340"/>
                </a:lnTo>
                <a:lnTo>
                  <a:pt x="706252" y="392551"/>
                </a:lnTo>
                <a:lnTo>
                  <a:pt x="700034" y="403585"/>
                </a:lnTo>
                <a:lnTo>
                  <a:pt x="768684" y="403585"/>
                </a:lnTo>
                <a:lnTo>
                  <a:pt x="723137" y="336407"/>
                </a:lnTo>
                <a:close/>
              </a:path>
              <a:path w="803275" h="454025">
                <a:moveTo>
                  <a:pt x="6095" y="0"/>
                </a:moveTo>
                <a:lnTo>
                  <a:pt x="0" y="11155"/>
                </a:lnTo>
                <a:lnTo>
                  <a:pt x="688983" y="397390"/>
                </a:lnTo>
                <a:lnTo>
                  <a:pt x="695172" y="386340"/>
                </a:lnTo>
                <a:lnTo>
                  <a:pt x="60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186"/>
          <p:cNvSpPr/>
          <p:nvPr/>
        </p:nvSpPr>
        <p:spPr>
          <a:xfrm>
            <a:off x="2367000" y="2684520"/>
            <a:ext cx="804960" cy="900000"/>
          </a:xfrm>
          <a:custGeom>
            <a:avLst/>
            <a:gdLst>
              <a:gd name="textAreaLeft" fmla="*/ 0 w 804960"/>
              <a:gd name="textAreaRight" fmla="*/ 805320 w 80496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804544" h="901064">
                <a:moveTo>
                  <a:pt x="715224" y="810446"/>
                </a:moveTo>
                <a:lnTo>
                  <a:pt x="672596" y="848502"/>
                </a:lnTo>
                <a:lnTo>
                  <a:pt x="804437" y="900958"/>
                </a:lnTo>
                <a:lnTo>
                  <a:pt x="782499" y="819911"/>
                </a:lnTo>
                <a:lnTo>
                  <a:pt x="723665" y="819911"/>
                </a:lnTo>
                <a:lnTo>
                  <a:pt x="715224" y="810446"/>
                </a:lnTo>
                <a:close/>
              </a:path>
              <a:path w="804544" h="901064">
                <a:moveTo>
                  <a:pt x="724740" y="801952"/>
                </a:moveTo>
                <a:lnTo>
                  <a:pt x="715224" y="810446"/>
                </a:lnTo>
                <a:lnTo>
                  <a:pt x="723665" y="819911"/>
                </a:lnTo>
                <a:lnTo>
                  <a:pt x="733175" y="811408"/>
                </a:lnTo>
                <a:lnTo>
                  <a:pt x="724740" y="801952"/>
                </a:lnTo>
                <a:close/>
              </a:path>
              <a:path w="804544" h="901064">
                <a:moveTo>
                  <a:pt x="767343" y="763920"/>
                </a:moveTo>
                <a:lnTo>
                  <a:pt x="724740" y="801952"/>
                </a:lnTo>
                <a:lnTo>
                  <a:pt x="733175" y="811408"/>
                </a:lnTo>
                <a:lnTo>
                  <a:pt x="723665" y="819911"/>
                </a:lnTo>
                <a:lnTo>
                  <a:pt x="782499" y="819911"/>
                </a:lnTo>
                <a:lnTo>
                  <a:pt x="767343" y="763920"/>
                </a:lnTo>
                <a:close/>
              </a:path>
              <a:path w="804544" h="901064">
                <a:moveTo>
                  <a:pt x="9406" y="0"/>
                </a:moveTo>
                <a:lnTo>
                  <a:pt x="0" y="8381"/>
                </a:lnTo>
                <a:lnTo>
                  <a:pt x="715224" y="810446"/>
                </a:lnTo>
                <a:lnTo>
                  <a:pt x="724740" y="801952"/>
                </a:lnTo>
                <a:lnTo>
                  <a:pt x="94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187"/>
          <p:cNvSpPr/>
          <p:nvPr/>
        </p:nvSpPr>
        <p:spPr>
          <a:xfrm>
            <a:off x="3290760" y="3747960"/>
            <a:ext cx="1478160" cy="200160"/>
          </a:xfrm>
          <a:prstGeom prst="rect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188"/>
          <p:cNvSpPr/>
          <p:nvPr/>
        </p:nvSpPr>
        <p:spPr>
          <a:xfrm>
            <a:off x="3782880" y="3747960"/>
            <a:ext cx="30240" cy="200160"/>
          </a:xfrm>
          <a:prstGeom prst="rect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189"/>
          <p:cNvSpPr/>
          <p:nvPr/>
        </p:nvSpPr>
        <p:spPr>
          <a:xfrm>
            <a:off x="4275000" y="3747960"/>
            <a:ext cx="32040" cy="200160"/>
          </a:xfrm>
          <a:prstGeom prst="rect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190"/>
          <p:cNvSpPr/>
          <p:nvPr/>
        </p:nvSpPr>
        <p:spPr>
          <a:xfrm>
            <a:off x="4438800" y="3747960"/>
            <a:ext cx="31680" cy="200160"/>
          </a:xfrm>
          <a:prstGeom prst="rect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191"/>
          <p:cNvSpPr/>
          <p:nvPr/>
        </p:nvSpPr>
        <p:spPr>
          <a:xfrm>
            <a:off x="4373640" y="3747960"/>
            <a:ext cx="31680" cy="200160"/>
          </a:xfrm>
          <a:prstGeom prst="rect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192"/>
          <p:cNvSpPr/>
          <p:nvPr/>
        </p:nvSpPr>
        <p:spPr>
          <a:xfrm>
            <a:off x="3290760" y="3503520"/>
            <a:ext cx="1478160" cy="201600"/>
          </a:xfrm>
          <a:prstGeom prst="rect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193"/>
          <p:cNvSpPr/>
          <p:nvPr/>
        </p:nvSpPr>
        <p:spPr>
          <a:xfrm>
            <a:off x="3521160" y="3503520"/>
            <a:ext cx="63360" cy="201600"/>
          </a:xfrm>
          <a:prstGeom prst="rect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194"/>
          <p:cNvSpPr/>
          <p:nvPr/>
        </p:nvSpPr>
        <p:spPr>
          <a:xfrm>
            <a:off x="3979800" y="3503520"/>
            <a:ext cx="63720" cy="201600"/>
          </a:xfrm>
          <a:prstGeom prst="rect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195"/>
          <p:cNvSpPr/>
          <p:nvPr/>
        </p:nvSpPr>
        <p:spPr>
          <a:xfrm>
            <a:off x="3782880" y="3503520"/>
            <a:ext cx="30240" cy="201600"/>
          </a:xfrm>
          <a:prstGeom prst="rect">
            <a:avLst/>
          </a:prstGeom>
          <a:blipFill rotWithShape="0">
            <a:blip r:embed="rId4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196"/>
          <p:cNvSpPr/>
          <p:nvPr/>
        </p:nvSpPr>
        <p:spPr>
          <a:xfrm>
            <a:off x="4143240" y="3503520"/>
            <a:ext cx="65160" cy="201600"/>
          </a:xfrm>
          <a:prstGeom prst="rect">
            <a:avLst/>
          </a:pr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197"/>
          <p:cNvSpPr/>
          <p:nvPr/>
        </p:nvSpPr>
        <p:spPr>
          <a:xfrm>
            <a:off x="4275000" y="3503520"/>
            <a:ext cx="32040" cy="201600"/>
          </a:xfrm>
          <a:prstGeom prst="rect">
            <a:avLst/>
          </a:prstGeom>
          <a:blipFill rotWithShape="0">
            <a:blip r:embed="rId4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198"/>
          <p:cNvSpPr/>
          <p:nvPr/>
        </p:nvSpPr>
        <p:spPr>
          <a:xfrm>
            <a:off x="4438800" y="3503520"/>
            <a:ext cx="31680" cy="201600"/>
          </a:xfrm>
          <a:prstGeom prst="rect">
            <a:avLst/>
          </a:pr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199"/>
          <p:cNvSpPr/>
          <p:nvPr/>
        </p:nvSpPr>
        <p:spPr>
          <a:xfrm>
            <a:off x="4373640" y="3503520"/>
            <a:ext cx="31680" cy="201600"/>
          </a:xfrm>
          <a:prstGeom prst="rect">
            <a:avLst/>
          </a:prstGeom>
          <a:blipFill rotWithShape="0">
            <a:blip r:embed="rId4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bject 200"/>
          <p:cNvSpPr/>
          <p:nvPr/>
        </p:nvSpPr>
        <p:spPr>
          <a:xfrm>
            <a:off x="3683160" y="3503520"/>
            <a:ext cx="31680" cy="201600"/>
          </a:xfrm>
          <a:prstGeom prst="rect">
            <a:avLst/>
          </a:pr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201"/>
          <p:cNvSpPr/>
          <p:nvPr/>
        </p:nvSpPr>
        <p:spPr>
          <a:xfrm>
            <a:off x="4505400" y="3503520"/>
            <a:ext cx="31680" cy="201600"/>
          </a:xfrm>
          <a:prstGeom prst="rect">
            <a:avLst/>
          </a:prstGeom>
          <a:blipFill rotWithShape="0">
            <a:blip r:embed="rId4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202"/>
          <p:cNvSpPr/>
          <p:nvPr/>
        </p:nvSpPr>
        <p:spPr>
          <a:xfrm>
            <a:off x="3846600" y="3503520"/>
            <a:ext cx="31680" cy="201600"/>
          </a:xfrm>
          <a:prstGeom prst="rect">
            <a:avLst/>
          </a:pr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203"/>
          <p:cNvSpPr/>
          <p:nvPr/>
        </p:nvSpPr>
        <p:spPr>
          <a:xfrm>
            <a:off x="2370240" y="3886200"/>
            <a:ext cx="801720" cy="272880"/>
          </a:xfrm>
          <a:custGeom>
            <a:avLst/>
            <a:gdLst>
              <a:gd name="textAreaLeft" fmla="*/ 0 w 801720"/>
              <a:gd name="textAreaRight" fmla="*/ 802080 w 8017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802005" h="272414">
                <a:moveTo>
                  <a:pt x="678224" y="54646"/>
                </a:moveTo>
                <a:lnTo>
                  <a:pt x="0" y="260222"/>
                </a:lnTo>
                <a:lnTo>
                  <a:pt x="3678" y="272283"/>
                </a:lnTo>
                <a:lnTo>
                  <a:pt x="681918" y="66834"/>
                </a:lnTo>
                <a:lnTo>
                  <a:pt x="678224" y="54646"/>
                </a:lnTo>
                <a:close/>
              </a:path>
              <a:path w="802005" h="272414">
                <a:moveTo>
                  <a:pt x="773071" y="50922"/>
                </a:moveTo>
                <a:lnTo>
                  <a:pt x="690509" y="50922"/>
                </a:lnTo>
                <a:lnTo>
                  <a:pt x="694197" y="63114"/>
                </a:lnTo>
                <a:lnTo>
                  <a:pt x="681918" y="66834"/>
                </a:lnTo>
                <a:lnTo>
                  <a:pt x="698494" y="121538"/>
                </a:lnTo>
                <a:lnTo>
                  <a:pt x="773071" y="50922"/>
                </a:lnTo>
                <a:close/>
              </a:path>
              <a:path w="802005" h="272414">
                <a:moveTo>
                  <a:pt x="690509" y="50922"/>
                </a:moveTo>
                <a:lnTo>
                  <a:pt x="678224" y="54646"/>
                </a:lnTo>
                <a:lnTo>
                  <a:pt x="681918" y="66834"/>
                </a:lnTo>
                <a:lnTo>
                  <a:pt x="694197" y="63114"/>
                </a:lnTo>
                <a:lnTo>
                  <a:pt x="690509" y="50922"/>
                </a:lnTo>
                <a:close/>
              </a:path>
              <a:path w="802005" h="272414">
                <a:moveTo>
                  <a:pt x="661665" y="0"/>
                </a:moveTo>
                <a:lnTo>
                  <a:pt x="678224" y="54646"/>
                </a:lnTo>
                <a:lnTo>
                  <a:pt x="690509" y="50922"/>
                </a:lnTo>
                <a:lnTo>
                  <a:pt x="773071" y="50922"/>
                </a:lnTo>
                <a:lnTo>
                  <a:pt x="801639" y="23871"/>
                </a:lnTo>
                <a:lnTo>
                  <a:pt x="6616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204"/>
          <p:cNvSpPr/>
          <p:nvPr/>
        </p:nvSpPr>
        <p:spPr>
          <a:xfrm>
            <a:off x="2368440" y="3666960"/>
            <a:ext cx="803520" cy="490680"/>
          </a:xfrm>
          <a:custGeom>
            <a:avLst/>
            <a:gdLst>
              <a:gd name="textAreaLeft" fmla="*/ 0 w 803520"/>
              <a:gd name="textAreaRight" fmla="*/ 803880 w 8035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03275" h="491489">
                <a:moveTo>
                  <a:pt x="691259" y="60539"/>
                </a:moveTo>
                <a:lnTo>
                  <a:pt x="0" y="480690"/>
                </a:lnTo>
                <a:lnTo>
                  <a:pt x="6595" y="491489"/>
                </a:lnTo>
                <a:lnTo>
                  <a:pt x="697836" y="71352"/>
                </a:lnTo>
                <a:lnTo>
                  <a:pt x="691259" y="60539"/>
                </a:lnTo>
                <a:close/>
              </a:path>
              <a:path w="803275" h="491489">
                <a:moveTo>
                  <a:pt x="769174" y="53980"/>
                </a:moveTo>
                <a:lnTo>
                  <a:pt x="702051" y="53980"/>
                </a:lnTo>
                <a:lnTo>
                  <a:pt x="708666" y="64769"/>
                </a:lnTo>
                <a:lnTo>
                  <a:pt x="697836" y="71352"/>
                </a:lnTo>
                <a:lnTo>
                  <a:pt x="727594" y="120274"/>
                </a:lnTo>
                <a:lnTo>
                  <a:pt x="769174" y="53980"/>
                </a:lnTo>
                <a:close/>
              </a:path>
              <a:path w="803275" h="491489">
                <a:moveTo>
                  <a:pt x="702051" y="53980"/>
                </a:moveTo>
                <a:lnTo>
                  <a:pt x="691259" y="60539"/>
                </a:lnTo>
                <a:lnTo>
                  <a:pt x="697836" y="71352"/>
                </a:lnTo>
                <a:lnTo>
                  <a:pt x="708666" y="64769"/>
                </a:lnTo>
                <a:lnTo>
                  <a:pt x="702051" y="53980"/>
                </a:lnTo>
                <a:close/>
              </a:path>
              <a:path w="803275" h="491489">
                <a:moveTo>
                  <a:pt x="803032" y="0"/>
                </a:moveTo>
                <a:lnTo>
                  <a:pt x="661534" y="11673"/>
                </a:lnTo>
                <a:lnTo>
                  <a:pt x="691259" y="60539"/>
                </a:lnTo>
                <a:lnTo>
                  <a:pt x="702051" y="53980"/>
                </a:lnTo>
                <a:lnTo>
                  <a:pt x="769174" y="53980"/>
                </a:lnTo>
                <a:lnTo>
                  <a:pt x="8030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bject 205"/>
          <p:cNvSpPr/>
          <p:nvPr/>
        </p:nvSpPr>
        <p:spPr>
          <a:xfrm>
            <a:off x="3290760" y="4195800"/>
            <a:ext cx="1478160" cy="203040"/>
          </a:xfrm>
          <a:prstGeom prst="rect">
            <a:avLst/>
          </a:prstGeom>
          <a:blipFill rotWithShape="0">
            <a:blip r:embed="rId5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ject 206"/>
          <p:cNvSpPr/>
          <p:nvPr/>
        </p:nvSpPr>
        <p:spPr>
          <a:xfrm>
            <a:off x="3649680" y="4195800"/>
            <a:ext cx="65160" cy="203040"/>
          </a:xfrm>
          <a:prstGeom prst="rect">
            <a:avLst/>
          </a:pr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bject 207"/>
          <p:cNvSpPr/>
          <p:nvPr/>
        </p:nvSpPr>
        <p:spPr>
          <a:xfrm>
            <a:off x="4044960" y="4195800"/>
            <a:ext cx="63360" cy="203040"/>
          </a:xfrm>
          <a:prstGeom prst="rect">
            <a:avLst/>
          </a:prstGeom>
          <a:blipFill rotWithShape="0">
            <a:blip r:embed="rId5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bject 208"/>
          <p:cNvSpPr/>
          <p:nvPr/>
        </p:nvSpPr>
        <p:spPr>
          <a:xfrm>
            <a:off x="3452760" y="4195800"/>
            <a:ext cx="33480" cy="203040"/>
          </a:xfrm>
          <a:prstGeom prst="rect">
            <a:avLst/>
          </a:pr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209"/>
          <p:cNvSpPr/>
          <p:nvPr/>
        </p:nvSpPr>
        <p:spPr>
          <a:xfrm>
            <a:off x="3749760" y="4195800"/>
            <a:ext cx="31680" cy="203040"/>
          </a:xfrm>
          <a:prstGeom prst="rect">
            <a:avLst/>
          </a:prstGeom>
          <a:blipFill rotWithShape="0">
            <a:blip r:embed="rId5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bject 210"/>
          <p:cNvSpPr/>
          <p:nvPr/>
        </p:nvSpPr>
        <p:spPr>
          <a:xfrm>
            <a:off x="4143240" y="4195800"/>
            <a:ext cx="30240" cy="203040"/>
          </a:xfrm>
          <a:prstGeom prst="rect">
            <a:avLst/>
          </a:pr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bject 211"/>
          <p:cNvSpPr/>
          <p:nvPr/>
        </p:nvSpPr>
        <p:spPr>
          <a:xfrm>
            <a:off x="4505400" y="4195800"/>
            <a:ext cx="31680" cy="203040"/>
          </a:xfrm>
          <a:prstGeom prst="rect">
            <a:avLst/>
          </a:prstGeom>
          <a:blipFill rotWithShape="0">
            <a:blip r:embed="rId5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bject 212"/>
          <p:cNvSpPr/>
          <p:nvPr/>
        </p:nvSpPr>
        <p:spPr>
          <a:xfrm>
            <a:off x="3946680" y="4195800"/>
            <a:ext cx="31680" cy="203040"/>
          </a:xfrm>
          <a:prstGeom prst="rect">
            <a:avLst/>
          </a:pr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213"/>
          <p:cNvSpPr/>
          <p:nvPr/>
        </p:nvSpPr>
        <p:spPr>
          <a:xfrm>
            <a:off x="3290760" y="4440240"/>
            <a:ext cx="1478160" cy="201600"/>
          </a:xfrm>
          <a:prstGeom prst="rect">
            <a:avLst/>
          </a:prstGeom>
          <a:blipFill rotWithShape="0">
            <a:blip r:embed="rId5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214"/>
          <p:cNvSpPr/>
          <p:nvPr/>
        </p:nvSpPr>
        <p:spPr>
          <a:xfrm>
            <a:off x="3649680" y="4440240"/>
            <a:ext cx="65160" cy="201600"/>
          </a:xfrm>
          <a:prstGeom prst="rect">
            <a:avLst/>
          </a:prstGeom>
          <a:blipFill rotWithShape="0">
            <a:blip r:embed="rId6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215"/>
          <p:cNvSpPr/>
          <p:nvPr/>
        </p:nvSpPr>
        <p:spPr>
          <a:xfrm>
            <a:off x="4044960" y="4440240"/>
            <a:ext cx="63360" cy="201600"/>
          </a:xfrm>
          <a:prstGeom prst="rect">
            <a:avLst/>
          </a:prstGeom>
          <a:blipFill rotWithShape="0">
            <a:blip r:embed="rId6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216"/>
          <p:cNvSpPr/>
          <p:nvPr/>
        </p:nvSpPr>
        <p:spPr>
          <a:xfrm>
            <a:off x="3452760" y="4440240"/>
            <a:ext cx="33480" cy="201600"/>
          </a:xfrm>
          <a:prstGeom prst="rect">
            <a:avLst/>
          </a:prstGeom>
          <a:blipFill rotWithShape="0">
            <a:blip r:embed="rId6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217"/>
          <p:cNvSpPr/>
          <p:nvPr/>
        </p:nvSpPr>
        <p:spPr>
          <a:xfrm>
            <a:off x="3749760" y="4440240"/>
            <a:ext cx="31680" cy="201600"/>
          </a:xfrm>
          <a:prstGeom prst="rect">
            <a:avLst/>
          </a:prstGeom>
          <a:blipFill rotWithShape="0">
            <a:blip r:embed="rId6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218"/>
          <p:cNvSpPr/>
          <p:nvPr/>
        </p:nvSpPr>
        <p:spPr>
          <a:xfrm>
            <a:off x="4143240" y="4440240"/>
            <a:ext cx="30240" cy="201600"/>
          </a:xfrm>
          <a:prstGeom prst="rect">
            <a:avLst/>
          </a:prstGeom>
          <a:blipFill rotWithShape="0">
            <a:blip r:embed="rId6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219"/>
          <p:cNvSpPr/>
          <p:nvPr/>
        </p:nvSpPr>
        <p:spPr>
          <a:xfrm>
            <a:off x="4505400" y="4440240"/>
            <a:ext cx="31680" cy="201600"/>
          </a:xfrm>
          <a:prstGeom prst="rect">
            <a:avLst/>
          </a:prstGeom>
          <a:blipFill rotWithShape="0">
            <a:blip r:embed="rId6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220"/>
          <p:cNvSpPr/>
          <p:nvPr/>
        </p:nvSpPr>
        <p:spPr>
          <a:xfrm>
            <a:off x="3946680" y="4440240"/>
            <a:ext cx="31680" cy="201600"/>
          </a:xfrm>
          <a:prstGeom prst="rect">
            <a:avLst/>
          </a:prstGeom>
          <a:blipFill rotWithShape="0">
            <a:blip r:embed="rId6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bject 221"/>
          <p:cNvSpPr/>
          <p:nvPr/>
        </p:nvSpPr>
        <p:spPr>
          <a:xfrm>
            <a:off x="2290680" y="4454640"/>
            <a:ext cx="878040" cy="126720"/>
          </a:xfrm>
          <a:custGeom>
            <a:avLst/>
            <a:gdLst>
              <a:gd name="textAreaLeft" fmla="*/ 0 w 878040"/>
              <a:gd name="textAreaRight" fmla="*/ 878400 w 878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78839" h="127000">
                <a:moveTo>
                  <a:pt x="751581" y="0"/>
                </a:moveTo>
                <a:lnTo>
                  <a:pt x="751581" y="126991"/>
                </a:lnTo>
                <a:lnTo>
                  <a:pt x="865892" y="69842"/>
                </a:lnTo>
                <a:lnTo>
                  <a:pt x="764285" y="69842"/>
                </a:lnTo>
                <a:lnTo>
                  <a:pt x="764285" y="57149"/>
                </a:lnTo>
                <a:lnTo>
                  <a:pt x="865892" y="57149"/>
                </a:lnTo>
                <a:lnTo>
                  <a:pt x="751581" y="0"/>
                </a:lnTo>
                <a:close/>
              </a:path>
              <a:path w="878839" h="127000">
                <a:moveTo>
                  <a:pt x="751581" y="57149"/>
                </a:moveTo>
                <a:lnTo>
                  <a:pt x="0" y="57149"/>
                </a:lnTo>
                <a:lnTo>
                  <a:pt x="0" y="69842"/>
                </a:lnTo>
                <a:lnTo>
                  <a:pt x="751581" y="69842"/>
                </a:lnTo>
                <a:lnTo>
                  <a:pt x="751581" y="57149"/>
                </a:lnTo>
                <a:close/>
              </a:path>
              <a:path w="878839" h="127000">
                <a:moveTo>
                  <a:pt x="865892" y="57149"/>
                </a:moveTo>
                <a:lnTo>
                  <a:pt x="764285" y="57149"/>
                </a:lnTo>
                <a:lnTo>
                  <a:pt x="764285" y="69842"/>
                </a:lnTo>
                <a:lnTo>
                  <a:pt x="865892" y="69842"/>
                </a:lnTo>
                <a:lnTo>
                  <a:pt x="878585" y="63495"/>
                </a:lnTo>
                <a:lnTo>
                  <a:pt x="865892" y="57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bject 222"/>
          <p:cNvSpPr/>
          <p:nvPr/>
        </p:nvSpPr>
        <p:spPr>
          <a:xfrm>
            <a:off x="2289240" y="4282920"/>
            <a:ext cx="879480" cy="239760"/>
          </a:xfrm>
          <a:custGeom>
            <a:avLst/>
            <a:gdLst>
              <a:gd name="textAreaLeft" fmla="*/ 0 w 879480"/>
              <a:gd name="textAreaRight" fmla="*/ 879840 w 879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80110" h="240664">
                <a:moveTo>
                  <a:pt x="754814" y="55787"/>
                </a:moveTo>
                <a:lnTo>
                  <a:pt x="0" y="228100"/>
                </a:lnTo>
                <a:lnTo>
                  <a:pt x="2785" y="240410"/>
                </a:lnTo>
                <a:lnTo>
                  <a:pt x="757631" y="68106"/>
                </a:lnTo>
                <a:lnTo>
                  <a:pt x="754814" y="55787"/>
                </a:lnTo>
                <a:close/>
              </a:path>
              <a:path w="880110" h="240664">
                <a:moveTo>
                  <a:pt x="856517" y="52958"/>
                </a:moveTo>
                <a:lnTo>
                  <a:pt x="767202" y="52958"/>
                </a:lnTo>
                <a:lnTo>
                  <a:pt x="770007" y="65282"/>
                </a:lnTo>
                <a:lnTo>
                  <a:pt x="757631" y="68106"/>
                </a:lnTo>
                <a:lnTo>
                  <a:pt x="770372" y="123824"/>
                </a:lnTo>
                <a:lnTo>
                  <a:pt x="856517" y="52958"/>
                </a:lnTo>
                <a:close/>
              </a:path>
              <a:path w="880110" h="240664">
                <a:moveTo>
                  <a:pt x="767202" y="52958"/>
                </a:moveTo>
                <a:lnTo>
                  <a:pt x="754814" y="55787"/>
                </a:lnTo>
                <a:lnTo>
                  <a:pt x="757631" y="68106"/>
                </a:lnTo>
                <a:lnTo>
                  <a:pt x="770007" y="65282"/>
                </a:lnTo>
                <a:lnTo>
                  <a:pt x="767202" y="52958"/>
                </a:lnTo>
                <a:close/>
              </a:path>
              <a:path w="880110" h="240664">
                <a:moveTo>
                  <a:pt x="742056" y="0"/>
                </a:moveTo>
                <a:lnTo>
                  <a:pt x="754814" y="55787"/>
                </a:lnTo>
                <a:lnTo>
                  <a:pt x="767202" y="52958"/>
                </a:lnTo>
                <a:lnTo>
                  <a:pt x="856517" y="52958"/>
                </a:lnTo>
                <a:lnTo>
                  <a:pt x="879978" y="33659"/>
                </a:lnTo>
                <a:lnTo>
                  <a:pt x="7420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bject 223"/>
          <p:cNvSpPr/>
          <p:nvPr/>
        </p:nvSpPr>
        <p:spPr>
          <a:xfrm>
            <a:off x="3290760" y="2319480"/>
            <a:ext cx="1478160" cy="203040"/>
          </a:xfrm>
          <a:prstGeom prst="rect">
            <a:avLst/>
          </a:prstGeom>
          <a:blipFill rotWithShape="0">
            <a:blip r:embed="rId6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bject 224"/>
          <p:cNvSpPr/>
          <p:nvPr/>
        </p:nvSpPr>
        <p:spPr>
          <a:xfrm>
            <a:off x="3290760" y="2076480"/>
            <a:ext cx="1478160" cy="200160"/>
          </a:xfrm>
          <a:prstGeom prst="rect">
            <a:avLst/>
          </a:prstGeom>
          <a:blipFill rotWithShape="0">
            <a:blip r:embed="rId6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bject 225"/>
          <p:cNvSpPr/>
          <p:nvPr/>
        </p:nvSpPr>
        <p:spPr>
          <a:xfrm>
            <a:off x="689040" y="1525680"/>
            <a:ext cx="7824600" cy="3789360"/>
          </a:xfrm>
          <a:prstGeom prst="rect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Intrathec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entr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peripher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bject 226"/>
          <p:cNvSpPr/>
          <p:nvPr/>
        </p:nvSpPr>
        <p:spPr>
          <a:xfrm>
            <a:off x="6099120" y="2013120"/>
            <a:ext cx="2219400" cy="2790720"/>
          </a:xfrm>
          <a:prstGeom prst="rect">
            <a:avLst/>
          </a:prstGeom>
          <a:blipFill rotWithShape="0">
            <a:blip r:embed="rId6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bject 227"/>
          <p:cNvSpPr/>
          <p:nvPr/>
        </p:nvSpPr>
        <p:spPr>
          <a:xfrm>
            <a:off x="7888320" y="2147760"/>
            <a:ext cx="88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bject 228"/>
          <p:cNvSpPr/>
          <p:nvPr/>
        </p:nvSpPr>
        <p:spPr>
          <a:xfrm>
            <a:off x="7888320" y="2820960"/>
            <a:ext cx="8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bject 229"/>
          <p:cNvSpPr/>
          <p:nvPr/>
        </p:nvSpPr>
        <p:spPr>
          <a:xfrm>
            <a:off x="7888320" y="3557520"/>
            <a:ext cx="88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ject 230"/>
          <p:cNvSpPr/>
          <p:nvPr/>
        </p:nvSpPr>
        <p:spPr>
          <a:xfrm>
            <a:off x="7888320" y="4230720"/>
            <a:ext cx="88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bject 231"/>
          <p:cNvSpPr/>
          <p:nvPr/>
        </p:nvSpPr>
        <p:spPr>
          <a:xfrm>
            <a:off x="1047600" y="5305320"/>
            <a:ext cx="1581480" cy="1095480"/>
          </a:xfrm>
          <a:prstGeom prst="rect">
            <a:avLst/>
          </a:prstGeom>
          <a:blipFill rotWithShape="0">
            <a:blip r:embed="rId7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bject 232"/>
          <p:cNvSpPr/>
          <p:nvPr/>
        </p:nvSpPr>
        <p:spPr>
          <a:xfrm>
            <a:off x="2214720" y="5587920"/>
            <a:ext cx="64800" cy="55800"/>
          </a:xfrm>
          <a:prstGeom prst="rect">
            <a:avLst/>
          </a:prstGeom>
          <a:blipFill rotWithShape="0">
            <a:blip r:embed="rId7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bject 233"/>
          <p:cNvSpPr/>
          <p:nvPr/>
        </p:nvSpPr>
        <p:spPr>
          <a:xfrm>
            <a:off x="2214720" y="5587920"/>
            <a:ext cx="64800" cy="55800"/>
          </a:xfrm>
          <a:custGeom>
            <a:avLst/>
            <a:gdLst>
              <a:gd name="textAreaLeft" fmla="*/ 0 w 64800"/>
              <a:gd name="textAreaRight" fmla="*/ 65160 w 648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491" y="21171"/>
                </a:moveTo>
                <a:lnTo>
                  <a:pt x="5856" y="10486"/>
                </a:lnTo>
                <a:lnTo>
                  <a:pt x="15649" y="3161"/>
                </a:lnTo>
                <a:lnTo>
                  <a:pt x="28375" y="0"/>
                </a:lnTo>
                <a:lnTo>
                  <a:pt x="45192" y="4725"/>
                </a:lnTo>
                <a:lnTo>
                  <a:pt x="56974" y="11995"/>
                </a:lnTo>
                <a:lnTo>
                  <a:pt x="63835" y="21035"/>
                </a:lnTo>
                <a:lnTo>
                  <a:pt x="65885" y="31071"/>
                </a:lnTo>
                <a:lnTo>
                  <a:pt x="60679" y="43593"/>
                </a:lnTo>
                <a:lnTo>
                  <a:pt x="51598" y="52012"/>
                </a:lnTo>
                <a:lnTo>
                  <a:pt x="39847" y="56044"/>
                </a:lnTo>
                <a:lnTo>
                  <a:pt x="22215" y="51639"/>
                </a:lnTo>
                <a:lnTo>
                  <a:pt x="9866" y="44749"/>
                </a:lnTo>
                <a:lnTo>
                  <a:pt x="2545" y="36102"/>
                </a:lnTo>
                <a:lnTo>
                  <a:pt x="0" y="26426"/>
                </a:lnTo>
                <a:lnTo>
                  <a:pt x="491" y="21171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bject 234"/>
          <p:cNvSpPr/>
          <p:nvPr/>
        </p:nvSpPr>
        <p:spPr>
          <a:xfrm>
            <a:off x="2181240" y="56419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3"/>
                </a:lnTo>
                <a:lnTo>
                  <a:pt x="45" y="51989"/>
                </a:lnTo>
                <a:lnTo>
                  <a:pt x="30684" y="89533"/>
                </a:lnTo>
                <a:lnTo>
                  <a:pt x="44963" y="94077"/>
                </a:lnTo>
                <a:lnTo>
                  <a:pt x="57323" y="93951"/>
                </a:lnTo>
                <a:lnTo>
                  <a:pt x="95212" y="64023"/>
                </a:lnTo>
                <a:lnTo>
                  <a:pt x="99602" y="49648"/>
                </a:lnTo>
                <a:lnTo>
                  <a:pt x="98331" y="38597"/>
                </a:lnTo>
                <a:lnTo>
                  <a:pt x="63071" y="4294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bject 235"/>
          <p:cNvSpPr/>
          <p:nvPr/>
        </p:nvSpPr>
        <p:spPr>
          <a:xfrm>
            <a:off x="2181240" y="56419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8" y="36635"/>
                </a:moveTo>
                <a:lnTo>
                  <a:pt x="33910" y="1996"/>
                </a:lnTo>
                <a:lnTo>
                  <a:pt x="46784" y="0"/>
                </a:lnTo>
                <a:lnTo>
                  <a:pt x="63071" y="4294"/>
                </a:lnTo>
                <a:lnTo>
                  <a:pt x="94028" y="28174"/>
                </a:lnTo>
                <a:lnTo>
                  <a:pt x="99602" y="49648"/>
                </a:lnTo>
                <a:lnTo>
                  <a:pt x="95212" y="64023"/>
                </a:lnTo>
                <a:lnTo>
                  <a:pt x="57323" y="93951"/>
                </a:lnTo>
                <a:lnTo>
                  <a:pt x="44963" y="94077"/>
                </a:lnTo>
                <a:lnTo>
                  <a:pt x="30684" y="89533"/>
                </a:lnTo>
                <a:lnTo>
                  <a:pt x="45" y="51989"/>
                </a:lnTo>
                <a:lnTo>
                  <a:pt x="0" y="40003"/>
                </a:lnTo>
                <a:lnTo>
                  <a:pt x="588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bject 236"/>
          <p:cNvSpPr/>
          <p:nvPr/>
        </p:nvSpPr>
        <p:spPr>
          <a:xfrm>
            <a:off x="2201760" y="5672160"/>
            <a:ext cx="65160" cy="55440"/>
          </a:xfrm>
          <a:prstGeom prst="rect">
            <a:avLst/>
          </a:prstGeom>
          <a:blipFill rotWithShape="0">
            <a:blip r:embed="rId7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ject 237"/>
          <p:cNvSpPr/>
          <p:nvPr/>
        </p:nvSpPr>
        <p:spPr>
          <a:xfrm>
            <a:off x="2201760" y="567216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8"/>
                </a:moveTo>
                <a:lnTo>
                  <a:pt x="5835" y="10475"/>
                </a:lnTo>
                <a:lnTo>
                  <a:pt x="15642" y="3154"/>
                </a:lnTo>
                <a:lnTo>
                  <a:pt x="28406" y="0"/>
                </a:lnTo>
                <a:lnTo>
                  <a:pt x="45195" y="4714"/>
                </a:lnTo>
                <a:lnTo>
                  <a:pt x="56958" y="11968"/>
                </a:lnTo>
                <a:lnTo>
                  <a:pt x="63799" y="20989"/>
                </a:lnTo>
                <a:lnTo>
                  <a:pt x="65819" y="31007"/>
                </a:lnTo>
                <a:lnTo>
                  <a:pt x="60659" y="43577"/>
                </a:lnTo>
                <a:lnTo>
                  <a:pt x="51595" y="52013"/>
                </a:lnTo>
                <a:lnTo>
                  <a:pt x="39843" y="56044"/>
                </a:lnTo>
                <a:lnTo>
                  <a:pt x="22258" y="51656"/>
                </a:lnTo>
                <a:lnTo>
                  <a:pt x="9906" y="44797"/>
                </a:lnTo>
                <a:lnTo>
                  <a:pt x="2562" y="36187"/>
                </a:lnTo>
                <a:lnTo>
                  <a:pt x="0" y="26548"/>
                </a:lnTo>
                <a:lnTo>
                  <a:pt x="524" y="2116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bject 238"/>
          <p:cNvSpPr/>
          <p:nvPr/>
        </p:nvSpPr>
        <p:spPr>
          <a:xfrm>
            <a:off x="2262240" y="563076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50" y="0"/>
                </a:moveTo>
                <a:lnTo>
                  <a:pt x="5015" y="24671"/>
                </a:lnTo>
                <a:lnTo>
                  <a:pt x="0" y="51901"/>
                </a:lnTo>
                <a:lnTo>
                  <a:pt x="3241" y="63319"/>
                </a:lnTo>
                <a:lnTo>
                  <a:pt x="9532" y="73699"/>
                </a:lnTo>
                <a:lnTo>
                  <a:pt x="18678" y="82588"/>
                </a:lnTo>
                <a:lnTo>
                  <a:pt x="30483" y="89534"/>
                </a:lnTo>
                <a:lnTo>
                  <a:pt x="44751" y="94084"/>
                </a:lnTo>
                <a:lnTo>
                  <a:pt x="57123" y="93966"/>
                </a:lnTo>
                <a:lnTo>
                  <a:pt x="95064" y="64080"/>
                </a:lnTo>
                <a:lnTo>
                  <a:pt x="99458" y="49723"/>
                </a:lnTo>
                <a:lnTo>
                  <a:pt x="98219" y="38656"/>
                </a:lnTo>
                <a:lnTo>
                  <a:pt x="63052" y="4302"/>
                </a:lnTo>
                <a:lnTo>
                  <a:pt x="4675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bject 239"/>
          <p:cNvSpPr/>
          <p:nvPr/>
        </p:nvSpPr>
        <p:spPr>
          <a:xfrm>
            <a:off x="2262240" y="563076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7" y="36654"/>
                </a:moveTo>
                <a:lnTo>
                  <a:pt x="33872" y="1980"/>
                </a:lnTo>
                <a:lnTo>
                  <a:pt x="46750" y="0"/>
                </a:lnTo>
                <a:lnTo>
                  <a:pt x="63052" y="4302"/>
                </a:lnTo>
                <a:lnTo>
                  <a:pt x="93951" y="28219"/>
                </a:lnTo>
                <a:lnTo>
                  <a:pt x="99458" y="49723"/>
                </a:lnTo>
                <a:lnTo>
                  <a:pt x="95064" y="64080"/>
                </a:lnTo>
                <a:lnTo>
                  <a:pt x="57123" y="93966"/>
                </a:lnTo>
                <a:lnTo>
                  <a:pt x="44751" y="94084"/>
                </a:lnTo>
                <a:lnTo>
                  <a:pt x="30483" y="89534"/>
                </a:lnTo>
                <a:lnTo>
                  <a:pt x="18678" y="82588"/>
                </a:lnTo>
                <a:lnTo>
                  <a:pt x="9532" y="73699"/>
                </a:lnTo>
                <a:lnTo>
                  <a:pt x="3241" y="63319"/>
                </a:lnTo>
                <a:lnTo>
                  <a:pt x="0" y="51901"/>
                </a:lnTo>
                <a:lnTo>
                  <a:pt x="3" y="39899"/>
                </a:lnTo>
                <a:lnTo>
                  <a:pt x="577" y="3665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bject 240"/>
          <p:cNvSpPr/>
          <p:nvPr/>
        </p:nvSpPr>
        <p:spPr>
          <a:xfrm>
            <a:off x="2282760" y="5661000"/>
            <a:ext cx="65160" cy="55440"/>
          </a:xfrm>
          <a:prstGeom prst="rect">
            <a:avLst/>
          </a:prstGeom>
          <a:blipFill rotWithShape="0">
            <a:blip r:embed="rId7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bject 241"/>
          <p:cNvSpPr/>
          <p:nvPr/>
        </p:nvSpPr>
        <p:spPr>
          <a:xfrm>
            <a:off x="2282760" y="566100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4" y="21167"/>
                </a:moveTo>
                <a:lnTo>
                  <a:pt x="5855" y="10485"/>
                </a:lnTo>
                <a:lnTo>
                  <a:pt x="15651" y="3161"/>
                </a:lnTo>
                <a:lnTo>
                  <a:pt x="28384" y="0"/>
                </a:lnTo>
                <a:lnTo>
                  <a:pt x="45195" y="4730"/>
                </a:lnTo>
                <a:lnTo>
                  <a:pt x="56974" y="12001"/>
                </a:lnTo>
                <a:lnTo>
                  <a:pt x="63830" y="21042"/>
                </a:lnTo>
                <a:lnTo>
                  <a:pt x="65876" y="31079"/>
                </a:lnTo>
                <a:lnTo>
                  <a:pt x="60671" y="43606"/>
                </a:lnTo>
                <a:lnTo>
                  <a:pt x="51590" y="52021"/>
                </a:lnTo>
                <a:lnTo>
                  <a:pt x="39841" y="56047"/>
                </a:lnTo>
                <a:lnTo>
                  <a:pt x="22212" y="51640"/>
                </a:lnTo>
                <a:lnTo>
                  <a:pt x="9864" y="44751"/>
                </a:lnTo>
                <a:lnTo>
                  <a:pt x="2544" y="36107"/>
                </a:lnTo>
                <a:lnTo>
                  <a:pt x="0" y="26433"/>
                </a:lnTo>
                <a:lnTo>
                  <a:pt x="494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bject 242"/>
          <p:cNvSpPr/>
          <p:nvPr/>
        </p:nvSpPr>
        <p:spPr>
          <a:xfrm>
            <a:off x="1793880" y="6014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3"/>
                </a:lnTo>
                <a:lnTo>
                  <a:pt x="45" y="51987"/>
                </a:lnTo>
                <a:lnTo>
                  <a:pt x="30686" y="89537"/>
                </a:lnTo>
                <a:lnTo>
                  <a:pt x="44966" y="94077"/>
                </a:lnTo>
                <a:lnTo>
                  <a:pt x="57325" y="93952"/>
                </a:lnTo>
                <a:lnTo>
                  <a:pt x="95213" y="64024"/>
                </a:lnTo>
                <a:lnTo>
                  <a:pt x="99602" y="49644"/>
                </a:lnTo>
                <a:lnTo>
                  <a:pt x="98331" y="38590"/>
                </a:lnTo>
                <a:lnTo>
                  <a:pt x="63071" y="4293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bject 243"/>
          <p:cNvSpPr/>
          <p:nvPr/>
        </p:nvSpPr>
        <p:spPr>
          <a:xfrm>
            <a:off x="1793880" y="6014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5"/>
                </a:moveTo>
                <a:lnTo>
                  <a:pt x="33911" y="1996"/>
                </a:lnTo>
                <a:lnTo>
                  <a:pt x="46784" y="0"/>
                </a:lnTo>
                <a:lnTo>
                  <a:pt x="63071" y="4293"/>
                </a:lnTo>
                <a:lnTo>
                  <a:pt x="94029" y="28168"/>
                </a:lnTo>
                <a:lnTo>
                  <a:pt x="99602" y="49644"/>
                </a:lnTo>
                <a:lnTo>
                  <a:pt x="95213" y="64024"/>
                </a:lnTo>
                <a:lnTo>
                  <a:pt x="57325" y="93952"/>
                </a:lnTo>
                <a:lnTo>
                  <a:pt x="44966" y="94077"/>
                </a:lnTo>
                <a:lnTo>
                  <a:pt x="30686" y="89537"/>
                </a:lnTo>
                <a:lnTo>
                  <a:pt x="45" y="51987"/>
                </a:lnTo>
                <a:lnTo>
                  <a:pt x="0" y="40003"/>
                </a:lnTo>
                <a:lnTo>
                  <a:pt x="589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bject 244"/>
          <p:cNvSpPr/>
          <p:nvPr/>
        </p:nvSpPr>
        <p:spPr>
          <a:xfrm>
            <a:off x="1814400" y="6045120"/>
            <a:ext cx="65160" cy="55800"/>
          </a:xfrm>
          <a:prstGeom prst="rect">
            <a:avLst/>
          </a:prstGeom>
          <a:blipFill rotWithShape="0">
            <a:blip r:embed="rId7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bject 245"/>
          <p:cNvSpPr/>
          <p:nvPr/>
        </p:nvSpPr>
        <p:spPr>
          <a:xfrm>
            <a:off x="1814400" y="604512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8"/>
                </a:moveTo>
                <a:lnTo>
                  <a:pt x="5885" y="10481"/>
                </a:lnTo>
                <a:lnTo>
                  <a:pt x="15681" y="3158"/>
                </a:lnTo>
                <a:lnTo>
                  <a:pt x="28414" y="0"/>
                </a:lnTo>
                <a:lnTo>
                  <a:pt x="45200" y="4715"/>
                </a:lnTo>
                <a:lnTo>
                  <a:pt x="56962" y="11970"/>
                </a:lnTo>
                <a:lnTo>
                  <a:pt x="63801" y="20992"/>
                </a:lnTo>
                <a:lnTo>
                  <a:pt x="65819" y="31012"/>
                </a:lnTo>
                <a:lnTo>
                  <a:pt x="60659" y="43574"/>
                </a:lnTo>
                <a:lnTo>
                  <a:pt x="51594" y="52009"/>
                </a:lnTo>
                <a:lnTo>
                  <a:pt x="39842" y="56041"/>
                </a:lnTo>
                <a:lnTo>
                  <a:pt x="22257" y="51654"/>
                </a:lnTo>
                <a:lnTo>
                  <a:pt x="9905" y="44795"/>
                </a:lnTo>
                <a:lnTo>
                  <a:pt x="2562" y="36186"/>
                </a:lnTo>
                <a:lnTo>
                  <a:pt x="0" y="26546"/>
                </a:lnTo>
                <a:lnTo>
                  <a:pt x="524" y="2116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bject 246"/>
          <p:cNvSpPr/>
          <p:nvPr/>
        </p:nvSpPr>
        <p:spPr>
          <a:xfrm>
            <a:off x="1860480" y="6068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1" y="0"/>
                </a:moveTo>
                <a:lnTo>
                  <a:pt x="5028" y="24672"/>
                </a:lnTo>
                <a:lnTo>
                  <a:pt x="0" y="40000"/>
                </a:lnTo>
                <a:lnTo>
                  <a:pt x="39" y="51983"/>
                </a:lnTo>
                <a:lnTo>
                  <a:pt x="30663" y="89534"/>
                </a:lnTo>
                <a:lnTo>
                  <a:pt x="44936" y="94077"/>
                </a:lnTo>
                <a:lnTo>
                  <a:pt x="57287" y="93952"/>
                </a:lnTo>
                <a:lnTo>
                  <a:pt x="95161" y="64028"/>
                </a:lnTo>
                <a:lnTo>
                  <a:pt x="99591" y="49651"/>
                </a:lnTo>
                <a:lnTo>
                  <a:pt x="98321" y="38594"/>
                </a:lnTo>
                <a:lnTo>
                  <a:pt x="63066" y="4291"/>
                </a:lnTo>
                <a:lnTo>
                  <a:pt x="4678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ject 247"/>
          <p:cNvSpPr/>
          <p:nvPr/>
        </p:nvSpPr>
        <p:spPr>
          <a:xfrm>
            <a:off x="1860480" y="6068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6"/>
                </a:moveTo>
                <a:lnTo>
                  <a:pt x="33906" y="1993"/>
                </a:lnTo>
                <a:lnTo>
                  <a:pt x="46781" y="0"/>
                </a:lnTo>
                <a:lnTo>
                  <a:pt x="63066" y="4291"/>
                </a:lnTo>
                <a:lnTo>
                  <a:pt x="94019" y="28169"/>
                </a:lnTo>
                <a:lnTo>
                  <a:pt x="99591" y="49651"/>
                </a:lnTo>
                <a:lnTo>
                  <a:pt x="95161" y="64028"/>
                </a:lnTo>
                <a:lnTo>
                  <a:pt x="57287" y="93952"/>
                </a:lnTo>
                <a:lnTo>
                  <a:pt x="44936" y="94077"/>
                </a:lnTo>
                <a:lnTo>
                  <a:pt x="30663" y="89534"/>
                </a:lnTo>
                <a:lnTo>
                  <a:pt x="39" y="51983"/>
                </a:lnTo>
                <a:lnTo>
                  <a:pt x="0" y="40000"/>
                </a:lnTo>
                <a:lnTo>
                  <a:pt x="589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bject 248"/>
          <p:cNvSpPr/>
          <p:nvPr/>
        </p:nvSpPr>
        <p:spPr>
          <a:xfrm>
            <a:off x="1881360" y="6099120"/>
            <a:ext cx="64800" cy="55440"/>
          </a:xfrm>
          <a:prstGeom prst="rect">
            <a:avLst/>
          </a:prstGeom>
          <a:blipFill rotWithShape="0">
            <a:blip r:embed="rId7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bject 249"/>
          <p:cNvSpPr/>
          <p:nvPr/>
        </p:nvSpPr>
        <p:spPr>
          <a:xfrm>
            <a:off x="1881360" y="6099120"/>
            <a:ext cx="64800" cy="55440"/>
          </a:xfrm>
          <a:custGeom>
            <a:avLst/>
            <a:gdLst>
              <a:gd name="textAreaLeft" fmla="*/ 0 w 64800"/>
              <a:gd name="textAreaRight" fmla="*/ 65160 w 64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3" y="21167"/>
                </a:moveTo>
                <a:lnTo>
                  <a:pt x="5827" y="10461"/>
                </a:lnTo>
                <a:lnTo>
                  <a:pt x="15616" y="3137"/>
                </a:lnTo>
                <a:lnTo>
                  <a:pt x="28372" y="0"/>
                </a:lnTo>
                <a:lnTo>
                  <a:pt x="45119" y="4711"/>
                </a:lnTo>
                <a:lnTo>
                  <a:pt x="56891" y="11955"/>
                </a:lnTo>
                <a:lnTo>
                  <a:pt x="63766" y="20965"/>
                </a:lnTo>
                <a:lnTo>
                  <a:pt x="65819" y="30975"/>
                </a:lnTo>
                <a:lnTo>
                  <a:pt x="60669" y="43560"/>
                </a:lnTo>
                <a:lnTo>
                  <a:pt x="51613" y="52008"/>
                </a:lnTo>
                <a:lnTo>
                  <a:pt x="39869" y="56049"/>
                </a:lnTo>
                <a:lnTo>
                  <a:pt x="22281" y="51661"/>
                </a:lnTo>
                <a:lnTo>
                  <a:pt x="9924" y="44807"/>
                </a:lnTo>
                <a:lnTo>
                  <a:pt x="2572" y="36204"/>
                </a:lnTo>
                <a:lnTo>
                  <a:pt x="0" y="26567"/>
                </a:lnTo>
                <a:lnTo>
                  <a:pt x="523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bject 250"/>
          <p:cNvSpPr/>
          <p:nvPr/>
        </p:nvSpPr>
        <p:spPr>
          <a:xfrm>
            <a:off x="1920960" y="61437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3" y="0"/>
                </a:moveTo>
                <a:lnTo>
                  <a:pt x="5030" y="24675"/>
                </a:lnTo>
                <a:lnTo>
                  <a:pt x="0" y="39995"/>
                </a:lnTo>
                <a:lnTo>
                  <a:pt x="43" y="51981"/>
                </a:lnTo>
                <a:lnTo>
                  <a:pt x="30675" y="89538"/>
                </a:lnTo>
                <a:lnTo>
                  <a:pt x="44950" y="94079"/>
                </a:lnTo>
                <a:lnTo>
                  <a:pt x="57299" y="93956"/>
                </a:lnTo>
                <a:lnTo>
                  <a:pt x="95116" y="63983"/>
                </a:lnTo>
                <a:lnTo>
                  <a:pt x="99509" y="49569"/>
                </a:lnTo>
                <a:lnTo>
                  <a:pt x="98260" y="38530"/>
                </a:lnTo>
                <a:lnTo>
                  <a:pt x="63053" y="4287"/>
                </a:lnTo>
                <a:lnTo>
                  <a:pt x="4678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bject 251"/>
          <p:cNvSpPr/>
          <p:nvPr/>
        </p:nvSpPr>
        <p:spPr>
          <a:xfrm>
            <a:off x="1920960" y="61437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7" y="36635"/>
                </a:moveTo>
                <a:lnTo>
                  <a:pt x="33909" y="1996"/>
                </a:lnTo>
                <a:lnTo>
                  <a:pt x="46783" y="0"/>
                </a:lnTo>
                <a:lnTo>
                  <a:pt x="63053" y="4287"/>
                </a:lnTo>
                <a:lnTo>
                  <a:pt x="93973" y="28124"/>
                </a:lnTo>
                <a:lnTo>
                  <a:pt x="99509" y="49569"/>
                </a:lnTo>
                <a:lnTo>
                  <a:pt x="95116" y="63983"/>
                </a:lnTo>
                <a:lnTo>
                  <a:pt x="57299" y="93956"/>
                </a:lnTo>
                <a:lnTo>
                  <a:pt x="44950" y="94079"/>
                </a:lnTo>
                <a:lnTo>
                  <a:pt x="30675" y="89538"/>
                </a:lnTo>
                <a:lnTo>
                  <a:pt x="43" y="51981"/>
                </a:lnTo>
                <a:lnTo>
                  <a:pt x="0" y="39995"/>
                </a:lnTo>
                <a:lnTo>
                  <a:pt x="587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bject 252"/>
          <p:cNvSpPr/>
          <p:nvPr/>
        </p:nvSpPr>
        <p:spPr>
          <a:xfrm>
            <a:off x="1940040" y="6173640"/>
            <a:ext cx="66600" cy="55800"/>
          </a:xfrm>
          <a:prstGeom prst="rect">
            <a:avLst/>
          </a:prstGeom>
          <a:blipFill rotWithShape="0">
            <a:blip r:embed="rId7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bject 253"/>
          <p:cNvSpPr/>
          <p:nvPr/>
        </p:nvSpPr>
        <p:spPr>
          <a:xfrm>
            <a:off x="1940040" y="617364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9" y="21172"/>
                </a:moveTo>
                <a:lnTo>
                  <a:pt x="5834" y="10466"/>
                </a:lnTo>
                <a:lnTo>
                  <a:pt x="15627" y="3140"/>
                </a:lnTo>
                <a:lnTo>
                  <a:pt x="28387" y="0"/>
                </a:lnTo>
                <a:lnTo>
                  <a:pt x="45135" y="4714"/>
                </a:lnTo>
                <a:lnTo>
                  <a:pt x="56904" y="11965"/>
                </a:lnTo>
                <a:lnTo>
                  <a:pt x="63773" y="20982"/>
                </a:lnTo>
                <a:lnTo>
                  <a:pt x="65821" y="30995"/>
                </a:lnTo>
                <a:lnTo>
                  <a:pt x="60659" y="43548"/>
                </a:lnTo>
                <a:lnTo>
                  <a:pt x="51583" y="51986"/>
                </a:lnTo>
                <a:lnTo>
                  <a:pt x="39825" y="56036"/>
                </a:lnTo>
                <a:lnTo>
                  <a:pt x="22197" y="51652"/>
                </a:lnTo>
                <a:lnTo>
                  <a:pt x="9849" y="44791"/>
                </a:lnTo>
                <a:lnTo>
                  <a:pt x="2533" y="36178"/>
                </a:lnTo>
                <a:lnTo>
                  <a:pt x="0" y="26534"/>
                </a:lnTo>
                <a:lnTo>
                  <a:pt x="529" y="21172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bject 254"/>
          <p:cNvSpPr/>
          <p:nvPr/>
        </p:nvSpPr>
        <p:spPr>
          <a:xfrm>
            <a:off x="1841400" y="621360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98" y="0"/>
                </a:moveTo>
                <a:lnTo>
                  <a:pt x="5076" y="24675"/>
                </a:lnTo>
                <a:lnTo>
                  <a:pt x="0" y="40002"/>
                </a:lnTo>
                <a:lnTo>
                  <a:pt x="43" y="51982"/>
                </a:lnTo>
                <a:lnTo>
                  <a:pt x="30675" y="89537"/>
                </a:lnTo>
                <a:lnTo>
                  <a:pt x="44952" y="94085"/>
                </a:lnTo>
                <a:lnTo>
                  <a:pt x="57314" y="93958"/>
                </a:lnTo>
                <a:lnTo>
                  <a:pt x="95211" y="64027"/>
                </a:lnTo>
                <a:lnTo>
                  <a:pt x="99600" y="49653"/>
                </a:lnTo>
                <a:lnTo>
                  <a:pt x="98332" y="38595"/>
                </a:lnTo>
                <a:lnTo>
                  <a:pt x="63081" y="4289"/>
                </a:lnTo>
                <a:lnTo>
                  <a:pt x="46798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bject 255"/>
          <p:cNvSpPr/>
          <p:nvPr/>
        </p:nvSpPr>
        <p:spPr>
          <a:xfrm>
            <a:off x="1841400" y="621360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7" y="36644"/>
                </a:moveTo>
                <a:lnTo>
                  <a:pt x="33943" y="1995"/>
                </a:lnTo>
                <a:lnTo>
                  <a:pt x="46798" y="0"/>
                </a:lnTo>
                <a:lnTo>
                  <a:pt x="63081" y="4289"/>
                </a:lnTo>
                <a:lnTo>
                  <a:pt x="94031" y="28168"/>
                </a:lnTo>
                <a:lnTo>
                  <a:pt x="99600" y="49653"/>
                </a:lnTo>
                <a:lnTo>
                  <a:pt x="95211" y="64027"/>
                </a:lnTo>
                <a:lnTo>
                  <a:pt x="57314" y="93958"/>
                </a:lnTo>
                <a:lnTo>
                  <a:pt x="44952" y="94085"/>
                </a:lnTo>
                <a:lnTo>
                  <a:pt x="30675" y="89537"/>
                </a:lnTo>
                <a:lnTo>
                  <a:pt x="43" y="51982"/>
                </a:lnTo>
                <a:lnTo>
                  <a:pt x="0" y="40002"/>
                </a:lnTo>
                <a:lnTo>
                  <a:pt x="587" y="3664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bject 256"/>
          <p:cNvSpPr/>
          <p:nvPr/>
        </p:nvSpPr>
        <p:spPr>
          <a:xfrm>
            <a:off x="1862280" y="6245280"/>
            <a:ext cx="66600" cy="55440"/>
          </a:xfrm>
          <a:prstGeom prst="rect">
            <a:avLst/>
          </a:prstGeom>
          <a:blipFill rotWithShape="0">
            <a:blip r:embed="rId7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bject 257"/>
          <p:cNvSpPr/>
          <p:nvPr/>
        </p:nvSpPr>
        <p:spPr>
          <a:xfrm>
            <a:off x="1862280" y="624528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4" y="21160"/>
                </a:moveTo>
                <a:lnTo>
                  <a:pt x="5884" y="10474"/>
                </a:lnTo>
                <a:lnTo>
                  <a:pt x="15679" y="3154"/>
                </a:lnTo>
                <a:lnTo>
                  <a:pt x="28410" y="0"/>
                </a:lnTo>
                <a:lnTo>
                  <a:pt x="45224" y="4728"/>
                </a:lnTo>
                <a:lnTo>
                  <a:pt x="57005" y="12002"/>
                </a:lnTo>
                <a:lnTo>
                  <a:pt x="63864" y="21047"/>
                </a:lnTo>
                <a:lnTo>
                  <a:pt x="65914" y="31087"/>
                </a:lnTo>
                <a:lnTo>
                  <a:pt x="60703" y="43607"/>
                </a:lnTo>
                <a:lnTo>
                  <a:pt x="51618" y="52021"/>
                </a:lnTo>
                <a:lnTo>
                  <a:pt x="39866" y="56048"/>
                </a:lnTo>
                <a:lnTo>
                  <a:pt x="22275" y="51657"/>
                </a:lnTo>
                <a:lnTo>
                  <a:pt x="9919" y="44802"/>
                </a:lnTo>
                <a:lnTo>
                  <a:pt x="2569" y="36198"/>
                </a:lnTo>
                <a:lnTo>
                  <a:pt x="0" y="26561"/>
                </a:lnTo>
                <a:lnTo>
                  <a:pt x="524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bject 258"/>
          <p:cNvSpPr/>
          <p:nvPr/>
        </p:nvSpPr>
        <p:spPr>
          <a:xfrm>
            <a:off x="1795320" y="613584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31" y="0"/>
                </a:moveTo>
                <a:lnTo>
                  <a:pt x="5006" y="24677"/>
                </a:lnTo>
                <a:lnTo>
                  <a:pt x="0" y="51891"/>
                </a:lnTo>
                <a:lnTo>
                  <a:pt x="3242" y="63307"/>
                </a:lnTo>
                <a:lnTo>
                  <a:pt x="9533" y="73684"/>
                </a:lnTo>
                <a:lnTo>
                  <a:pt x="18679" y="82573"/>
                </a:lnTo>
                <a:lnTo>
                  <a:pt x="30484" y="89520"/>
                </a:lnTo>
                <a:lnTo>
                  <a:pt x="44753" y="94075"/>
                </a:lnTo>
                <a:lnTo>
                  <a:pt x="57125" y="93955"/>
                </a:lnTo>
                <a:lnTo>
                  <a:pt x="95064" y="64068"/>
                </a:lnTo>
                <a:lnTo>
                  <a:pt x="99458" y="49710"/>
                </a:lnTo>
                <a:lnTo>
                  <a:pt x="98216" y="38641"/>
                </a:lnTo>
                <a:lnTo>
                  <a:pt x="63037" y="4293"/>
                </a:lnTo>
                <a:lnTo>
                  <a:pt x="4673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bject 259"/>
          <p:cNvSpPr/>
          <p:nvPr/>
        </p:nvSpPr>
        <p:spPr>
          <a:xfrm>
            <a:off x="1795320" y="613584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7" y="36644"/>
                </a:moveTo>
                <a:lnTo>
                  <a:pt x="33840" y="1995"/>
                </a:lnTo>
                <a:lnTo>
                  <a:pt x="46731" y="0"/>
                </a:lnTo>
                <a:lnTo>
                  <a:pt x="63037" y="4293"/>
                </a:lnTo>
                <a:lnTo>
                  <a:pt x="93945" y="28203"/>
                </a:lnTo>
                <a:lnTo>
                  <a:pt x="99458" y="49710"/>
                </a:lnTo>
                <a:lnTo>
                  <a:pt x="95064" y="64068"/>
                </a:lnTo>
                <a:lnTo>
                  <a:pt x="57125" y="93955"/>
                </a:lnTo>
                <a:lnTo>
                  <a:pt x="44753" y="94075"/>
                </a:lnTo>
                <a:lnTo>
                  <a:pt x="30484" y="89520"/>
                </a:lnTo>
                <a:lnTo>
                  <a:pt x="18679" y="82573"/>
                </a:lnTo>
                <a:lnTo>
                  <a:pt x="9533" y="73684"/>
                </a:lnTo>
                <a:lnTo>
                  <a:pt x="3242" y="63307"/>
                </a:lnTo>
                <a:lnTo>
                  <a:pt x="0" y="51891"/>
                </a:lnTo>
                <a:lnTo>
                  <a:pt x="2" y="39891"/>
                </a:lnTo>
                <a:lnTo>
                  <a:pt x="577" y="3664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bject 260"/>
          <p:cNvSpPr/>
          <p:nvPr/>
        </p:nvSpPr>
        <p:spPr>
          <a:xfrm>
            <a:off x="1814400" y="6165720"/>
            <a:ext cx="66960" cy="55800"/>
          </a:xfrm>
          <a:prstGeom prst="rect">
            <a:avLst/>
          </a:prstGeom>
          <a:blipFill rotWithShape="0">
            <a:blip r:embed="rId7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bject 261"/>
          <p:cNvSpPr/>
          <p:nvPr/>
        </p:nvSpPr>
        <p:spPr>
          <a:xfrm>
            <a:off x="1814400" y="6165720"/>
            <a:ext cx="66960" cy="55800"/>
          </a:xfrm>
          <a:custGeom>
            <a:avLst/>
            <a:gdLst>
              <a:gd name="textAreaLeft" fmla="*/ 0 w 66960"/>
              <a:gd name="textAreaRight" fmla="*/ 67320 w 669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494" y="21160"/>
                </a:moveTo>
                <a:lnTo>
                  <a:pt x="5855" y="10474"/>
                </a:lnTo>
                <a:lnTo>
                  <a:pt x="15650" y="3154"/>
                </a:lnTo>
                <a:lnTo>
                  <a:pt x="28381" y="0"/>
                </a:lnTo>
                <a:lnTo>
                  <a:pt x="45192" y="4725"/>
                </a:lnTo>
                <a:lnTo>
                  <a:pt x="56971" y="11995"/>
                </a:lnTo>
                <a:lnTo>
                  <a:pt x="63829" y="21037"/>
                </a:lnTo>
                <a:lnTo>
                  <a:pt x="65876" y="31077"/>
                </a:lnTo>
                <a:lnTo>
                  <a:pt x="60670" y="43603"/>
                </a:lnTo>
                <a:lnTo>
                  <a:pt x="51586" y="52019"/>
                </a:lnTo>
                <a:lnTo>
                  <a:pt x="39833" y="56047"/>
                </a:lnTo>
                <a:lnTo>
                  <a:pt x="22207" y="51638"/>
                </a:lnTo>
                <a:lnTo>
                  <a:pt x="9862" y="44749"/>
                </a:lnTo>
                <a:lnTo>
                  <a:pt x="2543" y="36105"/>
                </a:lnTo>
                <a:lnTo>
                  <a:pt x="0" y="26429"/>
                </a:lnTo>
                <a:lnTo>
                  <a:pt x="494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bject 262"/>
          <p:cNvSpPr/>
          <p:nvPr/>
        </p:nvSpPr>
        <p:spPr>
          <a:xfrm>
            <a:off x="1706400" y="6067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4" y="24675"/>
                </a:lnTo>
                <a:lnTo>
                  <a:pt x="0" y="39996"/>
                </a:lnTo>
                <a:lnTo>
                  <a:pt x="38" y="51980"/>
                </a:lnTo>
                <a:lnTo>
                  <a:pt x="30657" y="89537"/>
                </a:lnTo>
                <a:lnTo>
                  <a:pt x="44929" y="94076"/>
                </a:lnTo>
                <a:lnTo>
                  <a:pt x="57294" y="93953"/>
                </a:lnTo>
                <a:lnTo>
                  <a:pt x="95208" y="64042"/>
                </a:lnTo>
                <a:lnTo>
                  <a:pt x="99598" y="49673"/>
                </a:lnTo>
                <a:lnTo>
                  <a:pt x="98331" y="38615"/>
                </a:lnTo>
                <a:lnTo>
                  <a:pt x="63089" y="4297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bject 263"/>
          <p:cNvSpPr/>
          <p:nvPr/>
        </p:nvSpPr>
        <p:spPr>
          <a:xfrm>
            <a:off x="1706400" y="6067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89" y="36639"/>
                </a:moveTo>
                <a:lnTo>
                  <a:pt x="33948" y="1995"/>
                </a:lnTo>
                <a:lnTo>
                  <a:pt x="46809" y="0"/>
                </a:lnTo>
                <a:lnTo>
                  <a:pt x="63089" y="4297"/>
                </a:lnTo>
                <a:lnTo>
                  <a:pt x="94033" y="28188"/>
                </a:lnTo>
                <a:lnTo>
                  <a:pt x="99598" y="49673"/>
                </a:lnTo>
                <a:lnTo>
                  <a:pt x="95208" y="64042"/>
                </a:lnTo>
                <a:lnTo>
                  <a:pt x="57294" y="93953"/>
                </a:lnTo>
                <a:lnTo>
                  <a:pt x="44929" y="94076"/>
                </a:lnTo>
                <a:lnTo>
                  <a:pt x="30657" y="89537"/>
                </a:lnTo>
                <a:lnTo>
                  <a:pt x="38" y="51980"/>
                </a:lnTo>
                <a:lnTo>
                  <a:pt x="0" y="39996"/>
                </a:lnTo>
                <a:lnTo>
                  <a:pt x="589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bject 264"/>
          <p:cNvSpPr/>
          <p:nvPr/>
        </p:nvSpPr>
        <p:spPr>
          <a:xfrm>
            <a:off x="1727280" y="6097680"/>
            <a:ext cx="65160" cy="56880"/>
          </a:xfrm>
          <a:prstGeom prst="rect">
            <a:avLst/>
          </a:prstGeom>
          <a:blipFill rotWithShape="0">
            <a:blip r:embed="rId7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bject 265"/>
          <p:cNvSpPr/>
          <p:nvPr/>
        </p:nvSpPr>
        <p:spPr>
          <a:xfrm>
            <a:off x="1727280" y="6097680"/>
            <a:ext cx="66600" cy="56880"/>
          </a:xfrm>
          <a:custGeom>
            <a:avLst/>
            <a:gdLst>
              <a:gd name="textAreaLeft" fmla="*/ 0 w 66600"/>
              <a:gd name="textAreaRight" fmla="*/ 66960 w 66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6039" h="56514">
                <a:moveTo>
                  <a:pt x="527" y="21179"/>
                </a:moveTo>
                <a:lnTo>
                  <a:pt x="5887" y="10489"/>
                </a:lnTo>
                <a:lnTo>
                  <a:pt x="15680" y="3163"/>
                </a:lnTo>
                <a:lnTo>
                  <a:pt x="28411" y="0"/>
                </a:lnTo>
                <a:lnTo>
                  <a:pt x="45224" y="4725"/>
                </a:lnTo>
                <a:lnTo>
                  <a:pt x="57004" y="11998"/>
                </a:lnTo>
                <a:lnTo>
                  <a:pt x="63862" y="21041"/>
                </a:lnTo>
                <a:lnTo>
                  <a:pt x="65908" y="31077"/>
                </a:lnTo>
                <a:lnTo>
                  <a:pt x="60703" y="43606"/>
                </a:lnTo>
                <a:lnTo>
                  <a:pt x="51621" y="52023"/>
                </a:lnTo>
                <a:lnTo>
                  <a:pt x="39870" y="56051"/>
                </a:lnTo>
                <a:lnTo>
                  <a:pt x="22280" y="51667"/>
                </a:lnTo>
                <a:lnTo>
                  <a:pt x="9922" y="44813"/>
                </a:lnTo>
                <a:lnTo>
                  <a:pt x="2570" y="36210"/>
                </a:lnTo>
                <a:lnTo>
                  <a:pt x="0" y="26581"/>
                </a:lnTo>
                <a:lnTo>
                  <a:pt x="527" y="2117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bject 266"/>
          <p:cNvSpPr/>
          <p:nvPr/>
        </p:nvSpPr>
        <p:spPr>
          <a:xfrm>
            <a:off x="1690560" y="6013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91" y="0"/>
                </a:moveTo>
                <a:lnTo>
                  <a:pt x="5030" y="24679"/>
                </a:lnTo>
                <a:lnTo>
                  <a:pt x="0" y="39997"/>
                </a:lnTo>
                <a:lnTo>
                  <a:pt x="43" y="51977"/>
                </a:lnTo>
                <a:lnTo>
                  <a:pt x="30674" y="89532"/>
                </a:lnTo>
                <a:lnTo>
                  <a:pt x="44950" y="94081"/>
                </a:lnTo>
                <a:lnTo>
                  <a:pt x="57312" y="93954"/>
                </a:lnTo>
                <a:lnTo>
                  <a:pt x="95210" y="64025"/>
                </a:lnTo>
                <a:lnTo>
                  <a:pt x="99600" y="49650"/>
                </a:lnTo>
                <a:lnTo>
                  <a:pt x="98332" y="38597"/>
                </a:lnTo>
                <a:lnTo>
                  <a:pt x="63077" y="4292"/>
                </a:lnTo>
                <a:lnTo>
                  <a:pt x="4679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bject 267"/>
          <p:cNvSpPr/>
          <p:nvPr/>
        </p:nvSpPr>
        <p:spPr>
          <a:xfrm>
            <a:off x="1690560" y="6013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87" y="36640"/>
                </a:moveTo>
                <a:lnTo>
                  <a:pt x="33915" y="1997"/>
                </a:lnTo>
                <a:lnTo>
                  <a:pt x="46791" y="0"/>
                </a:lnTo>
                <a:lnTo>
                  <a:pt x="63077" y="4292"/>
                </a:lnTo>
                <a:lnTo>
                  <a:pt x="94030" y="28173"/>
                </a:lnTo>
                <a:lnTo>
                  <a:pt x="99600" y="49650"/>
                </a:lnTo>
                <a:lnTo>
                  <a:pt x="95210" y="64025"/>
                </a:lnTo>
                <a:lnTo>
                  <a:pt x="57312" y="93954"/>
                </a:lnTo>
                <a:lnTo>
                  <a:pt x="44950" y="94081"/>
                </a:lnTo>
                <a:lnTo>
                  <a:pt x="30674" y="89532"/>
                </a:lnTo>
                <a:lnTo>
                  <a:pt x="43" y="51977"/>
                </a:lnTo>
                <a:lnTo>
                  <a:pt x="0" y="39997"/>
                </a:lnTo>
                <a:lnTo>
                  <a:pt x="587" y="36640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bject 268"/>
          <p:cNvSpPr/>
          <p:nvPr/>
        </p:nvSpPr>
        <p:spPr>
          <a:xfrm>
            <a:off x="1711440" y="6043680"/>
            <a:ext cx="64800" cy="57240"/>
          </a:xfrm>
          <a:prstGeom prst="rect">
            <a:avLst/>
          </a:prstGeom>
          <a:blipFill rotWithShape="0">
            <a:blip r:embed="rId8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bject 269"/>
          <p:cNvSpPr/>
          <p:nvPr/>
        </p:nvSpPr>
        <p:spPr>
          <a:xfrm>
            <a:off x="1711440" y="6043680"/>
            <a:ext cx="64800" cy="57240"/>
          </a:xfrm>
          <a:custGeom>
            <a:avLst/>
            <a:gdLst>
              <a:gd name="textAreaLeft" fmla="*/ 0 w 64800"/>
              <a:gd name="textAreaRight" fmla="*/ 65160 w 64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9"/>
                </a:moveTo>
                <a:lnTo>
                  <a:pt x="5885" y="10476"/>
                </a:lnTo>
                <a:lnTo>
                  <a:pt x="15681" y="3155"/>
                </a:lnTo>
                <a:lnTo>
                  <a:pt x="28414" y="0"/>
                </a:lnTo>
                <a:lnTo>
                  <a:pt x="45200" y="4714"/>
                </a:lnTo>
                <a:lnTo>
                  <a:pt x="56962" y="11968"/>
                </a:lnTo>
                <a:lnTo>
                  <a:pt x="63801" y="20991"/>
                </a:lnTo>
                <a:lnTo>
                  <a:pt x="65818" y="31011"/>
                </a:lnTo>
                <a:lnTo>
                  <a:pt x="60659" y="43579"/>
                </a:lnTo>
                <a:lnTo>
                  <a:pt x="51595" y="52014"/>
                </a:lnTo>
                <a:lnTo>
                  <a:pt x="39843" y="56044"/>
                </a:lnTo>
                <a:lnTo>
                  <a:pt x="22257" y="51656"/>
                </a:lnTo>
                <a:lnTo>
                  <a:pt x="9906" y="44797"/>
                </a:lnTo>
                <a:lnTo>
                  <a:pt x="2562" y="36188"/>
                </a:lnTo>
                <a:lnTo>
                  <a:pt x="0" y="26549"/>
                </a:lnTo>
                <a:lnTo>
                  <a:pt x="524" y="2116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bject 270"/>
          <p:cNvSpPr/>
          <p:nvPr/>
        </p:nvSpPr>
        <p:spPr>
          <a:xfrm>
            <a:off x="1763640" y="59421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93" y="0"/>
                </a:moveTo>
                <a:lnTo>
                  <a:pt x="5027" y="24683"/>
                </a:lnTo>
                <a:lnTo>
                  <a:pt x="0" y="40002"/>
                </a:lnTo>
                <a:lnTo>
                  <a:pt x="37" y="51984"/>
                </a:lnTo>
                <a:lnTo>
                  <a:pt x="30654" y="89542"/>
                </a:lnTo>
                <a:lnTo>
                  <a:pt x="44925" y="94085"/>
                </a:lnTo>
                <a:lnTo>
                  <a:pt x="57291" y="93959"/>
                </a:lnTo>
                <a:lnTo>
                  <a:pt x="95202" y="64033"/>
                </a:lnTo>
                <a:lnTo>
                  <a:pt x="99589" y="49657"/>
                </a:lnTo>
                <a:lnTo>
                  <a:pt x="98322" y="38603"/>
                </a:lnTo>
                <a:lnTo>
                  <a:pt x="63076" y="4296"/>
                </a:lnTo>
                <a:lnTo>
                  <a:pt x="4679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bject 271"/>
          <p:cNvSpPr/>
          <p:nvPr/>
        </p:nvSpPr>
        <p:spPr>
          <a:xfrm>
            <a:off x="1763640" y="59421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8" y="36651"/>
                </a:moveTo>
                <a:lnTo>
                  <a:pt x="33914" y="1997"/>
                </a:lnTo>
                <a:lnTo>
                  <a:pt x="46793" y="0"/>
                </a:lnTo>
                <a:lnTo>
                  <a:pt x="63076" y="4296"/>
                </a:lnTo>
                <a:lnTo>
                  <a:pt x="94023" y="28179"/>
                </a:lnTo>
                <a:lnTo>
                  <a:pt x="99589" y="49657"/>
                </a:lnTo>
                <a:lnTo>
                  <a:pt x="95202" y="64033"/>
                </a:lnTo>
                <a:lnTo>
                  <a:pt x="57291" y="93959"/>
                </a:lnTo>
                <a:lnTo>
                  <a:pt x="44925" y="94085"/>
                </a:lnTo>
                <a:lnTo>
                  <a:pt x="30654" y="89542"/>
                </a:lnTo>
                <a:lnTo>
                  <a:pt x="37" y="51984"/>
                </a:lnTo>
                <a:lnTo>
                  <a:pt x="0" y="40002"/>
                </a:lnTo>
                <a:lnTo>
                  <a:pt x="588" y="36651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bject 272"/>
          <p:cNvSpPr/>
          <p:nvPr/>
        </p:nvSpPr>
        <p:spPr>
          <a:xfrm>
            <a:off x="1784520" y="5972040"/>
            <a:ext cx="64800" cy="57240"/>
          </a:xfrm>
          <a:prstGeom prst="rect">
            <a:avLst/>
          </a:prstGeom>
          <a:blipFill rotWithShape="0">
            <a:blip r:embed="rId8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bject 273"/>
          <p:cNvSpPr/>
          <p:nvPr/>
        </p:nvSpPr>
        <p:spPr>
          <a:xfrm>
            <a:off x="1784520" y="597204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3" y="21178"/>
                </a:moveTo>
                <a:lnTo>
                  <a:pt x="5889" y="10492"/>
                </a:lnTo>
                <a:lnTo>
                  <a:pt x="15683" y="3165"/>
                </a:lnTo>
                <a:lnTo>
                  <a:pt x="28411" y="0"/>
                </a:lnTo>
                <a:lnTo>
                  <a:pt x="45199" y="4718"/>
                </a:lnTo>
                <a:lnTo>
                  <a:pt x="56963" y="11971"/>
                </a:lnTo>
                <a:lnTo>
                  <a:pt x="63803" y="20988"/>
                </a:lnTo>
                <a:lnTo>
                  <a:pt x="65821" y="30998"/>
                </a:lnTo>
                <a:lnTo>
                  <a:pt x="60670" y="43576"/>
                </a:lnTo>
                <a:lnTo>
                  <a:pt x="51614" y="52020"/>
                </a:lnTo>
                <a:lnTo>
                  <a:pt x="39870" y="56057"/>
                </a:lnTo>
                <a:lnTo>
                  <a:pt x="22281" y="51668"/>
                </a:lnTo>
                <a:lnTo>
                  <a:pt x="9923" y="44810"/>
                </a:lnTo>
                <a:lnTo>
                  <a:pt x="2571" y="36203"/>
                </a:lnTo>
                <a:lnTo>
                  <a:pt x="0" y="26571"/>
                </a:lnTo>
                <a:lnTo>
                  <a:pt x="523" y="2117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bject 274"/>
          <p:cNvSpPr/>
          <p:nvPr/>
        </p:nvSpPr>
        <p:spPr>
          <a:xfrm>
            <a:off x="1879560" y="59785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67" y="0"/>
                </a:moveTo>
                <a:lnTo>
                  <a:pt x="5015" y="24672"/>
                </a:lnTo>
                <a:lnTo>
                  <a:pt x="0" y="51883"/>
                </a:lnTo>
                <a:lnTo>
                  <a:pt x="3243" y="63302"/>
                </a:lnTo>
                <a:lnTo>
                  <a:pt x="9536" y="73683"/>
                </a:lnTo>
                <a:lnTo>
                  <a:pt x="18682" y="82572"/>
                </a:lnTo>
                <a:lnTo>
                  <a:pt x="30488" y="89518"/>
                </a:lnTo>
                <a:lnTo>
                  <a:pt x="44757" y="94069"/>
                </a:lnTo>
                <a:lnTo>
                  <a:pt x="57130" y="93955"/>
                </a:lnTo>
                <a:lnTo>
                  <a:pt x="95066" y="64077"/>
                </a:lnTo>
                <a:lnTo>
                  <a:pt x="99457" y="49721"/>
                </a:lnTo>
                <a:lnTo>
                  <a:pt x="98221" y="38651"/>
                </a:lnTo>
                <a:lnTo>
                  <a:pt x="63064" y="4295"/>
                </a:lnTo>
                <a:lnTo>
                  <a:pt x="4676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bject 275"/>
          <p:cNvSpPr/>
          <p:nvPr/>
        </p:nvSpPr>
        <p:spPr>
          <a:xfrm>
            <a:off x="1879560" y="59785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2" y="36636"/>
                </a:moveTo>
                <a:lnTo>
                  <a:pt x="33894" y="1994"/>
                </a:lnTo>
                <a:lnTo>
                  <a:pt x="46767" y="0"/>
                </a:lnTo>
                <a:lnTo>
                  <a:pt x="63064" y="4295"/>
                </a:lnTo>
                <a:lnTo>
                  <a:pt x="93954" y="28211"/>
                </a:lnTo>
                <a:lnTo>
                  <a:pt x="99457" y="49721"/>
                </a:lnTo>
                <a:lnTo>
                  <a:pt x="95066" y="64077"/>
                </a:lnTo>
                <a:lnTo>
                  <a:pt x="57130" y="93955"/>
                </a:lnTo>
                <a:lnTo>
                  <a:pt x="44757" y="94069"/>
                </a:lnTo>
                <a:lnTo>
                  <a:pt x="30488" y="89518"/>
                </a:lnTo>
                <a:lnTo>
                  <a:pt x="18682" y="82572"/>
                </a:lnTo>
                <a:lnTo>
                  <a:pt x="9536" y="73683"/>
                </a:lnTo>
                <a:lnTo>
                  <a:pt x="3243" y="63302"/>
                </a:lnTo>
                <a:lnTo>
                  <a:pt x="0" y="51883"/>
                </a:lnTo>
                <a:lnTo>
                  <a:pt x="0" y="39876"/>
                </a:lnTo>
                <a:lnTo>
                  <a:pt x="572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bject 276"/>
          <p:cNvSpPr/>
          <p:nvPr/>
        </p:nvSpPr>
        <p:spPr>
          <a:xfrm>
            <a:off x="1900080" y="6008760"/>
            <a:ext cx="65160" cy="55440"/>
          </a:xfrm>
          <a:prstGeom prst="rect">
            <a:avLst/>
          </a:prstGeom>
          <a:blipFill rotWithShape="0">
            <a:blip r:embed="rId8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bject 277"/>
          <p:cNvSpPr/>
          <p:nvPr/>
        </p:nvSpPr>
        <p:spPr>
          <a:xfrm>
            <a:off x="1900080" y="6008760"/>
            <a:ext cx="66960" cy="55440"/>
          </a:xfrm>
          <a:custGeom>
            <a:avLst/>
            <a:gdLst>
              <a:gd name="textAreaLeft" fmla="*/ 0 w 66960"/>
              <a:gd name="textAreaRight" fmla="*/ 67320 w 66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89" y="21160"/>
                </a:moveTo>
                <a:lnTo>
                  <a:pt x="5856" y="10476"/>
                </a:lnTo>
                <a:lnTo>
                  <a:pt x="15651" y="3156"/>
                </a:lnTo>
                <a:lnTo>
                  <a:pt x="28380" y="0"/>
                </a:lnTo>
                <a:lnTo>
                  <a:pt x="45161" y="4704"/>
                </a:lnTo>
                <a:lnTo>
                  <a:pt x="56954" y="11938"/>
                </a:lnTo>
                <a:lnTo>
                  <a:pt x="63843" y="20937"/>
                </a:lnTo>
                <a:lnTo>
                  <a:pt x="65914" y="30936"/>
                </a:lnTo>
                <a:lnTo>
                  <a:pt x="60707" y="43520"/>
                </a:lnTo>
                <a:lnTo>
                  <a:pt x="51645" y="51973"/>
                </a:lnTo>
                <a:lnTo>
                  <a:pt x="39926" y="56032"/>
                </a:lnTo>
                <a:lnTo>
                  <a:pt x="22268" y="51636"/>
                </a:lnTo>
                <a:lnTo>
                  <a:pt x="9900" y="44760"/>
                </a:lnTo>
                <a:lnTo>
                  <a:pt x="2563" y="36128"/>
                </a:lnTo>
                <a:lnTo>
                  <a:pt x="0" y="26463"/>
                </a:lnTo>
                <a:lnTo>
                  <a:pt x="489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bject 278"/>
          <p:cNvSpPr/>
          <p:nvPr/>
        </p:nvSpPr>
        <p:spPr>
          <a:xfrm>
            <a:off x="1960560" y="605628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90" y="0"/>
                </a:moveTo>
                <a:lnTo>
                  <a:pt x="5018" y="24675"/>
                </a:lnTo>
                <a:lnTo>
                  <a:pt x="0" y="51888"/>
                </a:lnTo>
                <a:lnTo>
                  <a:pt x="3240" y="63309"/>
                </a:lnTo>
                <a:lnTo>
                  <a:pt x="9531" y="73691"/>
                </a:lnTo>
                <a:lnTo>
                  <a:pt x="18675" y="82580"/>
                </a:lnTo>
                <a:lnTo>
                  <a:pt x="30478" y="89525"/>
                </a:lnTo>
                <a:lnTo>
                  <a:pt x="44744" y="94071"/>
                </a:lnTo>
                <a:lnTo>
                  <a:pt x="57118" y="93959"/>
                </a:lnTo>
                <a:lnTo>
                  <a:pt x="95064" y="64093"/>
                </a:lnTo>
                <a:lnTo>
                  <a:pt x="99458" y="49744"/>
                </a:lnTo>
                <a:lnTo>
                  <a:pt x="98225" y="38673"/>
                </a:lnTo>
                <a:lnTo>
                  <a:pt x="63081" y="4303"/>
                </a:lnTo>
                <a:lnTo>
                  <a:pt x="4679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bject 279"/>
          <p:cNvSpPr/>
          <p:nvPr/>
        </p:nvSpPr>
        <p:spPr>
          <a:xfrm>
            <a:off x="1960560" y="605628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8" y="36639"/>
                </a:moveTo>
                <a:lnTo>
                  <a:pt x="33909" y="1995"/>
                </a:lnTo>
                <a:lnTo>
                  <a:pt x="46790" y="0"/>
                </a:lnTo>
                <a:lnTo>
                  <a:pt x="63081" y="4303"/>
                </a:lnTo>
                <a:lnTo>
                  <a:pt x="93962" y="28231"/>
                </a:lnTo>
                <a:lnTo>
                  <a:pt x="99458" y="49744"/>
                </a:lnTo>
                <a:lnTo>
                  <a:pt x="95064" y="64093"/>
                </a:lnTo>
                <a:lnTo>
                  <a:pt x="57118" y="93959"/>
                </a:lnTo>
                <a:lnTo>
                  <a:pt x="44744" y="94071"/>
                </a:lnTo>
                <a:lnTo>
                  <a:pt x="30478" y="89525"/>
                </a:lnTo>
                <a:lnTo>
                  <a:pt x="18675" y="82580"/>
                </a:lnTo>
                <a:lnTo>
                  <a:pt x="9531" y="73691"/>
                </a:lnTo>
                <a:lnTo>
                  <a:pt x="3240" y="63309"/>
                </a:lnTo>
                <a:lnTo>
                  <a:pt x="0" y="51888"/>
                </a:lnTo>
                <a:lnTo>
                  <a:pt x="4" y="39882"/>
                </a:lnTo>
                <a:lnTo>
                  <a:pt x="578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bject 280"/>
          <p:cNvSpPr/>
          <p:nvPr/>
        </p:nvSpPr>
        <p:spPr>
          <a:xfrm>
            <a:off x="1979640" y="6086520"/>
            <a:ext cx="66600" cy="55440"/>
          </a:xfrm>
          <a:prstGeom prst="rect">
            <a:avLst/>
          </a:prstGeom>
          <a:blipFill rotWithShape="0">
            <a:blip r:embed="rId8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bject 281"/>
          <p:cNvSpPr/>
          <p:nvPr/>
        </p:nvSpPr>
        <p:spPr>
          <a:xfrm>
            <a:off x="1979640" y="608652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93" y="21167"/>
                </a:moveTo>
                <a:lnTo>
                  <a:pt x="5854" y="10484"/>
                </a:lnTo>
                <a:lnTo>
                  <a:pt x="15650" y="3160"/>
                </a:lnTo>
                <a:lnTo>
                  <a:pt x="28383" y="0"/>
                </a:lnTo>
                <a:lnTo>
                  <a:pt x="45158" y="4702"/>
                </a:lnTo>
                <a:lnTo>
                  <a:pt x="56949" y="11935"/>
                </a:lnTo>
                <a:lnTo>
                  <a:pt x="63839" y="20933"/>
                </a:lnTo>
                <a:lnTo>
                  <a:pt x="65909" y="30929"/>
                </a:lnTo>
                <a:lnTo>
                  <a:pt x="60700" y="43518"/>
                </a:lnTo>
                <a:lnTo>
                  <a:pt x="51639" y="51971"/>
                </a:lnTo>
                <a:lnTo>
                  <a:pt x="39922" y="56027"/>
                </a:lnTo>
                <a:lnTo>
                  <a:pt x="22264" y="51636"/>
                </a:lnTo>
                <a:lnTo>
                  <a:pt x="9896" y="44763"/>
                </a:lnTo>
                <a:lnTo>
                  <a:pt x="2560" y="36132"/>
                </a:lnTo>
                <a:lnTo>
                  <a:pt x="0" y="26471"/>
                </a:lnTo>
                <a:lnTo>
                  <a:pt x="493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bject 282"/>
          <p:cNvSpPr/>
          <p:nvPr/>
        </p:nvSpPr>
        <p:spPr>
          <a:xfrm>
            <a:off x="2021040" y="6146640"/>
            <a:ext cx="99720" cy="93960"/>
          </a:xfrm>
          <a:custGeom>
            <a:avLst/>
            <a:gdLst>
              <a:gd name="textAreaLeft" fmla="*/ 0 w 99720"/>
              <a:gd name="textAreaRight" fmla="*/ 100080 w 99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5"/>
                </a:lnTo>
                <a:lnTo>
                  <a:pt x="46" y="51988"/>
                </a:lnTo>
                <a:lnTo>
                  <a:pt x="30686" y="89536"/>
                </a:lnTo>
                <a:lnTo>
                  <a:pt x="44966" y="94080"/>
                </a:lnTo>
                <a:lnTo>
                  <a:pt x="57313" y="93954"/>
                </a:lnTo>
                <a:lnTo>
                  <a:pt x="95174" y="64022"/>
                </a:lnTo>
                <a:lnTo>
                  <a:pt x="99602" y="49645"/>
                </a:lnTo>
                <a:lnTo>
                  <a:pt x="98331" y="38590"/>
                </a:lnTo>
                <a:lnTo>
                  <a:pt x="63071" y="4289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bject 283"/>
          <p:cNvSpPr/>
          <p:nvPr/>
        </p:nvSpPr>
        <p:spPr>
          <a:xfrm>
            <a:off x="2021040" y="6146640"/>
            <a:ext cx="99720" cy="93960"/>
          </a:xfrm>
          <a:custGeom>
            <a:avLst/>
            <a:gdLst>
              <a:gd name="textAreaLeft" fmla="*/ 0 w 99720"/>
              <a:gd name="textAreaRight" fmla="*/ 100080 w 99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5"/>
                </a:moveTo>
                <a:lnTo>
                  <a:pt x="33911" y="1996"/>
                </a:lnTo>
                <a:lnTo>
                  <a:pt x="46784" y="0"/>
                </a:lnTo>
                <a:lnTo>
                  <a:pt x="63071" y="4289"/>
                </a:lnTo>
                <a:lnTo>
                  <a:pt x="94028" y="28165"/>
                </a:lnTo>
                <a:lnTo>
                  <a:pt x="99602" y="49645"/>
                </a:lnTo>
                <a:lnTo>
                  <a:pt x="95174" y="64022"/>
                </a:lnTo>
                <a:lnTo>
                  <a:pt x="57313" y="93954"/>
                </a:lnTo>
                <a:lnTo>
                  <a:pt x="44966" y="94080"/>
                </a:lnTo>
                <a:lnTo>
                  <a:pt x="30686" y="89536"/>
                </a:lnTo>
                <a:lnTo>
                  <a:pt x="46" y="51988"/>
                </a:lnTo>
                <a:lnTo>
                  <a:pt x="0" y="40005"/>
                </a:lnTo>
                <a:lnTo>
                  <a:pt x="589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bject 284"/>
          <p:cNvSpPr/>
          <p:nvPr/>
        </p:nvSpPr>
        <p:spPr>
          <a:xfrm>
            <a:off x="2041560" y="6176880"/>
            <a:ext cx="65160" cy="55800"/>
          </a:xfrm>
          <a:prstGeom prst="rect">
            <a:avLst/>
          </a:prstGeom>
          <a:blipFill rotWithShape="0">
            <a:blip r:embed="rId8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bject 285"/>
          <p:cNvSpPr/>
          <p:nvPr/>
        </p:nvSpPr>
        <p:spPr>
          <a:xfrm>
            <a:off x="2041560" y="6176880"/>
            <a:ext cx="65160" cy="55800"/>
          </a:xfrm>
          <a:custGeom>
            <a:avLst/>
            <a:gdLst>
              <a:gd name="textAreaLeft" fmla="*/ 0 w 65160"/>
              <a:gd name="textAreaRight" fmla="*/ 65520 w 651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524" y="21177"/>
                </a:moveTo>
                <a:lnTo>
                  <a:pt x="5827" y="10466"/>
                </a:lnTo>
                <a:lnTo>
                  <a:pt x="15615" y="3140"/>
                </a:lnTo>
                <a:lnTo>
                  <a:pt x="28370" y="0"/>
                </a:lnTo>
                <a:lnTo>
                  <a:pt x="45121" y="4715"/>
                </a:lnTo>
                <a:lnTo>
                  <a:pt x="56893" y="11965"/>
                </a:lnTo>
                <a:lnTo>
                  <a:pt x="63765" y="20980"/>
                </a:lnTo>
                <a:lnTo>
                  <a:pt x="65817" y="30991"/>
                </a:lnTo>
                <a:lnTo>
                  <a:pt x="60660" y="43572"/>
                </a:lnTo>
                <a:lnTo>
                  <a:pt x="51600" y="52015"/>
                </a:lnTo>
                <a:lnTo>
                  <a:pt x="39853" y="56051"/>
                </a:lnTo>
                <a:lnTo>
                  <a:pt x="22264" y="51659"/>
                </a:lnTo>
                <a:lnTo>
                  <a:pt x="9910" y="44802"/>
                </a:lnTo>
                <a:lnTo>
                  <a:pt x="2564" y="36197"/>
                </a:lnTo>
                <a:lnTo>
                  <a:pt x="0" y="26562"/>
                </a:lnTo>
                <a:lnTo>
                  <a:pt x="524" y="2117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bject 286"/>
          <p:cNvSpPr/>
          <p:nvPr/>
        </p:nvSpPr>
        <p:spPr>
          <a:xfrm>
            <a:off x="1992240" y="62276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90" y="0"/>
                </a:moveTo>
                <a:lnTo>
                  <a:pt x="5055" y="24658"/>
                </a:lnTo>
                <a:lnTo>
                  <a:pt x="0" y="40058"/>
                </a:lnTo>
                <a:lnTo>
                  <a:pt x="11" y="52031"/>
                </a:lnTo>
                <a:lnTo>
                  <a:pt x="30565" y="89539"/>
                </a:lnTo>
                <a:lnTo>
                  <a:pt x="44818" y="94074"/>
                </a:lnTo>
                <a:lnTo>
                  <a:pt x="57185" y="93959"/>
                </a:lnTo>
                <a:lnTo>
                  <a:pt x="95102" y="64072"/>
                </a:lnTo>
                <a:lnTo>
                  <a:pt x="99494" y="49711"/>
                </a:lnTo>
                <a:lnTo>
                  <a:pt x="98240" y="38643"/>
                </a:lnTo>
                <a:lnTo>
                  <a:pt x="63048" y="4298"/>
                </a:lnTo>
                <a:lnTo>
                  <a:pt x="4679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bject 287"/>
          <p:cNvSpPr/>
          <p:nvPr/>
        </p:nvSpPr>
        <p:spPr>
          <a:xfrm>
            <a:off x="1992240" y="62276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613" y="36634"/>
                </a:moveTo>
                <a:lnTo>
                  <a:pt x="33914" y="1978"/>
                </a:lnTo>
                <a:lnTo>
                  <a:pt x="46790" y="0"/>
                </a:lnTo>
                <a:lnTo>
                  <a:pt x="63048" y="4298"/>
                </a:lnTo>
                <a:lnTo>
                  <a:pt x="93951" y="28207"/>
                </a:lnTo>
                <a:lnTo>
                  <a:pt x="99494" y="49711"/>
                </a:lnTo>
                <a:lnTo>
                  <a:pt x="95102" y="64072"/>
                </a:lnTo>
                <a:lnTo>
                  <a:pt x="57185" y="93959"/>
                </a:lnTo>
                <a:lnTo>
                  <a:pt x="44818" y="94074"/>
                </a:lnTo>
                <a:lnTo>
                  <a:pt x="30565" y="89539"/>
                </a:lnTo>
                <a:lnTo>
                  <a:pt x="11" y="52031"/>
                </a:lnTo>
                <a:lnTo>
                  <a:pt x="0" y="40058"/>
                </a:lnTo>
                <a:lnTo>
                  <a:pt x="613" y="3663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bject 288"/>
          <p:cNvSpPr/>
          <p:nvPr/>
        </p:nvSpPr>
        <p:spPr>
          <a:xfrm>
            <a:off x="2011320" y="6259680"/>
            <a:ext cx="66600" cy="55440"/>
          </a:xfrm>
          <a:prstGeom prst="rect">
            <a:avLst/>
          </a:prstGeom>
          <a:blipFill rotWithShape="0">
            <a:blip r:embed="rId8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289"/>
          <p:cNvSpPr/>
          <p:nvPr/>
        </p:nvSpPr>
        <p:spPr>
          <a:xfrm>
            <a:off x="2011320" y="625968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94" y="21167"/>
                </a:moveTo>
                <a:lnTo>
                  <a:pt x="5856" y="10479"/>
                </a:lnTo>
                <a:lnTo>
                  <a:pt x="15653" y="3157"/>
                </a:lnTo>
                <a:lnTo>
                  <a:pt x="28387" y="0"/>
                </a:lnTo>
                <a:lnTo>
                  <a:pt x="45200" y="4726"/>
                </a:lnTo>
                <a:lnTo>
                  <a:pt x="56980" y="12000"/>
                </a:lnTo>
                <a:lnTo>
                  <a:pt x="63837" y="21046"/>
                </a:lnTo>
                <a:lnTo>
                  <a:pt x="65885" y="31088"/>
                </a:lnTo>
                <a:lnTo>
                  <a:pt x="60673" y="43600"/>
                </a:lnTo>
                <a:lnTo>
                  <a:pt x="51587" y="52012"/>
                </a:lnTo>
                <a:lnTo>
                  <a:pt x="39834" y="56041"/>
                </a:lnTo>
                <a:lnTo>
                  <a:pt x="22206" y="51636"/>
                </a:lnTo>
                <a:lnTo>
                  <a:pt x="9860" y="44748"/>
                </a:lnTo>
                <a:lnTo>
                  <a:pt x="2542" y="36102"/>
                </a:lnTo>
                <a:lnTo>
                  <a:pt x="0" y="26427"/>
                </a:lnTo>
                <a:lnTo>
                  <a:pt x="494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290"/>
          <p:cNvSpPr/>
          <p:nvPr/>
        </p:nvSpPr>
        <p:spPr>
          <a:xfrm>
            <a:off x="1935000" y="624528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2" y="0"/>
                </a:moveTo>
                <a:lnTo>
                  <a:pt x="5017" y="24684"/>
                </a:lnTo>
                <a:lnTo>
                  <a:pt x="0" y="51886"/>
                </a:lnTo>
                <a:lnTo>
                  <a:pt x="3241" y="63307"/>
                </a:lnTo>
                <a:lnTo>
                  <a:pt x="9533" y="73689"/>
                </a:lnTo>
                <a:lnTo>
                  <a:pt x="18678" y="82581"/>
                </a:lnTo>
                <a:lnTo>
                  <a:pt x="30481" y="89529"/>
                </a:lnTo>
                <a:lnTo>
                  <a:pt x="44748" y="94080"/>
                </a:lnTo>
                <a:lnTo>
                  <a:pt x="57123" y="93964"/>
                </a:lnTo>
                <a:lnTo>
                  <a:pt x="95066" y="64084"/>
                </a:lnTo>
                <a:lnTo>
                  <a:pt x="99457" y="49728"/>
                </a:lnTo>
                <a:lnTo>
                  <a:pt x="98224" y="38660"/>
                </a:lnTo>
                <a:lnTo>
                  <a:pt x="63076" y="4301"/>
                </a:lnTo>
                <a:lnTo>
                  <a:pt x="46782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291"/>
          <p:cNvSpPr/>
          <p:nvPr/>
        </p:nvSpPr>
        <p:spPr>
          <a:xfrm>
            <a:off x="1935000" y="624528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3" y="36651"/>
                </a:moveTo>
                <a:lnTo>
                  <a:pt x="33905" y="1999"/>
                </a:lnTo>
                <a:lnTo>
                  <a:pt x="46782" y="0"/>
                </a:lnTo>
                <a:lnTo>
                  <a:pt x="63076" y="4301"/>
                </a:lnTo>
                <a:lnTo>
                  <a:pt x="93960" y="28221"/>
                </a:lnTo>
                <a:lnTo>
                  <a:pt x="99457" y="49728"/>
                </a:lnTo>
                <a:lnTo>
                  <a:pt x="95066" y="64084"/>
                </a:lnTo>
                <a:lnTo>
                  <a:pt x="57123" y="93964"/>
                </a:lnTo>
                <a:lnTo>
                  <a:pt x="44748" y="94080"/>
                </a:lnTo>
                <a:lnTo>
                  <a:pt x="30481" y="89529"/>
                </a:lnTo>
                <a:lnTo>
                  <a:pt x="18678" y="82581"/>
                </a:lnTo>
                <a:lnTo>
                  <a:pt x="9533" y="73689"/>
                </a:lnTo>
                <a:lnTo>
                  <a:pt x="3241" y="63307"/>
                </a:lnTo>
                <a:lnTo>
                  <a:pt x="0" y="51886"/>
                </a:lnTo>
                <a:lnTo>
                  <a:pt x="2" y="39881"/>
                </a:lnTo>
                <a:lnTo>
                  <a:pt x="573" y="36651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292"/>
          <p:cNvSpPr/>
          <p:nvPr/>
        </p:nvSpPr>
        <p:spPr>
          <a:xfrm>
            <a:off x="1955880" y="6275520"/>
            <a:ext cx="65160" cy="55440"/>
          </a:xfrm>
          <a:prstGeom prst="rect">
            <a:avLst/>
          </a:prstGeom>
          <a:blipFill rotWithShape="0">
            <a:blip r:embed="rId8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293"/>
          <p:cNvSpPr/>
          <p:nvPr/>
        </p:nvSpPr>
        <p:spPr>
          <a:xfrm>
            <a:off x="1955880" y="6275520"/>
            <a:ext cx="65160" cy="56880"/>
          </a:xfrm>
          <a:custGeom>
            <a:avLst/>
            <a:gdLst>
              <a:gd name="textAreaLeft" fmla="*/ 0 w 65160"/>
              <a:gd name="textAreaRight" fmla="*/ 65520 w 651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6039" h="56514">
                <a:moveTo>
                  <a:pt x="489" y="21166"/>
                </a:moveTo>
                <a:lnTo>
                  <a:pt x="5856" y="10486"/>
                </a:lnTo>
                <a:lnTo>
                  <a:pt x="15653" y="3163"/>
                </a:lnTo>
                <a:lnTo>
                  <a:pt x="28383" y="0"/>
                </a:lnTo>
                <a:lnTo>
                  <a:pt x="45164" y="4708"/>
                </a:lnTo>
                <a:lnTo>
                  <a:pt x="56956" y="11944"/>
                </a:lnTo>
                <a:lnTo>
                  <a:pt x="63845" y="20943"/>
                </a:lnTo>
                <a:lnTo>
                  <a:pt x="65914" y="30938"/>
                </a:lnTo>
                <a:lnTo>
                  <a:pt x="60708" y="43522"/>
                </a:lnTo>
                <a:lnTo>
                  <a:pt x="51649" y="51975"/>
                </a:lnTo>
                <a:lnTo>
                  <a:pt x="39934" y="56033"/>
                </a:lnTo>
                <a:lnTo>
                  <a:pt x="22273" y="51638"/>
                </a:lnTo>
                <a:lnTo>
                  <a:pt x="9902" y="44762"/>
                </a:lnTo>
                <a:lnTo>
                  <a:pt x="2564" y="36130"/>
                </a:lnTo>
                <a:lnTo>
                  <a:pt x="0" y="26468"/>
                </a:lnTo>
                <a:lnTo>
                  <a:pt x="489" y="21166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294"/>
          <p:cNvSpPr/>
          <p:nvPr/>
        </p:nvSpPr>
        <p:spPr>
          <a:xfrm>
            <a:off x="2160720" y="5597640"/>
            <a:ext cx="99720" cy="93600"/>
          </a:xfrm>
          <a:custGeom>
            <a:avLst/>
            <a:gdLst>
              <a:gd name="textAreaLeft" fmla="*/ 0 w 99720"/>
              <a:gd name="textAreaRight" fmla="*/ 100080 w 997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3" y="0"/>
                </a:moveTo>
                <a:lnTo>
                  <a:pt x="5030" y="24672"/>
                </a:lnTo>
                <a:lnTo>
                  <a:pt x="0" y="39994"/>
                </a:lnTo>
                <a:lnTo>
                  <a:pt x="42" y="51978"/>
                </a:lnTo>
                <a:lnTo>
                  <a:pt x="30675" y="89531"/>
                </a:lnTo>
                <a:lnTo>
                  <a:pt x="44951" y="94075"/>
                </a:lnTo>
                <a:lnTo>
                  <a:pt x="57301" y="93949"/>
                </a:lnTo>
                <a:lnTo>
                  <a:pt x="95171" y="64023"/>
                </a:lnTo>
                <a:lnTo>
                  <a:pt x="99600" y="49646"/>
                </a:lnTo>
                <a:lnTo>
                  <a:pt x="98329" y="38590"/>
                </a:lnTo>
                <a:lnTo>
                  <a:pt x="63070" y="4289"/>
                </a:lnTo>
                <a:lnTo>
                  <a:pt x="4678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295"/>
          <p:cNvSpPr/>
          <p:nvPr/>
        </p:nvSpPr>
        <p:spPr>
          <a:xfrm>
            <a:off x="2160720" y="5597640"/>
            <a:ext cx="99720" cy="93600"/>
          </a:xfrm>
          <a:custGeom>
            <a:avLst/>
            <a:gdLst>
              <a:gd name="textAreaLeft" fmla="*/ 0 w 99720"/>
              <a:gd name="textAreaRight" fmla="*/ 100080 w 997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7" y="36636"/>
                </a:moveTo>
                <a:lnTo>
                  <a:pt x="33909" y="1994"/>
                </a:lnTo>
                <a:lnTo>
                  <a:pt x="46783" y="0"/>
                </a:lnTo>
                <a:lnTo>
                  <a:pt x="63070" y="4289"/>
                </a:lnTo>
                <a:lnTo>
                  <a:pt x="94026" y="28166"/>
                </a:lnTo>
                <a:lnTo>
                  <a:pt x="99600" y="49646"/>
                </a:lnTo>
                <a:lnTo>
                  <a:pt x="95171" y="64023"/>
                </a:lnTo>
                <a:lnTo>
                  <a:pt x="57301" y="93949"/>
                </a:lnTo>
                <a:lnTo>
                  <a:pt x="44951" y="94075"/>
                </a:lnTo>
                <a:lnTo>
                  <a:pt x="30675" y="89531"/>
                </a:lnTo>
                <a:lnTo>
                  <a:pt x="42" y="51978"/>
                </a:lnTo>
                <a:lnTo>
                  <a:pt x="0" y="39994"/>
                </a:lnTo>
                <a:lnTo>
                  <a:pt x="587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296"/>
          <p:cNvSpPr/>
          <p:nvPr/>
        </p:nvSpPr>
        <p:spPr>
          <a:xfrm>
            <a:off x="2181240" y="5627520"/>
            <a:ext cx="65160" cy="55800"/>
          </a:xfrm>
          <a:prstGeom prst="rect">
            <a:avLst/>
          </a:prstGeom>
          <a:blipFill rotWithShape="0">
            <a:blip r:embed="rId8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297"/>
          <p:cNvSpPr/>
          <p:nvPr/>
        </p:nvSpPr>
        <p:spPr>
          <a:xfrm>
            <a:off x="2181240" y="56275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72"/>
                </a:moveTo>
                <a:lnTo>
                  <a:pt x="5829" y="10466"/>
                </a:lnTo>
                <a:lnTo>
                  <a:pt x="15622" y="3140"/>
                </a:lnTo>
                <a:lnTo>
                  <a:pt x="28382" y="0"/>
                </a:lnTo>
                <a:lnTo>
                  <a:pt x="45128" y="4718"/>
                </a:lnTo>
                <a:lnTo>
                  <a:pt x="56896" y="11969"/>
                </a:lnTo>
                <a:lnTo>
                  <a:pt x="63766" y="20984"/>
                </a:lnTo>
                <a:lnTo>
                  <a:pt x="65816" y="30999"/>
                </a:lnTo>
                <a:lnTo>
                  <a:pt x="60661" y="43578"/>
                </a:lnTo>
                <a:lnTo>
                  <a:pt x="51603" y="52019"/>
                </a:lnTo>
                <a:lnTo>
                  <a:pt x="39859" y="56052"/>
                </a:lnTo>
                <a:lnTo>
                  <a:pt x="22269" y="51664"/>
                </a:lnTo>
                <a:lnTo>
                  <a:pt x="9914" y="44809"/>
                </a:lnTo>
                <a:lnTo>
                  <a:pt x="2566" y="36204"/>
                </a:lnTo>
                <a:lnTo>
                  <a:pt x="0" y="26566"/>
                </a:lnTo>
                <a:lnTo>
                  <a:pt x="524" y="21172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298"/>
          <p:cNvSpPr/>
          <p:nvPr/>
        </p:nvSpPr>
        <p:spPr>
          <a:xfrm>
            <a:off x="2246400" y="56865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4" y="24675"/>
                </a:lnTo>
                <a:lnTo>
                  <a:pt x="0" y="39996"/>
                </a:lnTo>
                <a:lnTo>
                  <a:pt x="38" y="51980"/>
                </a:lnTo>
                <a:lnTo>
                  <a:pt x="30656" y="89533"/>
                </a:lnTo>
                <a:lnTo>
                  <a:pt x="44928" y="94076"/>
                </a:lnTo>
                <a:lnTo>
                  <a:pt x="57294" y="93953"/>
                </a:lnTo>
                <a:lnTo>
                  <a:pt x="95208" y="64043"/>
                </a:lnTo>
                <a:lnTo>
                  <a:pt x="99598" y="49674"/>
                </a:lnTo>
                <a:lnTo>
                  <a:pt x="98331" y="38615"/>
                </a:lnTo>
                <a:lnTo>
                  <a:pt x="63089" y="4293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299"/>
          <p:cNvSpPr/>
          <p:nvPr/>
        </p:nvSpPr>
        <p:spPr>
          <a:xfrm>
            <a:off x="2246400" y="56865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8" y="36639"/>
                </a:moveTo>
                <a:lnTo>
                  <a:pt x="33948" y="1995"/>
                </a:lnTo>
                <a:lnTo>
                  <a:pt x="46809" y="0"/>
                </a:lnTo>
                <a:lnTo>
                  <a:pt x="63089" y="4293"/>
                </a:lnTo>
                <a:lnTo>
                  <a:pt x="94032" y="28186"/>
                </a:lnTo>
                <a:lnTo>
                  <a:pt x="99598" y="49674"/>
                </a:lnTo>
                <a:lnTo>
                  <a:pt x="95208" y="64043"/>
                </a:lnTo>
                <a:lnTo>
                  <a:pt x="57294" y="93953"/>
                </a:lnTo>
                <a:lnTo>
                  <a:pt x="44928" y="94076"/>
                </a:lnTo>
                <a:lnTo>
                  <a:pt x="30656" y="89533"/>
                </a:lnTo>
                <a:lnTo>
                  <a:pt x="38" y="51980"/>
                </a:lnTo>
                <a:lnTo>
                  <a:pt x="0" y="39996"/>
                </a:lnTo>
                <a:lnTo>
                  <a:pt x="588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300"/>
          <p:cNvSpPr/>
          <p:nvPr/>
        </p:nvSpPr>
        <p:spPr>
          <a:xfrm>
            <a:off x="2265480" y="5716440"/>
            <a:ext cx="66600" cy="55800"/>
          </a:xfrm>
          <a:prstGeom prst="rect">
            <a:avLst/>
          </a:prstGeom>
          <a:blipFill rotWithShape="0">
            <a:blip r:embed="rId8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301"/>
          <p:cNvSpPr/>
          <p:nvPr/>
        </p:nvSpPr>
        <p:spPr>
          <a:xfrm>
            <a:off x="2265480" y="5716440"/>
            <a:ext cx="66600" cy="55800"/>
          </a:xfrm>
          <a:custGeom>
            <a:avLst/>
            <a:gdLst>
              <a:gd name="textAreaLeft" fmla="*/ 0 w 66600"/>
              <a:gd name="textAreaRight" fmla="*/ 66960 w 666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527" y="21167"/>
                </a:moveTo>
                <a:lnTo>
                  <a:pt x="5888" y="10479"/>
                </a:lnTo>
                <a:lnTo>
                  <a:pt x="15686" y="3157"/>
                </a:lnTo>
                <a:lnTo>
                  <a:pt x="28420" y="0"/>
                </a:lnTo>
                <a:lnTo>
                  <a:pt x="45230" y="4725"/>
                </a:lnTo>
                <a:lnTo>
                  <a:pt x="57008" y="11997"/>
                </a:lnTo>
                <a:lnTo>
                  <a:pt x="63864" y="21041"/>
                </a:lnTo>
                <a:lnTo>
                  <a:pt x="65908" y="31081"/>
                </a:lnTo>
                <a:lnTo>
                  <a:pt x="60701" y="43608"/>
                </a:lnTo>
                <a:lnTo>
                  <a:pt x="51616" y="52021"/>
                </a:lnTo>
                <a:lnTo>
                  <a:pt x="39861" y="56044"/>
                </a:lnTo>
                <a:lnTo>
                  <a:pt x="22275" y="51658"/>
                </a:lnTo>
                <a:lnTo>
                  <a:pt x="9919" y="44804"/>
                </a:lnTo>
                <a:lnTo>
                  <a:pt x="2568" y="36202"/>
                </a:lnTo>
                <a:lnTo>
                  <a:pt x="0" y="26569"/>
                </a:lnTo>
                <a:lnTo>
                  <a:pt x="527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302"/>
          <p:cNvSpPr/>
          <p:nvPr/>
        </p:nvSpPr>
        <p:spPr>
          <a:xfrm>
            <a:off x="2279520" y="558468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47" y="0"/>
                </a:moveTo>
                <a:lnTo>
                  <a:pt x="5016" y="24719"/>
                </a:lnTo>
                <a:lnTo>
                  <a:pt x="0" y="39949"/>
                </a:lnTo>
                <a:lnTo>
                  <a:pt x="8" y="51946"/>
                </a:lnTo>
                <a:lnTo>
                  <a:pt x="30523" y="89568"/>
                </a:lnTo>
                <a:lnTo>
                  <a:pt x="44803" y="94120"/>
                </a:lnTo>
                <a:lnTo>
                  <a:pt x="57168" y="93998"/>
                </a:lnTo>
                <a:lnTo>
                  <a:pt x="95074" y="64089"/>
                </a:lnTo>
                <a:lnTo>
                  <a:pt x="99462" y="49724"/>
                </a:lnTo>
                <a:lnTo>
                  <a:pt x="98217" y="38659"/>
                </a:lnTo>
                <a:lnTo>
                  <a:pt x="63044" y="4312"/>
                </a:lnTo>
                <a:lnTo>
                  <a:pt x="4674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303"/>
          <p:cNvSpPr/>
          <p:nvPr/>
        </p:nvSpPr>
        <p:spPr>
          <a:xfrm>
            <a:off x="2279520" y="558468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76" y="36677"/>
                </a:moveTo>
                <a:lnTo>
                  <a:pt x="33880" y="2009"/>
                </a:lnTo>
                <a:lnTo>
                  <a:pt x="46747" y="0"/>
                </a:lnTo>
                <a:lnTo>
                  <a:pt x="63044" y="4312"/>
                </a:lnTo>
                <a:lnTo>
                  <a:pt x="93943" y="28226"/>
                </a:lnTo>
                <a:lnTo>
                  <a:pt x="99462" y="49724"/>
                </a:lnTo>
                <a:lnTo>
                  <a:pt x="95074" y="64089"/>
                </a:lnTo>
                <a:lnTo>
                  <a:pt x="57168" y="93998"/>
                </a:lnTo>
                <a:lnTo>
                  <a:pt x="44803" y="94120"/>
                </a:lnTo>
                <a:lnTo>
                  <a:pt x="30523" y="89568"/>
                </a:lnTo>
                <a:lnTo>
                  <a:pt x="8" y="51946"/>
                </a:lnTo>
                <a:lnTo>
                  <a:pt x="0" y="39949"/>
                </a:lnTo>
                <a:lnTo>
                  <a:pt x="576" y="36677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304"/>
          <p:cNvSpPr/>
          <p:nvPr/>
        </p:nvSpPr>
        <p:spPr>
          <a:xfrm>
            <a:off x="2298600" y="5614920"/>
            <a:ext cx="66600" cy="55800"/>
          </a:xfrm>
          <a:prstGeom prst="rect">
            <a:avLst/>
          </a:prstGeom>
          <a:blipFill rotWithShape="0">
            <a:blip r:embed="rId8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305"/>
          <p:cNvSpPr/>
          <p:nvPr/>
        </p:nvSpPr>
        <p:spPr>
          <a:xfrm>
            <a:off x="2298600" y="56149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0" y="21169"/>
                </a:moveTo>
                <a:lnTo>
                  <a:pt x="5856" y="10478"/>
                </a:lnTo>
                <a:lnTo>
                  <a:pt x="15653" y="3156"/>
                </a:lnTo>
                <a:lnTo>
                  <a:pt x="28383" y="0"/>
                </a:lnTo>
                <a:lnTo>
                  <a:pt x="45165" y="4703"/>
                </a:lnTo>
                <a:lnTo>
                  <a:pt x="56957" y="11939"/>
                </a:lnTo>
                <a:lnTo>
                  <a:pt x="63845" y="20940"/>
                </a:lnTo>
                <a:lnTo>
                  <a:pt x="65915" y="30938"/>
                </a:lnTo>
                <a:lnTo>
                  <a:pt x="60707" y="43514"/>
                </a:lnTo>
                <a:lnTo>
                  <a:pt x="51645" y="51966"/>
                </a:lnTo>
                <a:lnTo>
                  <a:pt x="39926" y="56026"/>
                </a:lnTo>
                <a:lnTo>
                  <a:pt x="22266" y="51635"/>
                </a:lnTo>
                <a:lnTo>
                  <a:pt x="9897" y="44759"/>
                </a:lnTo>
                <a:lnTo>
                  <a:pt x="2561" y="36126"/>
                </a:lnTo>
                <a:lnTo>
                  <a:pt x="0" y="26462"/>
                </a:lnTo>
                <a:lnTo>
                  <a:pt x="490" y="2116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306"/>
          <p:cNvSpPr/>
          <p:nvPr/>
        </p:nvSpPr>
        <p:spPr>
          <a:xfrm>
            <a:off x="2322360" y="566424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5" y="24675"/>
                </a:lnTo>
                <a:lnTo>
                  <a:pt x="0" y="39999"/>
                </a:lnTo>
                <a:lnTo>
                  <a:pt x="38" y="51984"/>
                </a:lnTo>
                <a:lnTo>
                  <a:pt x="30659" y="89539"/>
                </a:lnTo>
                <a:lnTo>
                  <a:pt x="44931" y="94079"/>
                </a:lnTo>
                <a:lnTo>
                  <a:pt x="57296" y="93956"/>
                </a:lnTo>
                <a:lnTo>
                  <a:pt x="95208" y="64044"/>
                </a:lnTo>
                <a:lnTo>
                  <a:pt x="99598" y="49674"/>
                </a:lnTo>
                <a:lnTo>
                  <a:pt x="98332" y="38615"/>
                </a:lnTo>
                <a:lnTo>
                  <a:pt x="63089" y="4293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307"/>
          <p:cNvSpPr/>
          <p:nvPr/>
        </p:nvSpPr>
        <p:spPr>
          <a:xfrm>
            <a:off x="2322360" y="566424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9" y="36639"/>
                </a:moveTo>
                <a:lnTo>
                  <a:pt x="33949" y="1995"/>
                </a:lnTo>
                <a:lnTo>
                  <a:pt x="46809" y="0"/>
                </a:lnTo>
                <a:lnTo>
                  <a:pt x="63089" y="4293"/>
                </a:lnTo>
                <a:lnTo>
                  <a:pt x="94033" y="28186"/>
                </a:lnTo>
                <a:lnTo>
                  <a:pt x="99598" y="49674"/>
                </a:lnTo>
                <a:lnTo>
                  <a:pt x="95208" y="64044"/>
                </a:lnTo>
                <a:lnTo>
                  <a:pt x="57296" y="93956"/>
                </a:lnTo>
                <a:lnTo>
                  <a:pt x="44931" y="94079"/>
                </a:lnTo>
                <a:lnTo>
                  <a:pt x="30659" y="89539"/>
                </a:lnTo>
                <a:lnTo>
                  <a:pt x="38" y="51984"/>
                </a:lnTo>
                <a:lnTo>
                  <a:pt x="0" y="39999"/>
                </a:lnTo>
                <a:lnTo>
                  <a:pt x="589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308"/>
          <p:cNvSpPr/>
          <p:nvPr/>
        </p:nvSpPr>
        <p:spPr>
          <a:xfrm>
            <a:off x="2343240" y="5695920"/>
            <a:ext cx="65160" cy="55440"/>
          </a:xfrm>
          <a:prstGeom prst="rect">
            <a:avLst/>
          </a:prstGeom>
          <a:blipFill rotWithShape="0">
            <a:blip r:embed="rId9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309"/>
          <p:cNvSpPr/>
          <p:nvPr/>
        </p:nvSpPr>
        <p:spPr>
          <a:xfrm>
            <a:off x="2343240" y="5695920"/>
            <a:ext cx="65160" cy="55440"/>
          </a:xfrm>
          <a:custGeom>
            <a:avLst/>
            <a:gdLst>
              <a:gd name="textAreaLeft" fmla="*/ 0 w 65160"/>
              <a:gd name="textAreaRight" fmla="*/ 65520 w 65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7" y="21166"/>
                </a:moveTo>
                <a:lnTo>
                  <a:pt x="5888" y="10483"/>
                </a:lnTo>
                <a:lnTo>
                  <a:pt x="15686" y="3160"/>
                </a:lnTo>
                <a:lnTo>
                  <a:pt x="28420" y="0"/>
                </a:lnTo>
                <a:lnTo>
                  <a:pt x="45230" y="4724"/>
                </a:lnTo>
                <a:lnTo>
                  <a:pt x="57008" y="11996"/>
                </a:lnTo>
                <a:lnTo>
                  <a:pt x="63864" y="21040"/>
                </a:lnTo>
                <a:lnTo>
                  <a:pt x="65908" y="31080"/>
                </a:lnTo>
                <a:lnTo>
                  <a:pt x="60702" y="43607"/>
                </a:lnTo>
                <a:lnTo>
                  <a:pt x="51618" y="52020"/>
                </a:lnTo>
                <a:lnTo>
                  <a:pt x="39864" y="56044"/>
                </a:lnTo>
                <a:lnTo>
                  <a:pt x="22277" y="51658"/>
                </a:lnTo>
                <a:lnTo>
                  <a:pt x="9920" y="44804"/>
                </a:lnTo>
                <a:lnTo>
                  <a:pt x="2569" y="36202"/>
                </a:lnTo>
                <a:lnTo>
                  <a:pt x="0" y="26570"/>
                </a:lnTo>
                <a:lnTo>
                  <a:pt x="527" y="21166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310"/>
          <p:cNvSpPr/>
          <p:nvPr/>
        </p:nvSpPr>
        <p:spPr>
          <a:xfrm>
            <a:off x="2270160" y="55389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77" y="0"/>
                </a:moveTo>
                <a:lnTo>
                  <a:pt x="5020" y="24663"/>
                </a:lnTo>
                <a:lnTo>
                  <a:pt x="0" y="51857"/>
                </a:lnTo>
                <a:lnTo>
                  <a:pt x="3241" y="63273"/>
                </a:lnTo>
                <a:lnTo>
                  <a:pt x="9533" y="73654"/>
                </a:lnTo>
                <a:lnTo>
                  <a:pt x="18678" y="82544"/>
                </a:lnTo>
                <a:lnTo>
                  <a:pt x="30481" y="89492"/>
                </a:lnTo>
                <a:lnTo>
                  <a:pt x="44744" y="94044"/>
                </a:lnTo>
                <a:lnTo>
                  <a:pt x="57119" y="93929"/>
                </a:lnTo>
                <a:lnTo>
                  <a:pt x="95065" y="64056"/>
                </a:lnTo>
                <a:lnTo>
                  <a:pt x="99461" y="49704"/>
                </a:lnTo>
                <a:lnTo>
                  <a:pt x="98230" y="38635"/>
                </a:lnTo>
                <a:lnTo>
                  <a:pt x="63073" y="4299"/>
                </a:lnTo>
                <a:lnTo>
                  <a:pt x="4677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311"/>
          <p:cNvSpPr/>
          <p:nvPr/>
        </p:nvSpPr>
        <p:spPr>
          <a:xfrm>
            <a:off x="2270160" y="55389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77" y="36624"/>
                </a:moveTo>
                <a:lnTo>
                  <a:pt x="33902" y="1991"/>
                </a:lnTo>
                <a:lnTo>
                  <a:pt x="46777" y="0"/>
                </a:lnTo>
                <a:lnTo>
                  <a:pt x="63073" y="4299"/>
                </a:lnTo>
                <a:lnTo>
                  <a:pt x="93965" y="28200"/>
                </a:lnTo>
                <a:lnTo>
                  <a:pt x="99461" y="49704"/>
                </a:lnTo>
                <a:lnTo>
                  <a:pt x="95065" y="64056"/>
                </a:lnTo>
                <a:lnTo>
                  <a:pt x="57119" y="93929"/>
                </a:lnTo>
                <a:lnTo>
                  <a:pt x="44744" y="94044"/>
                </a:lnTo>
                <a:lnTo>
                  <a:pt x="30481" y="89492"/>
                </a:lnTo>
                <a:lnTo>
                  <a:pt x="18678" y="82544"/>
                </a:lnTo>
                <a:lnTo>
                  <a:pt x="9533" y="73654"/>
                </a:lnTo>
                <a:lnTo>
                  <a:pt x="3241" y="63273"/>
                </a:lnTo>
                <a:lnTo>
                  <a:pt x="0" y="51857"/>
                </a:lnTo>
                <a:lnTo>
                  <a:pt x="5" y="39857"/>
                </a:lnTo>
                <a:lnTo>
                  <a:pt x="577" y="3662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312"/>
          <p:cNvSpPr/>
          <p:nvPr/>
        </p:nvSpPr>
        <p:spPr>
          <a:xfrm>
            <a:off x="2290680" y="5568840"/>
            <a:ext cx="65160" cy="57240"/>
          </a:xfrm>
          <a:prstGeom prst="rect">
            <a:avLst/>
          </a:prstGeom>
          <a:blipFill rotWithShape="0">
            <a:blip r:embed="rId9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313"/>
          <p:cNvSpPr/>
          <p:nvPr/>
        </p:nvSpPr>
        <p:spPr>
          <a:xfrm>
            <a:off x="2290680" y="556884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3" y="21129"/>
                </a:moveTo>
                <a:lnTo>
                  <a:pt x="5845" y="10462"/>
                </a:lnTo>
                <a:lnTo>
                  <a:pt x="15624" y="3147"/>
                </a:lnTo>
                <a:lnTo>
                  <a:pt x="28336" y="0"/>
                </a:lnTo>
                <a:lnTo>
                  <a:pt x="45133" y="4691"/>
                </a:lnTo>
                <a:lnTo>
                  <a:pt x="56939" y="11912"/>
                </a:lnTo>
                <a:lnTo>
                  <a:pt x="63838" y="20901"/>
                </a:lnTo>
                <a:lnTo>
                  <a:pt x="65918" y="30893"/>
                </a:lnTo>
                <a:lnTo>
                  <a:pt x="60707" y="43478"/>
                </a:lnTo>
                <a:lnTo>
                  <a:pt x="51650" y="51933"/>
                </a:lnTo>
                <a:lnTo>
                  <a:pt x="39939" y="55994"/>
                </a:lnTo>
                <a:lnTo>
                  <a:pt x="22276" y="51602"/>
                </a:lnTo>
                <a:lnTo>
                  <a:pt x="9904" y="44730"/>
                </a:lnTo>
                <a:lnTo>
                  <a:pt x="2565" y="36102"/>
                </a:lnTo>
                <a:lnTo>
                  <a:pt x="0" y="26444"/>
                </a:lnTo>
                <a:lnTo>
                  <a:pt x="493" y="2112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314"/>
          <p:cNvSpPr/>
          <p:nvPr/>
        </p:nvSpPr>
        <p:spPr>
          <a:xfrm>
            <a:off x="2057400" y="624852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Mening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315"/>
          <p:cNvSpPr/>
          <p:nvPr/>
        </p:nvSpPr>
        <p:spPr>
          <a:xfrm>
            <a:off x="6297480" y="5595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316"/>
          <p:cNvSpPr/>
          <p:nvPr/>
        </p:nvSpPr>
        <p:spPr>
          <a:xfrm>
            <a:off x="6297480" y="5595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317"/>
          <p:cNvSpPr/>
          <p:nvPr/>
        </p:nvSpPr>
        <p:spPr>
          <a:xfrm>
            <a:off x="6337440" y="5645160"/>
            <a:ext cx="114120" cy="88920"/>
          </a:xfrm>
          <a:prstGeom prst="rect">
            <a:avLst/>
          </a:prstGeom>
          <a:blipFill rotWithShape="0">
            <a:blip r:embed="rId9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318"/>
          <p:cNvSpPr/>
          <p:nvPr/>
        </p:nvSpPr>
        <p:spPr>
          <a:xfrm>
            <a:off x="6337440" y="564516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319"/>
          <p:cNvSpPr/>
          <p:nvPr/>
        </p:nvSpPr>
        <p:spPr>
          <a:xfrm>
            <a:off x="6095880" y="5718240"/>
            <a:ext cx="577800" cy="527040"/>
          </a:xfrm>
          <a:custGeom>
            <a:avLst/>
            <a:gdLst>
              <a:gd name="textAreaLeft" fmla="*/ 0 w 577800"/>
              <a:gd name="textAreaRight" fmla="*/ 578160 w 577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77850" h="527685">
                <a:moveTo>
                  <a:pt x="288797" y="0"/>
                </a:moveTo>
                <a:lnTo>
                  <a:pt x="241952" y="3450"/>
                </a:lnTo>
                <a:lnTo>
                  <a:pt x="197514" y="13441"/>
                </a:lnTo>
                <a:lnTo>
                  <a:pt x="156077" y="29429"/>
                </a:lnTo>
                <a:lnTo>
                  <a:pt x="118236" y="50871"/>
                </a:lnTo>
                <a:lnTo>
                  <a:pt x="84585" y="77224"/>
                </a:lnTo>
                <a:lnTo>
                  <a:pt x="55720" y="107946"/>
                </a:lnTo>
                <a:lnTo>
                  <a:pt x="32234" y="142492"/>
                </a:lnTo>
                <a:lnTo>
                  <a:pt x="14722" y="180320"/>
                </a:lnTo>
                <a:lnTo>
                  <a:pt x="3779" y="220888"/>
                </a:lnTo>
                <a:lnTo>
                  <a:pt x="0" y="263651"/>
                </a:lnTo>
                <a:lnTo>
                  <a:pt x="957" y="285274"/>
                </a:lnTo>
                <a:lnTo>
                  <a:pt x="8393" y="327008"/>
                </a:lnTo>
                <a:lnTo>
                  <a:pt x="22694" y="366273"/>
                </a:lnTo>
                <a:lnTo>
                  <a:pt x="43267" y="402529"/>
                </a:lnTo>
                <a:lnTo>
                  <a:pt x="69517" y="435230"/>
                </a:lnTo>
                <a:lnTo>
                  <a:pt x="100850" y="463835"/>
                </a:lnTo>
                <a:lnTo>
                  <a:pt x="136670" y="487800"/>
                </a:lnTo>
                <a:lnTo>
                  <a:pt x="176383" y="506583"/>
                </a:lnTo>
                <a:lnTo>
                  <a:pt x="219395" y="519641"/>
                </a:lnTo>
                <a:lnTo>
                  <a:pt x="265111" y="526429"/>
                </a:lnTo>
                <a:lnTo>
                  <a:pt x="288797" y="527303"/>
                </a:lnTo>
                <a:lnTo>
                  <a:pt x="312484" y="526429"/>
                </a:lnTo>
                <a:lnTo>
                  <a:pt x="358200" y="519641"/>
                </a:lnTo>
                <a:lnTo>
                  <a:pt x="401212" y="506583"/>
                </a:lnTo>
                <a:lnTo>
                  <a:pt x="440925" y="487800"/>
                </a:lnTo>
                <a:lnTo>
                  <a:pt x="476745" y="463835"/>
                </a:lnTo>
                <a:lnTo>
                  <a:pt x="504945" y="438317"/>
                </a:lnTo>
                <a:lnTo>
                  <a:pt x="288797" y="438317"/>
                </a:lnTo>
                <a:lnTo>
                  <a:pt x="272408" y="437738"/>
                </a:lnTo>
                <a:lnTo>
                  <a:pt x="225640" y="429412"/>
                </a:lnTo>
                <a:lnTo>
                  <a:pt x="183551" y="412148"/>
                </a:lnTo>
                <a:lnTo>
                  <a:pt x="147527" y="387158"/>
                </a:lnTo>
                <a:lnTo>
                  <a:pt x="118951" y="355657"/>
                </a:lnTo>
                <a:lnTo>
                  <a:pt x="99212" y="318859"/>
                </a:lnTo>
                <a:lnTo>
                  <a:pt x="89694" y="277977"/>
                </a:lnTo>
                <a:lnTo>
                  <a:pt x="89032" y="263651"/>
                </a:lnTo>
                <a:lnTo>
                  <a:pt x="89694" y="249326"/>
                </a:lnTo>
                <a:lnTo>
                  <a:pt x="99212" y="208443"/>
                </a:lnTo>
                <a:lnTo>
                  <a:pt x="118951" y="171643"/>
                </a:lnTo>
                <a:lnTo>
                  <a:pt x="147527" y="140139"/>
                </a:lnTo>
                <a:lnTo>
                  <a:pt x="183551" y="115147"/>
                </a:lnTo>
                <a:lnTo>
                  <a:pt x="225640" y="97880"/>
                </a:lnTo>
                <a:lnTo>
                  <a:pt x="272408" y="89553"/>
                </a:lnTo>
                <a:lnTo>
                  <a:pt x="288797" y="88974"/>
                </a:lnTo>
                <a:lnTo>
                  <a:pt x="504933" y="88974"/>
                </a:lnTo>
                <a:lnTo>
                  <a:pt x="493010" y="77224"/>
                </a:lnTo>
                <a:lnTo>
                  <a:pt x="459359" y="50871"/>
                </a:lnTo>
                <a:lnTo>
                  <a:pt x="421518" y="29429"/>
                </a:lnTo>
                <a:lnTo>
                  <a:pt x="380081" y="13441"/>
                </a:lnTo>
                <a:lnTo>
                  <a:pt x="335643" y="3450"/>
                </a:lnTo>
                <a:lnTo>
                  <a:pt x="312484" y="874"/>
                </a:lnTo>
                <a:lnTo>
                  <a:pt x="288797" y="0"/>
                </a:lnTo>
                <a:close/>
              </a:path>
              <a:path w="577850" h="527685">
                <a:moveTo>
                  <a:pt x="504933" y="88974"/>
                </a:moveTo>
                <a:lnTo>
                  <a:pt x="288797" y="88974"/>
                </a:lnTo>
                <a:lnTo>
                  <a:pt x="305187" y="89553"/>
                </a:lnTo>
                <a:lnTo>
                  <a:pt x="321210" y="91260"/>
                </a:lnTo>
                <a:lnTo>
                  <a:pt x="366572" y="102702"/>
                </a:lnTo>
                <a:lnTo>
                  <a:pt x="406794" y="122679"/>
                </a:lnTo>
                <a:lnTo>
                  <a:pt x="440490" y="149977"/>
                </a:lnTo>
                <a:lnTo>
                  <a:pt x="466274" y="183381"/>
                </a:lnTo>
                <a:lnTo>
                  <a:pt x="482760" y="221677"/>
                </a:lnTo>
                <a:lnTo>
                  <a:pt x="488563" y="263651"/>
                </a:lnTo>
                <a:lnTo>
                  <a:pt x="487901" y="277977"/>
                </a:lnTo>
                <a:lnTo>
                  <a:pt x="478383" y="318859"/>
                </a:lnTo>
                <a:lnTo>
                  <a:pt x="458644" y="355657"/>
                </a:lnTo>
                <a:lnTo>
                  <a:pt x="430068" y="387158"/>
                </a:lnTo>
                <a:lnTo>
                  <a:pt x="394044" y="412148"/>
                </a:lnTo>
                <a:lnTo>
                  <a:pt x="351954" y="429412"/>
                </a:lnTo>
                <a:lnTo>
                  <a:pt x="305187" y="437738"/>
                </a:lnTo>
                <a:lnTo>
                  <a:pt x="288797" y="438317"/>
                </a:lnTo>
                <a:lnTo>
                  <a:pt x="504945" y="438317"/>
                </a:lnTo>
                <a:lnTo>
                  <a:pt x="534328" y="402529"/>
                </a:lnTo>
                <a:lnTo>
                  <a:pt x="554901" y="366273"/>
                </a:lnTo>
                <a:lnTo>
                  <a:pt x="569202" y="327008"/>
                </a:lnTo>
                <a:lnTo>
                  <a:pt x="576638" y="285274"/>
                </a:lnTo>
                <a:lnTo>
                  <a:pt x="577595" y="263651"/>
                </a:lnTo>
                <a:lnTo>
                  <a:pt x="576638" y="242029"/>
                </a:lnTo>
                <a:lnTo>
                  <a:pt x="569202" y="200295"/>
                </a:lnTo>
                <a:lnTo>
                  <a:pt x="554901" y="161030"/>
                </a:lnTo>
                <a:lnTo>
                  <a:pt x="534328" y="124774"/>
                </a:lnTo>
                <a:lnTo>
                  <a:pt x="508078" y="92073"/>
                </a:lnTo>
                <a:lnTo>
                  <a:pt x="504933" y="88974"/>
                </a:lnTo>
                <a:close/>
              </a:path>
            </a:pathLst>
          </a:custGeom>
          <a:solidFill>
            <a:srgbClr val="d994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320"/>
          <p:cNvSpPr/>
          <p:nvPr/>
        </p:nvSpPr>
        <p:spPr>
          <a:xfrm>
            <a:off x="6095880" y="5718240"/>
            <a:ext cx="577800" cy="527040"/>
          </a:xfrm>
          <a:custGeom>
            <a:avLst/>
            <a:gdLst>
              <a:gd name="textAreaLeft" fmla="*/ 0 w 577800"/>
              <a:gd name="textAreaRight" fmla="*/ 578160 w 577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77850" h="527685">
                <a:moveTo>
                  <a:pt x="0" y="263651"/>
                </a:moveTo>
                <a:lnTo>
                  <a:pt x="3779" y="220888"/>
                </a:lnTo>
                <a:lnTo>
                  <a:pt x="14722" y="180320"/>
                </a:lnTo>
                <a:lnTo>
                  <a:pt x="32234" y="142492"/>
                </a:lnTo>
                <a:lnTo>
                  <a:pt x="55720" y="107946"/>
                </a:lnTo>
                <a:lnTo>
                  <a:pt x="84585" y="77224"/>
                </a:lnTo>
                <a:lnTo>
                  <a:pt x="118236" y="50871"/>
                </a:lnTo>
                <a:lnTo>
                  <a:pt x="156077" y="29429"/>
                </a:lnTo>
                <a:lnTo>
                  <a:pt x="197514" y="13441"/>
                </a:lnTo>
                <a:lnTo>
                  <a:pt x="241952" y="3450"/>
                </a:lnTo>
                <a:lnTo>
                  <a:pt x="288797" y="0"/>
                </a:lnTo>
                <a:lnTo>
                  <a:pt x="312484" y="874"/>
                </a:lnTo>
                <a:lnTo>
                  <a:pt x="358200" y="7662"/>
                </a:lnTo>
                <a:lnTo>
                  <a:pt x="401212" y="20720"/>
                </a:lnTo>
                <a:lnTo>
                  <a:pt x="440925" y="39503"/>
                </a:lnTo>
                <a:lnTo>
                  <a:pt x="476745" y="63468"/>
                </a:lnTo>
                <a:lnTo>
                  <a:pt x="508078" y="92073"/>
                </a:lnTo>
                <a:lnTo>
                  <a:pt x="534328" y="124774"/>
                </a:lnTo>
                <a:lnTo>
                  <a:pt x="554901" y="161030"/>
                </a:lnTo>
                <a:lnTo>
                  <a:pt x="569202" y="200295"/>
                </a:lnTo>
                <a:lnTo>
                  <a:pt x="576638" y="242029"/>
                </a:lnTo>
                <a:lnTo>
                  <a:pt x="577595" y="263651"/>
                </a:lnTo>
                <a:lnTo>
                  <a:pt x="576638" y="285274"/>
                </a:lnTo>
                <a:lnTo>
                  <a:pt x="569202" y="327008"/>
                </a:lnTo>
                <a:lnTo>
                  <a:pt x="554901" y="366273"/>
                </a:lnTo>
                <a:lnTo>
                  <a:pt x="534328" y="402529"/>
                </a:lnTo>
                <a:lnTo>
                  <a:pt x="508078" y="435230"/>
                </a:lnTo>
                <a:lnTo>
                  <a:pt x="476745" y="463835"/>
                </a:lnTo>
                <a:lnTo>
                  <a:pt x="440925" y="487800"/>
                </a:lnTo>
                <a:lnTo>
                  <a:pt x="401212" y="506583"/>
                </a:lnTo>
                <a:lnTo>
                  <a:pt x="358200" y="519641"/>
                </a:lnTo>
                <a:lnTo>
                  <a:pt x="312484" y="526429"/>
                </a:lnTo>
                <a:lnTo>
                  <a:pt x="288797" y="527303"/>
                </a:lnTo>
                <a:lnTo>
                  <a:pt x="265111" y="526429"/>
                </a:lnTo>
                <a:lnTo>
                  <a:pt x="219395" y="519641"/>
                </a:lnTo>
                <a:lnTo>
                  <a:pt x="176383" y="506583"/>
                </a:lnTo>
                <a:lnTo>
                  <a:pt x="136670" y="487800"/>
                </a:lnTo>
                <a:lnTo>
                  <a:pt x="100850" y="463835"/>
                </a:lnTo>
                <a:lnTo>
                  <a:pt x="69517" y="435230"/>
                </a:lnTo>
                <a:lnTo>
                  <a:pt x="43267" y="402529"/>
                </a:lnTo>
                <a:lnTo>
                  <a:pt x="22694" y="366273"/>
                </a:lnTo>
                <a:lnTo>
                  <a:pt x="8393" y="327008"/>
                </a:lnTo>
                <a:lnTo>
                  <a:pt x="957" y="285274"/>
                </a:lnTo>
                <a:lnTo>
                  <a:pt x="0" y="263651"/>
                </a:lnTo>
                <a:close/>
              </a:path>
            </a:pathLst>
          </a:custGeom>
          <a:noFill/>
          <a:ln w="9000">
            <a:solidFill>
              <a:srgbClr val="6223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321"/>
          <p:cNvSpPr/>
          <p:nvPr/>
        </p:nvSpPr>
        <p:spPr>
          <a:xfrm>
            <a:off x="6184800" y="5807160"/>
            <a:ext cx="400320" cy="349200"/>
          </a:xfrm>
          <a:custGeom>
            <a:avLst/>
            <a:gdLst>
              <a:gd name="textAreaLeft" fmla="*/ 0 w 400320"/>
              <a:gd name="textAreaRight" fmla="*/ 400680 w 4003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400050" h="349885">
                <a:moveTo>
                  <a:pt x="0" y="174677"/>
                </a:moveTo>
                <a:lnTo>
                  <a:pt x="5803" y="216651"/>
                </a:lnTo>
                <a:lnTo>
                  <a:pt x="22289" y="254945"/>
                </a:lnTo>
                <a:lnTo>
                  <a:pt x="48073" y="288347"/>
                </a:lnTo>
                <a:lnTo>
                  <a:pt x="81769" y="315642"/>
                </a:lnTo>
                <a:lnTo>
                  <a:pt x="121990" y="335617"/>
                </a:lnTo>
                <a:lnTo>
                  <a:pt x="167353" y="347057"/>
                </a:lnTo>
                <a:lnTo>
                  <a:pt x="199765" y="349343"/>
                </a:lnTo>
                <a:lnTo>
                  <a:pt x="216155" y="348764"/>
                </a:lnTo>
                <a:lnTo>
                  <a:pt x="262922" y="340438"/>
                </a:lnTo>
                <a:lnTo>
                  <a:pt x="305012" y="323174"/>
                </a:lnTo>
                <a:lnTo>
                  <a:pt x="341036" y="298184"/>
                </a:lnTo>
                <a:lnTo>
                  <a:pt x="369611" y="266683"/>
                </a:lnTo>
                <a:lnTo>
                  <a:pt x="389351" y="229884"/>
                </a:lnTo>
                <a:lnTo>
                  <a:pt x="398869" y="189002"/>
                </a:lnTo>
                <a:lnTo>
                  <a:pt x="399531" y="174677"/>
                </a:lnTo>
                <a:lnTo>
                  <a:pt x="398869" y="160352"/>
                </a:lnTo>
                <a:lnTo>
                  <a:pt x="389351" y="119469"/>
                </a:lnTo>
                <a:lnTo>
                  <a:pt x="369611" y="82668"/>
                </a:lnTo>
                <a:lnTo>
                  <a:pt x="341036" y="51165"/>
                </a:lnTo>
                <a:lnTo>
                  <a:pt x="305012" y="26172"/>
                </a:lnTo>
                <a:lnTo>
                  <a:pt x="262922" y="8906"/>
                </a:lnTo>
                <a:lnTo>
                  <a:pt x="216155" y="579"/>
                </a:lnTo>
                <a:lnTo>
                  <a:pt x="199765" y="0"/>
                </a:lnTo>
                <a:lnTo>
                  <a:pt x="183376" y="579"/>
                </a:lnTo>
                <a:lnTo>
                  <a:pt x="136608" y="8906"/>
                </a:lnTo>
                <a:lnTo>
                  <a:pt x="94519" y="26172"/>
                </a:lnTo>
                <a:lnTo>
                  <a:pt x="58494" y="51165"/>
                </a:lnTo>
                <a:lnTo>
                  <a:pt x="29919" y="82668"/>
                </a:lnTo>
                <a:lnTo>
                  <a:pt x="10180" y="119469"/>
                </a:lnTo>
                <a:lnTo>
                  <a:pt x="661" y="160352"/>
                </a:lnTo>
                <a:lnTo>
                  <a:pt x="0" y="174677"/>
                </a:lnTo>
                <a:close/>
              </a:path>
            </a:pathLst>
          </a:custGeom>
          <a:noFill/>
          <a:ln w="9000">
            <a:solidFill>
              <a:srgbClr val="6223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322"/>
          <p:cNvSpPr/>
          <p:nvPr/>
        </p:nvSpPr>
        <p:spPr>
          <a:xfrm>
            <a:off x="6137280" y="5568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bject 323"/>
          <p:cNvSpPr/>
          <p:nvPr/>
        </p:nvSpPr>
        <p:spPr>
          <a:xfrm>
            <a:off x="6137280" y="5568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bject 324"/>
          <p:cNvSpPr/>
          <p:nvPr/>
        </p:nvSpPr>
        <p:spPr>
          <a:xfrm>
            <a:off x="6176880" y="5616720"/>
            <a:ext cx="114480" cy="88920"/>
          </a:xfrm>
          <a:prstGeom prst="rect">
            <a:avLst/>
          </a:prstGeom>
          <a:blipFill rotWithShape="0">
            <a:blip r:embed="rId9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bject 325"/>
          <p:cNvSpPr/>
          <p:nvPr/>
        </p:nvSpPr>
        <p:spPr>
          <a:xfrm>
            <a:off x="6176880" y="561672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326"/>
          <p:cNvSpPr/>
          <p:nvPr/>
        </p:nvSpPr>
        <p:spPr>
          <a:xfrm>
            <a:off x="6181560" y="5487840"/>
            <a:ext cx="174960" cy="15264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8"/>
                </a:lnTo>
                <a:lnTo>
                  <a:pt x="14618" y="117966"/>
                </a:lnTo>
                <a:lnTo>
                  <a:pt x="47097" y="142899"/>
                </a:lnTo>
                <a:lnTo>
                  <a:pt x="93011" y="152233"/>
                </a:lnTo>
                <a:lnTo>
                  <a:pt x="107919" y="150311"/>
                </a:lnTo>
                <a:lnTo>
                  <a:pt x="146185" y="132478"/>
                </a:lnTo>
                <a:lnTo>
                  <a:pt x="170116" y="9999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bject 327"/>
          <p:cNvSpPr/>
          <p:nvPr/>
        </p:nvSpPr>
        <p:spPr>
          <a:xfrm>
            <a:off x="6181560" y="5487840"/>
            <a:ext cx="174960" cy="15264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70"/>
                </a:lnTo>
                <a:lnTo>
                  <a:pt x="156050" y="123059"/>
                </a:lnTo>
                <a:lnTo>
                  <a:pt x="121898" y="146268"/>
                </a:lnTo>
                <a:lnTo>
                  <a:pt x="93011" y="152233"/>
                </a:lnTo>
                <a:lnTo>
                  <a:pt x="76504" y="151164"/>
                </a:lnTo>
                <a:lnTo>
                  <a:pt x="34545" y="136075"/>
                </a:lnTo>
                <a:lnTo>
                  <a:pt x="7593" y="107054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bject 328"/>
          <p:cNvSpPr/>
          <p:nvPr/>
        </p:nvSpPr>
        <p:spPr>
          <a:xfrm>
            <a:off x="6221520" y="5535720"/>
            <a:ext cx="114120" cy="90360"/>
          </a:xfrm>
          <a:prstGeom prst="rect">
            <a:avLst/>
          </a:prstGeom>
          <a:blipFill rotWithShape="0">
            <a:blip r:embed="rId9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bject 329"/>
          <p:cNvSpPr/>
          <p:nvPr/>
        </p:nvSpPr>
        <p:spPr>
          <a:xfrm>
            <a:off x="6221520" y="5535720"/>
            <a:ext cx="115920" cy="91800"/>
          </a:xfrm>
          <a:custGeom>
            <a:avLst/>
            <a:gdLst>
              <a:gd name="textAreaLeft" fmla="*/ 0 w 115920"/>
              <a:gd name="textAreaRight" fmla="*/ 116280 w 115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5570" h="90804">
                <a:moveTo>
                  <a:pt x="0" y="44570"/>
                </a:moveTo>
                <a:lnTo>
                  <a:pt x="30377" y="4330"/>
                </a:lnTo>
                <a:lnTo>
                  <a:pt x="44938" y="0"/>
                </a:lnTo>
                <a:lnTo>
                  <a:pt x="63803" y="875"/>
                </a:lnTo>
                <a:lnTo>
                  <a:pt x="103695" y="17507"/>
                </a:lnTo>
                <a:lnTo>
                  <a:pt x="115001" y="36909"/>
                </a:lnTo>
                <a:lnTo>
                  <a:pt x="113427" y="51720"/>
                </a:lnTo>
                <a:lnTo>
                  <a:pt x="89138" y="82709"/>
                </a:lnTo>
                <a:lnTo>
                  <a:pt x="61713" y="90193"/>
                </a:lnTo>
                <a:lnTo>
                  <a:pt x="44847" y="88628"/>
                </a:lnTo>
                <a:lnTo>
                  <a:pt x="8311" y="67992"/>
                </a:lnTo>
                <a:lnTo>
                  <a:pt x="0" y="44570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bject 330"/>
          <p:cNvSpPr/>
          <p:nvPr/>
        </p:nvSpPr>
        <p:spPr>
          <a:xfrm>
            <a:off x="6283440" y="545292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1"/>
                </a:lnTo>
                <a:lnTo>
                  <a:pt x="14618" y="117945"/>
                </a:lnTo>
                <a:lnTo>
                  <a:pt x="47097" y="142889"/>
                </a:lnTo>
                <a:lnTo>
                  <a:pt x="93011" y="152233"/>
                </a:lnTo>
                <a:lnTo>
                  <a:pt x="107919" y="150308"/>
                </a:lnTo>
                <a:lnTo>
                  <a:pt x="146185" y="132461"/>
                </a:lnTo>
                <a:lnTo>
                  <a:pt x="170116" y="9997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bject 331"/>
          <p:cNvSpPr/>
          <p:nvPr/>
        </p:nvSpPr>
        <p:spPr>
          <a:xfrm>
            <a:off x="6283440" y="545292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57"/>
                </a:lnTo>
                <a:lnTo>
                  <a:pt x="156050" y="123038"/>
                </a:lnTo>
                <a:lnTo>
                  <a:pt x="121898" y="146261"/>
                </a:lnTo>
                <a:lnTo>
                  <a:pt x="93011" y="152233"/>
                </a:lnTo>
                <a:lnTo>
                  <a:pt x="76504" y="151162"/>
                </a:lnTo>
                <a:lnTo>
                  <a:pt x="34545" y="136059"/>
                </a:lnTo>
                <a:lnTo>
                  <a:pt x="7593" y="107033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bject 332"/>
          <p:cNvSpPr/>
          <p:nvPr/>
        </p:nvSpPr>
        <p:spPr>
          <a:xfrm>
            <a:off x="6323040" y="5500800"/>
            <a:ext cx="115920" cy="88920"/>
          </a:xfrm>
          <a:prstGeom prst="rect">
            <a:avLst/>
          </a:prstGeom>
          <a:blipFill rotWithShape="0">
            <a:blip r:embed="rId9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bject 333"/>
          <p:cNvSpPr/>
          <p:nvPr/>
        </p:nvSpPr>
        <p:spPr>
          <a:xfrm>
            <a:off x="6323040" y="55008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bject 334"/>
          <p:cNvSpPr/>
          <p:nvPr/>
        </p:nvSpPr>
        <p:spPr>
          <a:xfrm>
            <a:off x="6381720" y="551016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8"/>
                </a:lnTo>
                <a:lnTo>
                  <a:pt x="14618" y="117966"/>
                </a:lnTo>
                <a:lnTo>
                  <a:pt x="47097" y="142899"/>
                </a:lnTo>
                <a:lnTo>
                  <a:pt x="93011" y="152233"/>
                </a:lnTo>
                <a:lnTo>
                  <a:pt x="107919" y="150311"/>
                </a:lnTo>
                <a:lnTo>
                  <a:pt x="146185" y="132478"/>
                </a:lnTo>
                <a:lnTo>
                  <a:pt x="170116" y="9999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bject 335"/>
          <p:cNvSpPr/>
          <p:nvPr/>
        </p:nvSpPr>
        <p:spPr>
          <a:xfrm>
            <a:off x="6381720" y="551016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70"/>
                </a:lnTo>
                <a:lnTo>
                  <a:pt x="156050" y="123059"/>
                </a:lnTo>
                <a:lnTo>
                  <a:pt x="121898" y="146268"/>
                </a:lnTo>
                <a:lnTo>
                  <a:pt x="93011" y="152233"/>
                </a:lnTo>
                <a:lnTo>
                  <a:pt x="76504" y="151164"/>
                </a:lnTo>
                <a:lnTo>
                  <a:pt x="34545" y="136075"/>
                </a:lnTo>
                <a:lnTo>
                  <a:pt x="7593" y="107054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336"/>
          <p:cNvSpPr/>
          <p:nvPr/>
        </p:nvSpPr>
        <p:spPr>
          <a:xfrm>
            <a:off x="6419880" y="5559480"/>
            <a:ext cx="115920" cy="88920"/>
          </a:xfrm>
          <a:prstGeom prst="rect">
            <a:avLst/>
          </a:prstGeom>
          <a:blipFill rotWithShape="0">
            <a:blip r:embed="rId9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337"/>
          <p:cNvSpPr/>
          <p:nvPr/>
        </p:nvSpPr>
        <p:spPr>
          <a:xfrm>
            <a:off x="6419880" y="55594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36"/>
                </a:lnTo>
                <a:lnTo>
                  <a:pt x="88439" y="81821"/>
                </a:lnTo>
                <a:lnTo>
                  <a:pt x="60378" y="88833"/>
                </a:lnTo>
                <a:lnTo>
                  <a:pt x="43751" y="87207"/>
                </a:lnTo>
                <a:lnTo>
                  <a:pt x="7631" y="66125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338"/>
          <p:cNvSpPr/>
          <p:nvPr/>
        </p:nvSpPr>
        <p:spPr>
          <a:xfrm>
            <a:off x="6450120" y="56293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bject 339"/>
          <p:cNvSpPr/>
          <p:nvPr/>
        </p:nvSpPr>
        <p:spPr>
          <a:xfrm>
            <a:off x="6450120" y="56293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bject 340"/>
          <p:cNvSpPr/>
          <p:nvPr/>
        </p:nvSpPr>
        <p:spPr>
          <a:xfrm>
            <a:off x="6489720" y="5680080"/>
            <a:ext cx="114120" cy="88920"/>
          </a:xfrm>
          <a:prstGeom prst="rect">
            <a:avLst/>
          </a:prstGeom>
          <a:blipFill rotWithShape="0">
            <a:blip r:embed="rId9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bject 341"/>
          <p:cNvSpPr/>
          <p:nvPr/>
        </p:nvSpPr>
        <p:spPr>
          <a:xfrm>
            <a:off x="6489720" y="568008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bject 342"/>
          <p:cNvSpPr/>
          <p:nvPr/>
        </p:nvSpPr>
        <p:spPr>
          <a:xfrm>
            <a:off x="6161040" y="56260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bject 343"/>
          <p:cNvSpPr/>
          <p:nvPr/>
        </p:nvSpPr>
        <p:spPr>
          <a:xfrm>
            <a:off x="6161040" y="56260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bject 344"/>
          <p:cNvSpPr/>
          <p:nvPr/>
        </p:nvSpPr>
        <p:spPr>
          <a:xfrm>
            <a:off x="6200640" y="5675400"/>
            <a:ext cx="115920" cy="90360"/>
          </a:xfrm>
          <a:prstGeom prst="rect">
            <a:avLst/>
          </a:prstGeom>
          <a:blipFill rotWithShape="0">
            <a:blip r:embed="rId9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bject 345"/>
          <p:cNvSpPr/>
          <p:nvPr/>
        </p:nvSpPr>
        <p:spPr>
          <a:xfrm>
            <a:off x="6200640" y="567540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bject 346"/>
          <p:cNvSpPr/>
          <p:nvPr/>
        </p:nvSpPr>
        <p:spPr>
          <a:xfrm>
            <a:off x="5962680" y="5499000"/>
            <a:ext cx="176040" cy="150840"/>
          </a:xfrm>
          <a:custGeom>
            <a:avLst/>
            <a:gdLst>
              <a:gd name="textAreaLeft" fmla="*/ 0 w 176040"/>
              <a:gd name="textAreaRight" fmla="*/ 176040 w 176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75260" h="151129">
                <a:moveTo>
                  <a:pt x="85966" y="0"/>
                </a:moveTo>
                <a:lnTo>
                  <a:pt x="42521" y="10742"/>
                </a:lnTo>
                <a:lnTo>
                  <a:pt x="11708" y="37736"/>
                </a:lnTo>
                <a:lnTo>
                  <a:pt x="0" y="75424"/>
                </a:lnTo>
                <a:lnTo>
                  <a:pt x="159" y="80007"/>
                </a:lnTo>
                <a:lnTo>
                  <a:pt x="13888" y="115945"/>
                </a:lnTo>
                <a:lnTo>
                  <a:pt x="46089" y="141255"/>
                </a:lnTo>
                <a:lnTo>
                  <a:pt x="91560" y="150788"/>
                </a:lnTo>
                <a:lnTo>
                  <a:pt x="106698" y="149065"/>
                </a:lnTo>
                <a:lnTo>
                  <a:pt x="145626" y="131709"/>
                </a:lnTo>
                <a:lnTo>
                  <a:pt x="170036" y="99746"/>
                </a:lnTo>
                <a:lnTo>
                  <a:pt x="175201" y="72654"/>
                </a:lnTo>
                <a:lnTo>
                  <a:pt x="173307" y="59528"/>
                </a:lnTo>
                <a:lnTo>
                  <a:pt x="153408" y="25736"/>
                </a:lnTo>
                <a:lnTo>
                  <a:pt x="116774" y="4511"/>
                </a:lnTo>
                <a:lnTo>
                  <a:pt x="85966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bject 347"/>
          <p:cNvSpPr/>
          <p:nvPr/>
        </p:nvSpPr>
        <p:spPr>
          <a:xfrm>
            <a:off x="5962680" y="5499000"/>
            <a:ext cx="176040" cy="150840"/>
          </a:xfrm>
          <a:custGeom>
            <a:avLst/>
            <a:gdLst>
              <a:gd name="textAreaLeft" fmla="*/ 0 w 176040"/>
              <a:gd name="textAreaRight" fmla="*/ 176040 w 176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75260" h="151129">
                <a:moveTo>
                  <a:pt x="0" y="75424"/>
                </a:moveTo>
                <a:lnTo>
                  <a:pt x="11708" y="37736"/>
                </a:lnTo>
                <a:lnTo>
                  <a:pt x="42521" y="10742"/>
                </a:lnTo>
                <a:lnTo>
                  <a:pt x="85966" y="0"/>
                </a:lnTo>
                <a:lnTo>
                  <a:pt x="101863" y="1158"/>
                </a:lnTo>
                <a:lnTo>
                  <a:pt x="142765" y="16999"/>
                </a:lnTo>
                <a:lnTo>
                  <a:pt x="168897" y="47200"/>
                </a:lnTo>
                <a:lnTo>
                  <a:pt x="175201" y="72654"/>
                </a:lnTo>
                <a:lnTo>
                  <a:pt x="173881" y="86661"/>
                </a:lnTo>
                <a:lnTo>
                  <a:pt x="155680" y="122445"/>
                </a:lnTo>
                <a:lnTo>
                  <a:pt x="120907" y="145194"/>
                </a:lnTo>
                <a:lnTo>
                  <a:pt x="91560" y="150788"/>
                </a:lnTo>
                <a:lnTo>
                  <a:pt x="75250" y="149681"/>
                </a:lnTo>
                <a:lnTo>
                  <a:pt x="33624" y="134317"/>
                </a:lnTo>
                <a:lnTo>
                  <a:pt x="7002" y="104893"/>
                </a:lnTo>
                <a:lnTo>
                  <a:pt x="0" y="7542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bject 348"/>
          <p:cNvSpPr/>
          <p:nvPr/>
        </p:nvSpPr>
        <p:spPr>
          <a:xfrm>
            <a:off x="6002280" y="5546880"/>
            <a:ext cx="115920" cy="88920"/>
          </a:xfrm>
          <a:prstGeom prst="rect">
            <a:avLst/>
          </a:prstGeom>
          <a:blipFill rotWithShape="0">
            <a:blip r:embed="rId9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bject 349"/>
          <p:cNvSpPr/>
          <p:nvPr/>
        </p:nvSpPr>
        <p:spPr>
          <a:xfrm>
            <a:off x="6002280" y="55468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36"/>
                </a:lnTo>
                <a:lnTo>
                  <a:pt x="88439" y="81821"/>
                </a:lnTo>
                <a:lnTo>
                  <a:pt x="60378" y="88833"/>
                </a:lnTo>
                <a:lnTo>
                  <a:pt x="43751" y="87207"/>
                </a:lnTo>
                <a:lnTo>
                  <a:pt x="7631" y="66125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bject 350"/>
          <p:cNvSpPr/>
          <p:nvPr/>
        </p:nvSpPr>
        <p:spPr>
          <a:xfrm>
            <a:off x="6076800" y="54594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85309" y="0"/>
                </a:moveTo>
                <a:lnTo>
                  <a:pt x="42176" y="10835"/>
                </a:lnTo>
                <a:lnTo>
                  <a:pt x="11609" y="38115"/>
                </a:lnTo>
                <a:lnTo>
                  <a:pt x="0" y="76187"/>
                </a:lnTo>
                <a:lnTo>
                  <a:pt x="139" y="80535"/>
                </a:lnTo>
                <a:lnTo>
                  <a:pt x="13636" y="116949"/>
                </a:lnTo>
                <a:lnTo>
                  <a:pt x="45514" y="142632"/>
                </a:lnTo>
                <a:lnTo>
                  <a:pt x="90575" y="152319"/>
                </a:lnTo>
                <a:lnTo>
                  <a:pt x="105617" y="150601"/>
                </a:lnTo>
                <a:lnTo>
                  <a:pt x="144296" y="133099"/>
                </a:lnTo>
                <a:lnTo>
                  <a:pt x="168549" y="100854"/>
                </a:lnTo>
                <a:lnTo>
                  <a:pt x="173685" y="73565"/>
                </a:lnTo>
                <a:lnTo>
                  <a:pt x="171837" y="60288"/>
                </a:lnTo>
                <a:lnTo>
                  <a:pt x="152159" y="26081"/>
                </a:lnTo>
                <a:lnTo>
                  <a:pt x="115852" y="4574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bject 351"/>
          <p:cNvSpPr/>
          <p:nvPr/>
        </p:nvSpPr>
        <p:spPr>
          <a:xfrm>
            <a:off x="6076800" y="54594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0" y="76187"/>
                </a:moveTo>
                <a:lnTo>
                  <a:pt x="11609" y="38115"/>
                </a:lnTo>
                <a:lnTo>
                  <a:pt x="42176" y="10835"/>
                </a:lnTo>
                <a:lnTo>
                  <a:pt x="85309" y="0"/>
                </a:lnTo>
                <a:lnTo>
                  <a:pt x="101069" y="1175"/>
                </a:lnTo>
                <a:lnTo>
                  <a:pt x="141615" y="17230"/>
                </a:lnTo>
                <a:lnTo>
                  <a:pt x="167488" y="47813"/>
                </a:lnTo>
                <a:lnTo>
                  <a:pt x="173685" y="73565"/>
                </a:lnTo>
                <a:lnTo>
                  <a:pt x="172372" y="87669"/>
                </a:lnTo>
                <a:lnTo>
                  <a:pt x="154285" y="123749"/>
                </a:lnTo>
                <a:lnTo>
                  <a:pt x="119735" y="146705"/>
                </a:lnTo>
                <a:lnTo>
                  <a:pt x="90575" y="152319"/>
                </a:lnTo>
                <a:lnTo>
                  <a:pt x="74411" y="151193"/>
                </a:lnTo>
                <a:lnTo>
                  <a:pt x="33167" y="135588"/>
                </a:lnTo>
                <a:lnTo>
                  <a:pt x="6838" y="105743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bject 352"/>
          <p:cNvSpPr/>
          <p:nvPr/>
        </p:nvSpPr>
        <p:spPr>
          <a:xfrm>
            <a:off x="6114960" y="5508720"/>
            <a:ext cx="115920" cy="88920"/>
          </a:xfrm>
          <a:prstGeom prst="rect">
            <a:avLst/>
          </a:prstGeom>
          <a:blipFill rotWithShape="0">
            <a:blip r:embed="rId10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bject 353"/>
          <p:cNvSpPr/>
          <p:nvPr/>
        </p:nvSpPr>
        <p:spPr>
          <a:xfrm>
            <a:off x="6114960" y="550872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bject 354"/>
          <p:cNvSpPr/>
          <p:nvPr/>
        </p:nvSpPr>
        <p:spPr>
          <a:xfrm>
            <a:off x="6126120" y="538956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1"/>
                </a:lnTo>
                <a:lnTo>
                  <a:pt x="14618" y="117945"/>
                </a:lnTo>
                <a:lnTo>
                  <a:pt x="47097" y="142889"/>
                </a:lnTo>
                <a:lnTo>
                  <a:pt x="93011" y="152233"/>
                </a:lnTo>
                <a:lnTo>
                  <a:pt x="107919" y="150308"/>
                </a:lnTo>
                <a:lnTo>
                  <a:pt x="146185" y="132461"/>
                </a:lnTo>
                <a:lnTo>
                  <a:pt x="170116" y="9997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bject 355"/>
          <p:cNvSpPr/>
          <p:nvPr/>
        </p:nvSpPr>
        <p:spPr>
          <a:xfrm>
            <a:off x="6126120" y="538956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57"/>
                </a:lnTo>
                <a:lnTo>
                  <a:pt x="156050" y="123038"/>
                </a:lnTo>
                <a:lnTo>
                  <a:pt x="121898" y="146261"/>
                </a:lnTo>
                <a:lnTo>
                  <a:pt x="93011" y="152233"/>
                </a:lnTo>
                <a:lnTo>
                  <a:pt x="76504" y="151162"/>
                </a:lnTo>
                <a:lnTo>
                  <a:pt x="34545" y="136059"/>
                </a:lnTo>
                <a:lnTo>
                  <a:pt x="7593" y="107033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bject 356"/>
          <p:cNvSpPr/>
          <p:nvPr/>
        </p:nvSpPr>
        <p:spPr>
          <a:xfrm>
            <a:off x="6165720" y="5437080"/>
            <a:ext cx="115920" cy="88920"/>
          </a:xfrm>
          <a:prstGeom prst="rect">
            <a:avLst/>
          </a:prstGeom>
          <a:blipFill rotWithShape="0">
            <a:blip r:embed="rId10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bject 357"/>
          <p:cNvSpPr/>
          <p:nvPr/>
        </p:nvSpPr>
        <p:spPr>
          <a:xfrm>
            <a:off x="6165720" y="54370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bject 358"/>
          <p:cNvSpPr/>
          <p:nvPr/>
        </p:nvSpPr>
        <p:spPr>
          <a:xfrm>
            <a:off x="6049800" y="55864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bject 359"/>
          <p:cNvSpPr/>
          <p:nvPr/>
        </p:nvSpPr>
        <p:spPr>
          <a:xfrm>
            <a:off x="6049800" y="55864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bject 360"/>
          <p:cNvSpPr/>
          <p:nvPr/>
        </p:nvSpPr>
        <p:spPr>
          <a:xfrm>
            <a:off x="6089760" y="5635800"/>
            <a:ext cx="115920" cy="88560"/>
          </a:xfrm>
          <a:prstGeom prst="rect">
            <a:avLst/>
          </a:prstGeom>
          <a:blipFill rotWithShape="0">
            <a:blip r:embed="rId10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bject 361"/>
          <p:cNvSpPr/>
          <p:nvPr/>
        </p:nvSpPr>
        <p:spPr>
          <a:xfrm>
            <a:off x="6089760" y="5635800"/>
            <a:ext cx="115920" cy="88560"/>
          </a:xfrm>
          <a:custGeom>
            <a:avLst/>
            <a:gdLst>
              <a:gd name="textAreaLeft" fmla="*/ 0 w 115920"/>
              <a:gd name="textAreaRight" fmla="*/ 116280 w 115920"/>
              <a:gd name="textAreaTop" fmla="*/ 0 h 88560"/>
              <a:gd name="textAreaBottom" fmla="*/ 88560 h 8856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bject 362"/>
          <p:cNvSpPr/>
          <p:nvPr/>
        </p:nvSpPr>
        <p:spPr>
          <a:xfrm>
            <a:off x="6000840" y="5670720"/>
            <a:ext cx="172800" cy="15228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bject 363"/>
          <p:cNvSpPr/>
          <p:nvPr/>
        </p:nvSpPr>
        <p:spPr>
          <a:xfrm>
            <a:off x="6000840" y="5670720"/>
            <a:ext cx="172800" cy="15228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bject 364"/>
          <p:cNvSpPr/>
          <p:nvPr/>
        </p:nvSpPr>
        <p:spPr>
          <a:xfrm>
            <a:off x="6039000" y="5719680"/>
            <a:ext cx="114120" cy="88920"/>
          </a:xfrm>
          <a:prstGeom prst="rect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bject 365"/>
          <p:cNvSpPr/>
          <p:nvPr/>
        </p:nvSpPr>
        <p:spPr>
          <a:xfrm>
            <a:off x="6039000" y="5719680"/>
            <a:ext cx="114120" cy="90720"/>
          </a:xfrm>
          <a:custGeom>
            <a:avLst/>
            <a:gdLst>
              <a:gd name="textAreaLeft" fmla="*/ 0 w 114120"/>
              <a:gd name="textAreaRight" fmla="*/ 114480 w 1141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bject 366"/>
          <p:cNvSpPr/>
          <p:nvPr/>
        </p:nvSpPr>
        <p:spPr>
          <a:xfrm>
            <a:off x="5965920" y="5932440"/>
            <a:ext cx="176040" cy="152280"/>
          </a:xfrm>
          <a:custGeom>
            <a:avLst/>
            <a:gdLst>
              <a:gd name="textAreaLeft" fmla="*/ 0 w 176040"/>
              <a:gd name="textAreaRight" fmla="*/ 176040 w 176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bject 367"/>
          <p:cNvSpPr/>
          <p:nvPr/>
        </p:nvSpPr>
        <p:spPr>
          <a:xfrm>
            <a:off x="5965920" y="5932440"/>
            <a:ext cx="176040" cy="152280"/>
          </a:xfrm>
          <a:custGeom>
            <a:avLst/>
            <a:gdLst>
              <a:gd name="textAreaLeft" fmla="*/ 0 w 176040"/>
              <a:gd name="textAreaRight" fmla="*/ 176040 w 176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bject 368"/>
          <p:cNvSpPr/>
          <p:nvPr/>
        </p:nvSpPr>
        <p:spPr>
          <a:xfrm>
            <a:off x="6005520" y="5983200"/>
            <a:ext cx="115920" cy="88920"/>
          </a:xfrm>
          <a:prstGeom prst="rect">
            <a:avLst/>
          </a:prstGeom>
          <a:blipFill rotWithShape="0">
            <a:blip r:embed="rId10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bject 369"/>
          <p:cNvSpPr/>
          <p:nvPr/>
        </p:nvSpPr>
        <p:spPr>
          <a:xfrm>
            <a:off x="6005520" y="59832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bject 370"/>
          <p:cNvSpPr/>
          <p:nvPr/>
        </p:nvSpPr>
        <p:spPr>
          <a:xfrm>
            <a:off x="5877000" y="600084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bject 371"/>
          <p:cNvSpPr/>
          <p:nvPr/>
        </p:nvSpPr>
        <p:spPr>
          <a:xfrm>
            <a:off x="5877000" y="600084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bject 372"/>
          <p:cNvSpPr/>
          <p:nvPr/>
        </p:nvSpPr>
        <p:spPr>
          <a:xfrm>
            <a:off x="5916600" y="6051600"/>
            <a:ext cx="114480" cy="88920"/>
          </a:xfrm>
          <a:prstGeom prst="rect">
            <a:avLst/>
          </a:prstGeom>
          <a:blipFill rotWithShape="0">
            <a:blip r:embed="rId10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bject 373"/>
          <p:cNvSpPr/>
          <p:nvPr/>
        </p:nvSpPr>
        <p:spPr>
          <a:xfrm>
            <a:off x="5916600" y="60516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bject 374"/>
          <p:cNvSpPr/>
          <p:nvPr/>
        </p:nvSpPr>
        <p:spPr>
          <a:xfrm>
            <a:off x="6534000" y="60912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bject 375"/>
          <p:cNvSpPr/>
          <p:nvPr/>
        </p:nvSpPr>
        <p:spPr>
          <a:xfrm>
            <a:off x="6534000" y="60912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bject 376"/>
          <p:cNvSpPr/>
          <p:nvPr/>
        </p:nvSpPr>
        <p:spPr>
          <a:xfrm>
            <a:off x="6573960" y="6140520"/>
            <a:ext cx="115920" cy="88920"/>
          </a:xfrm>
          <a:prstGeom prst="rect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bject 377"/>
          <p:cNvSpPr/>
          <p:nvPr/>
        </p:nvSpPr>
        <p:spPr>
          <a:xfrm>
            <a:off x="6573960" y="614052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378"/>
          <p:cNvSpPr/>
          <p:nvPr/>
        </p:nvSpPr>
        <p:spPr>
          <a:xfrm>
            <a:off x="6632640" y="5905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379"/>
          <p:cNvSpPr/>
          <p:nvPr/>
        </p:nvSpPr>
        <p:spPr>
          <a:xfrm>
            <a:off x="6632640" y="5905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380"/>
          <p:cNvSpPr/>
          <p:nvPr/>
        </p:nvSpPr>
        <p:spPr>
          <a:xfrm>
            <a:off x="6670800" y="5952960"/>
            <a:ext cx="114120" cy="88920"/>
          </a:xfrm>
          <a:prstGeom prst="rect">
            <a:avLst/>
          </a:prstGeom>
          <a:blipFill rotWithShape="0">
            <a:blip r:embed="rId10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381"/>
          <p:cNvSpPr/>
          <p:nvPr/>
        </p:nvSpPr>
        <p:spPr>
          <a:xfrm>
            <a:off x="6670800" y="595296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382"/>
          <p:cNvSpPr/>
          <p:nvPr/>
        </p:nvSpPr>
        <p:spPr>
          <a:xfrm>
            <a:off x="6669000" y="5800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383"/>
          <p:cNvSpPr/>
          <p:nvPr/>
        </p:nvSpPr>
        <p:spPr>
          <a:xfrm>
            <a:off x="6669000" y="5800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384"/>
          <p:cNvSpPr/>
          <p:nvPr/>
        </p:nvSpPr>
        <p:spPr>
          <a:xfrm>
            <a:off x="6708600" y="5848200"/>
            <a:ext cx="114480" cy="90720"/>
          </a:xfrm>
          <a:prstGeom prst="rect">
            <a:avLst/>
          </a:prstGeom>
          <a:blipFill rotWithShape="0">
            <a:blip r:embed="rId10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385"/>
          <p:cNvSpPr/>
          <p:nvPr/>
        </p:nvSpPr>
        <p:spPr>
          <a:xfrm>
            <a:off x="6708600" y="5848200"/>
            <a:ext cx="115920" cy="90720"/>
          </a:xfrm>
          <a:custGeom>
            <a:avLst/>
            <a:gdLst>
              <a:gd name="textAreaLeft" fmla="*/ 0 w 115920"/>
              <a:gd name="textAreaRight" fmla="*/ 116280 w 1159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386"/>
          <p:cNvSpPr/>
          <p:nvPr/>
        </p:nvSpPr>
        <p:spPr>
          <a:xfrm>
            <a:off x="6638760" y="5691240"/>
            <a:ext cx="174960" cy="15228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387"/>
          <p:cNvSpPr/>
          <p:nvPr/>
        </p:nvSpPr>
        <p:spPr>
          <a:xfrm>
            <a:off x="6638760" y="5691240"/>
            <a:ext cx="174960" cy="15228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388"/>
          <p:cNvSpPr/>
          <p:nvPr/>
        </p:nvSpPr>
        <p:spPr>
          <a:xfrm>
            <a:off x="6678720" y="5738760"/>
            <a:ext cx="114120" cy="90720"/>
          </a:xfrm>
          <a:prstGeom prst="rect">
            <a:avLst/>
          </a:prstGeom>
          <a:blipFill rotWithShape="0">
            <a:blip r:embed="rId10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389"/>
          <p:cNvSpPr/>
          <p:nvPr/>
        </p:nvSpPr>
        <p:spPr>
          <a:xfrm>
            <a:off x="6678720" y="5738760"/>
            <a:ext cx="115920" cy="90720"/>
          </a:xfrm>
          <a:custGeom>
            <a:avLst/>
            <a:gdLst>
              <a:gd name="textAreaLeft" fmla="*/ 0 w 115920"/>
              <a:gd name="textAreaRight" fmla="*/ 116280 w 1159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390"/>
          <p:cNvSpPr/>
          <p:nvPr/>
        </p:nvSpPr>
        <p:spPr>
          <a:xfrm>
            <a:off x="5962680" y="5824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391"/>
          <p:cNvSpPr/>
          <p:nvPr/>
        </p:nvSpPr>
        <p:spPr>
          <a:xfrm>
            <a:off x="5962680" y="5824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392"/>
          <p:cNvSpPr/>
          <p:nvPr/>
        </p:nvSpPr>
        <p:spPr>
          <a:xfrm>
            <a:off x="6000840" y="5873760"/>
            <a:ext cx="115920" cy="87480"/>
          </a:xfrm>
          <a:prstGeom prst="rect">
            <a:avLst/>
          </a:prstGeom>
          <a:blipFill rotWithShape="0">
            <a:blip r:embed="rId1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393"/>
          <p:cNvSpPr/>
          <p:nvPr/>
        </p:nvSpPr>
        <p:spPr>
          <a:xfrm>
            <a:off x="6000840" y="587376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394"/>
          <p:cNvSpPr/>
          <p:nvPr/>
        </p:nvSpPr>
        <p:spPr>
          <a:xfrm>
            <a:off x="6519960" y="5646600"/>
            <a:ext cx="172800" cy="15264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395"/>
          <p:cNvSpPr/>
          <p:nvPr/>
        </p:nvSpPr>
        <p:spPr>
          <a:xfrm>
            <a:off x="6519960" y="5646600"/>
            <a:ext cx="172800" cy="15264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396"/>
          <p:cNvSpPr/>
          <p:nvPr/>
        </p:nvSpPr>
        <p:spPr>
          <a:xfrm>
            <a:off x="6558120" y="5694480"/>
            <a:ext cx="114120" cy="90360"/>
          </a:xfrm>
          <a:prstGeom prst="rect">
            <a:avLst/>
          </a:prstGeom>
          <a:blipFill rotWithShape="0">
            <a:blip r:embed="rId1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397"/>
          <p:cNvSpPr/>
          <p:nvPr/>
        </p:nvSpPr>
        <p:spPr>
          <a:xfrm>
            <a:off x="6558120" y="5694480"/>
            <a:ext cx="115560" cy="90360"/>
          </a:xfrm>
          <a:custGeom>
            <a:avLst/>
            <a:gdLst>
              <a:gd name="textAreaLeft" fmla="*/ 0 w 115560"/>
              <a:gd name="textAreaRight" fmla="*/ 115920 w 1155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398"/>
          <p:cNvSpPr/>
          <p:nvPr/>
        </p:nvSpPr>
        <p:spPr>
          <a:xfrm>
            <a:off x="5986440" y="61531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399"/>
          <p:cNvSpPr/>
          <p:nvPr/>
        </p:nvSpPr>
        <p:spPr>
          <a:xfrm>
            <a:off x="5986440" y="61531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400"/>
          <p:cNvSpPr/>
          <p:nvPr/>
        </p:nvSpPr>
        <p:spPr>
          <a:xfrm>
            <a:off x="6026040" y="6202440"/>
            <a:ext cx="114480" cy="90360"/>
          </a:xfrm>
          <a:prstGeom prst="rect">
            <a:avLst/>
          </a:prstGeom>
          <a:blipFill rotWithShape="0">
            <a:blip r:embed="rId1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401"/>
          <p:cNvSpPr/>
          <p:nvPr/>
        </p:nvSpPr>
        <p:spPr>
          <a:xfrm>
            <a:off x="6026040" y="620244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402"/>
          <p:cNvSpPr/>
          <p:nvPr/>
        </p:nvSpPr>
        <p:spPr>
          <a:xfrm>
            <a:off x="5981760" y="6043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403"/>
          <p:cNvSpPr/>
          <p:nvPr/>
        </p:nvSpPr>
        <p:spPr>
          <a:xfrm>
            <a:off x="5981760" y="6043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404"/>
          <p:cNvSpPr/>
          <p:nvPr/>
        </p:nvSpPr>
        <p:spPr>
          <a:xfrm>
            <a:off x="6021360" y="6094440"/>
            <a:ext cx="114480" cy="88920"/>
          </a:xfrm>
          <a:prstGeom prst="rect">
            <a:avLst/>
          </a:prstGeom>
          <a:blipFill rotWithShape="0">
            <a:blip r:embed="rId1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405"/>
          <p:cNvSpPr/>
          <p:nvPr/>
        </p:nvSpPr>
        <p:spPr>
          <a:xfrm>
            <a:off x="6021360" y="609444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406"/>
          <p:cNvSpPr/>
          <p:nvPr/>
        </p:nvSpPr>
        <p:spPr>
          <a:xfrm>
            <a:off x="6642000" y="59850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407"/>
          <p:cNvSpPr/>
          <p:nvPr/>
        </p:nvSpPr>
        <p:spPr>
          <a:xfrm>
            <a:off x="6642000" y="59850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408"/>
          <p:cNvSpPr/>
          <p:nvPr/>
        </p:nvSpPr>
        <p:spPr>
          <a:xfrm>
            <a:off x="6681960" y="6033960"/>
            <a:ext cx="114120" cy="88920"/>
          </a:xfrm>
          <a:prstGeom prst="rect">
            <a:avLst/>
          </a:prstGeom>
          <a:blipFill rotWithShape="0">
            <a:blip r:embed="rId1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409"/>
          <p:cNvSpPr/>
          <p:nvPr/>
        </p:nvSpPr>
        <p:spPr>
          <a:xfrm>
            <a:off x="6681960" y="603396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410"/>
          <p:cNvSpPr/>
          <p:nvPr/>
        </p:nvSpPr>
        <p:spPr>
          <a:xfrm>
            <a:off x="5875200" y="6324480"/>
            <a:ext cx="14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Peri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Object 18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cxnSp>
        <p:nvCxnSpPr>
          <p:cNvPr id="881" name="Straight Arrow Connector 84"/>
          <p:cNvCxnSpPr/>
          <p:nvPr/>
        </p:nvCxnSpPr>
        <p:spPr>
          <a:xfrm flipH="1">
            <a:off x="3307680" y="1477440"/>
            <a:ext cx="108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2" name="Object 19" descr=""/>
          <p:cNvPicPr/>
          <p:nvPr/>
        </p:nvPicPr>
        <p:blipFill>
          <a:blip r:embed="rId2"/>
          <a:stretch/>
        </p:blipFill>
        <p:spPr>
          <a:xfrm>
            <a:off x="2717640" y="1027080"/>
            <a:ext cx="3497400" cy="46515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5"/>
          <p:cNvSpPr/>
          <p:nvPr/>
        </p:nvSpPr>
        <p:spPr>
          <a:xfrm>
            <a:off x="1219320" y="5608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reme do dostizanj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DSS 6.0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odin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itel 1"/>
          <p:cNvSpPr/>
          <p:nvPr/>
        </p:nvSpPr>
        <p:spPr>
          <a:xfrm>
            <a:off x="-152280" y="0"/>
            <a:ext cx="8577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rogresija onesposobljenosti je brža kod pacijenata sa PPMS u odnosu n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R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Straight Arrow Connector 83"/>
          <p:cNvCxnSpPr/>
          <p:nvPr/>
        </p:nvCxnSpPr>
        <p:spPr>
          <a:xfrm>
            <a:off x="3300120" y="5258880"/>
            <a:ext cx="2632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6" name="TextBox 41"/>
          <p:cNvSpPr/>
          <p:nvPr/>
        </p:nvSpPr>
        <p:spPr>
          <a:xfrm>
            <a:off x="4160880" y="2584440"/>
            <a:ext cx="865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42"/>
          <p:cNvSpPr/>
          <p:nvPr/>
        </p:nvSpPr>
        <p:spPr>
          <a:xfrm>
            <a:off x="4703760" y="3675240"/>
            <a:ext cx="623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43"/>
          <p:cNvSpPr/>
          <p:nvPr/>
        </p:nvSpPr>
        <p:spPr>
          <a:xfrm>
            <a:off x="2981160" y="1046160"/>
            <a:ext cx="6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DSS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4"/>
          <p:cNvGrpSpPr/>
          <p:nvPr/>
        </p:nvGrpSpPr>
        <p:grpSpPr>
          <a:xfrm>
            <a:off x="5375160" y="1965240"/>
            <a:ext cx="682920" cy="909720"/>
            <a:chOff x="5375160" y="1965240"/>
            <a:chExt cx="682920" cy="909720"/>
          </a:xfrm>
        </p:grpSpPr>
        <p:sp>
          <p:nvSpPr>
            <p:cNvPr id="890" name="Oval 97"/>
            <p:cNvSpPr/>
            <p:nvPr/>
          </p:nvSpPr>
          <p:spPr>
            <a:xfrm>
              <a:off x="5375160" y="1965240"/>
              <a:ext cx="682920" cy="909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39"/>
            <p:cNvGrpSpPr/>
            <p:nvPr/>
          </p:nvGrpSpPr>
          <p:grpSpPr>
            <a:xfrm>
              <a:off x="5524920" y="2109960"/>
              <a:ext cx="396000" cy="601920"/>
              <a:chOff x="5524920" y="2109960"/>
              <a:chExt cx="396000" cy="601920"/>
            </a:xfrm>
          </p:grpSpPr>
          <p:sp>
            <p:nvSpPr>
              <p:cNvPr id="892" name="Freeform 100"/>
              <p:cNvSpPr/>
              <p:nvPr/>
            </p:nvSpPr>
            <p:spPr>
              <a:xfrm>
                <a:off x="5613480" y="2109960"/>
                <a:ext cx="307440" cy="53928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222" h="292">
                    <a:moveTo>
                      <a:pt x="32" y="58"/>
                    </a:moveTo>
                    <a:lnTo>
                      <a:pt x="32" y="58"/>
                    </a:lnTo>
                    <a:lnTo>
                      <a:pt x="42" y="56"/>
                    </a:lnTo>
                    <a:lnTo>
                      <a:pt x="50" y="50"/>
                    </a:lnTo>
                    <a:lnTo>
                      <a:pt x="56" y="40"/>
                    </a:lnTo>
                    <a:lnTo>
                      <a:pt x="58" y="30"/>
                    </a:lnTo>
                    <a:lnTo>
                      <a:pt x="56" y="18"/>
                    </a:lnTo>
                    <a:lnTo>
                      <a:pt x="50" y="10"/>
                    </a:lnTo>
                    <a:lnTo>
                      <a:pt x="40" y="4"/>
                    </a:lnTo>
                    <a:lnTo>
                      <a:pt x="30" y="0"/>
                    </a:lnTo>
                    <a:lnTo>
                      <a:pt x="18" y="4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30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14" y="190"/>
                    </a:lnTo>
                    <a:lnTo>
                      <a:pt x="120" y="190"/>
                    </a:lnTo>
                    <a:lnTo>
                      <a:pt x="164" y="292"/>
                    </a:lnTo>
                    <a:lnTo>
                      <a:pt x="222" y="270"/>
                    </a:lnTo>
                    <a:lnTo>
                      <a:pt x="212" y="248"/>
                    </a:lnTo>
                    <a:lnTo>
                      <a:pt x="180" y="260"/>
                    </a:lnTo>
                    <a:lnTo>
                      <a:pt x="138" y="162"/>
                    </a:lnTo>
                    <a:lnTo>
                      <a:pt x="40" y="162"/>
                    </a:lnTo>
                    <a:lnTo>
                      <a:pt x="38" y="144"/>
                    </a:lnTo>
                    <a:lnTo>
                      <a:pt x="110" y="144"/>
                    </a:lnTo>
                    <a:lnTo>
                      <a:pt x="110" y="118"/>
                    </a:lnTo>
                    <a:lnTo>
                      <a:pt x="36" y="118"/>
                    </a:lnTo>
                    <a:lnTo>
                      <a:pt x="32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01"/>
              <p:cNvSpPr/>
              <p:nvPr/>
            </p:nvSpPr>
            <p:spPr>
              <a:xfrm>
                <a:off x="5524920" y="2335320"/>
                <a:ext cx="282600" cy="37656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204" y="146"/>
                    </a:moveTo>
                    <a:lnTo>
                      <a:pt x="204" y="146"/>
                    </a:lnTo>
                    <a:lnTo>
                      <a:pt x="196" y="158"/>
                    </a:lnTo>
                    <a:lnTo>
                      <a:pt x="186" y="170"/>
                    </a:lnTo>
                    <a:lnTo>
                      <a:pt x="176" y="180"/>
                    </a:lnTo>
                    <a:lnTo>
                      <a:pt x="164" y="188"/>
                    </a:lnTo>
                    <a:lnTo>
                      <a:pt x="150" y="194"/>
                    </a:lnTo>
                    <a:lnTo>
                      <a:pt x="138" y="200"/>
                    </a:lnTo>
                    <a:lnTo>
                      <a:pt x="122" y="204"/>
                    </a:lnTo>
                    <a:lnTo>
                      <a:pt x="108" y="204"/>
                    </a:lnTo>
                    <a:lnTo>
                      <a:pt x="86" y="202"/>
                    </a:lnTo>
                    <a:lnTo>
                      <a:pt x="66" y="196"/>
                    </a:lnTo>
                    <a:lnTo>
                      <a:pt x="48" y="186"/>
                    </a:lnTo>
                    <a:lnTo>
                      <a:pt x="32" y="172"/>
                    </a:lnTo>
                    <a:lnTo>
                      <a:pt x="20" y="156"/>
                    </a:lnTo>
                    <a:lnTo>
                      <a:pt x="10" y="138"/>
                    </a:lnTo>
                    <a:lnTo>
                      <a:pt x="2" y="118"/>
                    </a:lnTo>
                    <a:lnTo>
                      <a:pt x="0" y="98"/>
                    </a:lnTo>
                    <a:lnTo>
                      <a:pt x="2" y="82"/>
                    </a:lnTo>
                    <a:lnTo>
                      <a:pt x="6" y="68"/>
                    </a:lnTo>
                    <a:lnTo>
                      <a:pt x="10" y="52"/>
                    </a:lnTo>
                    <a:lnTo>
                      <a:pt x="18" y="40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50" y="8"/>
                    </a:lnTo>
                    <a:lnTo>
                      <a:pt x="64" y="0"/>
                    </a:lnTo>
                    <a:lnTo>
                      <a:pt x="66" y="32"/>
                    </a:lnTo>
                    <a:lnTo>
                      <a:pt x="58" y="38"/>
                    </a:lnTo>
                    <a:lnTo>
                      <a:pt x="50" y="44"/>
                    </a:lnTo>
                    <a:lnTo>
                      <a:pt x="44" y="52"/>
                    </a:lnTo>
                    <a:lnTo>
                      <a:pt x="40" y="60"/>
                    </a:lnTo>
                    <a:lnTo>
                      <a:pt x="32" y="78"/>
                    </a:lnTo>
                    <a:lnTo>
                      <a:pt x="30" y="88"/>
                    </a:lnTo>
                    <a:lnTo>
                      <a:pt x="30" y="98"/>
                    </a:lnTo>
                    <a:lnTo>
                      <a:pt x="32" y="114"/>
                    </a:lnTo>
                    <a:lnTo>
                      <a:pt x="36" y="128"/>
                    </a:lnTo>
                    <a:lnTo>
                      <a:pt x="44" y="140"/>
                    </a:lnTo>
                    <a:lnTo>
                      <a:pt x="52" y="152"/>
                    </a:lnTo>
                    <a:lnTo>
                      <a:pt x="64" y="162"/>
                    </a:lnTo>
                    <a:lnTo>
                      <a:pt x="78" y="168"/>
                    </a:lnTo>
                    <a:lnTo>
                      <a:pt x="92" y="174"/>
                    </a:lnTo>
                    <a:lnTo>
                      <a:pt x="108" y="176"/>
                    </a:lnTo>
                    <a:lnTo>
                      <a:pt x="122" y="174"/>
                    </a:lnTo>
                    <a:lnTo>
                      <a:pt x="136" y="170"/>
                    </a:lnTo>
                    <a:lnTo>
                      <a:pt x="148" y="164"/>
                    </a:lnTo>
                    <a:lnTo>
                      <a:pt x="158" y="156"/>
                    </a:lnTo>
                    <a:lnTo>
                      <a:pt x="168" y="146"/>
                    </a:lnTo>
                    <a:lnTo>
                      <a:pt x="176" y="134"/>
                    </a:lnTo>
                    <a:lnTo>
                      <a:pt x="182" y="120"/>
                    </a:lnTo>
                    <a:lnTo>
                      <a:pt x="184" y="106"/>
                    </a:lnTo>
                    <a:lnTo>
                      <a:pt x="204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49"/>
          <p:cNvGrpSpPr/>
          <p:nvPr/>
        </p:nvGrpSpPr>
        <p:grpSpPr>
          <a:xfrm>
            <a:off x="5372280" y="4046400"/>
            <a:ext cx="680760" cy="909720"/>
            <a:chOff x="5372280" y="4046400"/>
            <a:chExt cx="680760" cy="909720"/>
          </a:xfrm>
        </p:grpSpPr>
        <p:sp>
          <p:nvSpPr>
            <p:cNvPr id="895" name="Oval 95"/>
            <p:cNvSpPr/>
            <p:nvPr/>
          </p:nvSpPr>
          <p:spPr>
            <a:xfrm>
              <a:off x="5372280" y="4046400"/>
              <a:ext cx="680760" cy="909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2"/>
            <p:cNvSpPr/>
            <p:nvPr/>
          </p:nvSpPr>
          <p:spPr>
            <a:xfrm>
              <a:off x="5545800" y="4175640"/>
              <a:ext cx="350640" cy="631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254" h="342">
                  <a:moveTo>
                    <a:pt x="152" y="84"/>
                  </a:moveTo>
                  <a:lnTo>
                    <a:pt x="152" y="84"/>
                  </a:lnTo>
                  <a:lnTo>
                    <a:pt x="150" y="76"/>
                  </a:lnTo>
                  <a:lnTo>
                    <a:pt x="142" y="70"/>
                  </a:lnTo>
                  <a:lnTo>
                    <a:pt x="130" y="60"/>
                  </a:lnTo>
                  <a:lnTo>
                    <a:pt x="130" y="56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42" y="50"/>
                  </a:lnTo>
                  <a:lnTo>
                    <a:pt x="146" y="44"/>
                  </a:lnTo>
                  <a:lnTo>
                    <a:pt x="148" y="34"/>
                  </a:lnTo>
                  <a:lnTo>
                    <a:pt x="146" y="30"/>
                  </a:lnTo>
                  <a:lnTo>
                    <a:pt x="146" y="28"/>
                  </a:lnTo>
                  <a:lnTo>
                    <a:pt x="146" y="24"/>
                  </a:lnTo>
                  <a:lnTo>
                    <a:pt x="148" y="18"/>
                  </a:lnTo>
                  <a:lnTo>
                    <a:pt x="146" y="12"/>
                  </a:lnTo>
                  <a:lnTo>
                    <a:pt x="140" y="4"/>
                  </a:lnTo>
                  <a:lnTo>
                    <a:pt x="134" y="2"/>
                  </a:lnTo>
                  <a:lnTo>
                    <a:pt x="126" y="0"/>
                  </a:lnTo>
                  <a:lnTo>
                    <a:pt x="116" y="2"/>
                  </a:lnTo>
                  <a:lnTo>
                    <a:pt x="112" y="4"/>
                  </a:lnTo>
                  <a:lnTo>
                    <a:pt x="108" y="8"/>
                  </a:lnTo>
                  <a:lnTo>
                    <a:pt x="106" y="12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04" y="32"/>
                  </a:lnTo>
                  <a:lnTo>
                    <a:pt x="108" y="44"/>
                  </a:lnTo>
                  <a:lnTo>
                    <a:pt x="106" y="54"/>
                  </a:lnTo>
                  <a:lnTo>
                    <a:pt x="104" y="58"/>
                  </a:lnTo>
                  <a:lnTo>
                    <a:pt x="100" y="60"/>
                  </a:lnTo>
                  <a:lnTo>
                    <a:pt x="86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52" y="116"/>
                  </a:lnTo>
                  <a:lnTo>
                    <a:pt x="46" y="166"/>
                  </a:lnTo>
                  <a:lnTo>
                    <a:pt x="50" y="168"/>
                  </a:lnTo>
                  <a:lnTo>
                    <a:pt x="48" y="178"/>
                  </a:lnTo>
                  <a:lnTo>
                    <a:pt x="50" y="182"/>
                  </a:lnTo>
                  <a:lnTo>
                    <a:pt x="52" y="184"/>
                  </a:lnTo>
                  <a:lnTo>
                    <a:pt x="54" y="186"/>
                  </a:lnTo>
                  <a:lnTo>
                    <a:pt x="58" y="186"/>
                  </a:lnTo>
                  <a:lnTo>
                    <a:pt x="62" y="184"/>
                  </a:lnTo>
                  <a:lnTo>
                    <a:pt x="66" y="180"/>
                  </a:lnTo>
                  <a:lnTo>
                    <a:pt x="74" y="132"/>
                  </a:lnTo>
                  <a:lnTo>
                    <a:pt x="88" y="108"/>
                  </a:lnTo>
                  <a:lnTo>
                    <a:pt x="88" y="148"/>
                  </a:lnTo>
                  <a:lnTo>
                    <a:pt x="86" y="156"/>
                  </a:lnTo>
                  <a:lnTo>
                    <a:pt x="82" y="164"/>
                  </a:lnTo>
                  <a:lnTo>
                    <a:pt x="80" y="176"/>
                  </a:lnTo>
                  <a:lnTo>
                    <a:pt x="82" y="188"/>
                  </a:lnTo>
                  <a:lnTo>
                    <a:pt x="56" y="246"/>
                  </a:lnTo>
                  <a:lnTo>
                    <a:pt x="38" y="270"/>
                  </a:lnTo>
                  <a:lnTo>
                    <a:pt x="0" y="308"/>
                  </a:lnTo>
                  <a:lnTo>
                    <a:pt x="22" y="340"/>
                  </a:lnTo>
                  <a:lnTo>
                    <a:pt x="46" y="340"/>
                  </a:lnTo>
                  <a:lnTo>
                    <a:pt x="42" y="332"/>
                  </a:lnTo>
                  <a:lnTo>
                    <a:pt x="32" y="330"/>
                  </a:lnTo>
                  <a:lnTo>
                    <a:pt x="32" y="324"/>
                  </a:lnTo>
                  <a:lnTo>
                    <a:pt x="84" y="274"/>
                  </a:lnTo>
                  <a:lnTo>
                    <a:pt x="116" y="216"/>
                  </a:lnTo>
                  <a:lnTo>
                    <a:pt x="212" y="342"/>
                  </a:lnTo>
                  <a:lnTo>
                    <a:pt x="254" y="318"/>
                  </a:lnTo>
                  <a:lnTo>
                    <a:pt x="244" y="312"/>
                  </a:lnTo>
                  <a:lnTo>
                    <a:pt x="228" y="314"/>
                  </a:lnTo>
                  <a:lnTo>
                    <a:pt x="136" y="170"/>
                  </a:lnTo>
                  <a:lnTo>
                    <a:pt x="140" y="128"/>
                  </a:lnTo>
                  <a:lnTo>
                    <a:pt x="146" y="140"/>
                  </a:lnTo>
                  <a:lnTo>
                    <a:pt x="176" y="162"/>
                  </a:lnTo>
                  <a:lnTo>
                    <a:pt x="178" y="160"/>
                  </a:lnTo>
                  <a:lnTo>
                    <a:pt x="188" y="166"/>
                  </a:lnTo>
                  <a:lnTo>
                    <a:pt x="192" y="168"/>
                  </a:lnTo>
                  <a:lnTo>
                    <a:pt x="196" y="168"/>
                  </a:lnTo>
                  <a:lnTo>
                    <a:pt x="198" y="166"/>
                  </a:lnTo>
                  <a:lnTo>
                    <a:pt x="200" y="162"/>
                  </a:lnTo>
                  <a:lnTo>
                    <a:pt x="202" y="160"/>
                  </a:lnTo>
                  <a:lnTo>
                    <a:pt x="200" y="156"/>
                  </a:lnTo>
                  <a:lnTo>
                    <a:pt x="198" y="152"/>
                  </a:lnTo>
                  <a:lnTo>
                    <a:pt x="158" y="122"/>
                  </a:lnTo>
                  <a:lnTo>
                    <a:pt x="152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3"/>
          <p:cNvGrpSpPr/>
          <p:nvPr/>
        </p:nvGrpSpPr>
        <p:grpSpPr>
          <a:xfrm>
            <a:off x="5380200" y="2873520"/>
            <a:ext cx="680760" cy="911160"/>
            <a:chOff x="5380200" y="2873520"/>
            <a:chExt cx="680760" cy="911160"/>
          </a:xfrm>
        </p:grpSpPr>
        <p:sp>
          <p:nvSpPr>
            <p:cNvPr id="898" name="Oval 93"/>
            <p:cNvSpPr/>
            <p:nvPr/>
          </p:nvSpPr>
          <p:spPr>
            <a:xfrm>
              <a:off x="5380200" y="2873520"/>
              <a:ext cx="680760" cy="9111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3"/>
            <p:cNvSpPr/>
            <p:nvPr/>
          </p:nvSpPr>
          <p:spPr>
            <a:xfrm>
              <a:off x="5575320" y="2964960"/>
              <a:ext cx="268560" cy="677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194" h="366">
                  <a:moveTo>
                    <a:pt x="184" y="166"/>
                  </a:moveTo>
                  <a:lnTo>
                    <a:pt x="184" y="166"/>
                  </a:lnTo>
                  <a:lnTo>
                    <a:pt x="184" y="162"/>
                  </a:lnTo>
                  <a:lnTo>
                    <a:pt x="182" y="162"/>
                  </a:lnTo>
                  <a:lnTo>
                    <a:pt x="134" y="130"/>
                  </a:lnTo>
                  <a:lnTo>
                    <a:pt x="138" y="92"/>
                  </a:lnTo>
                  <a:lnTo>
                    <a:pt x="136" y="82"/>
                  </a:lnTo>
                  <a:lnTo>
                    <a:pt x="132" y="74"/>
                  </a:lnTo>
                  <a:lnTo>
                    <a:pt x="122" y="62"/>
                  </a:lnTo>
                  <a:lnTo>
                    <a:pt x="122" y="58"/>
                  </a:lnTo>
                  <a:lnTo>
                    <a:pt x="124" y="54"/>
                  </a:lnTo>
                  <a:lnTo>
                    <a:pt x="128" y="54"/>
                  </a:lnTo>
                  <a:lnTo>
                    <a:pt x="134" y="54"/>
                  </a:lnTo>
                  <a:lnTo>
                    <a:pt x="140" y="48"/>
                  </a:lnTo>
                  <a:lnTo>
                    <a:pt x="144" y="40"/>
                  </a:lnTo>
                  <a:lnTo>
                    <a:pt x="144" y="34"/>
                  </a:lnTo>
                  <a:lnTo>
                    <a:pt x="146" y="32"/>
                  </a:lnTo>
                  <a:lnTo>
                    <a:pt x="146" y="30"/>
                  </a:lnTo>
                  <a:lnTo>
                    <a:pt x="148" y="24"/>
                  </a:lnTo>
                  <a:lnTo>
                    <a:pt x="148" y="16"/>
                  </a:lnTo>
                  <a:lnTo>
                    <a:pt x="146" y="10"/>
                  </a:lnTo>
                  <a:lnTo>
                    <a:pt x="140" y="4"/>
                  </a:lnTo>
                  <a:lnTo>
                    <a:pt x="132" y="2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2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4" y="18"/>
                  </a:lnTo>
                  <a:lnTo>
                    <a:pt x="102" y="28"/>
                  </a:lnTo>
                  <a:lnTo>
                    <a:pt x="102" y="40"/>
                  </a:lnTo>
                  <a:lnTo>
                    <a:pt x="98" y="50"/>
                  </a:lnTo>
                  <a:lnTo>
                    <a:pt x="96" y="54"/>
                  </a:lnTo>
                  <a:lnTo>
                    <a:pt x="92" y="54"/>
                  </a:lnTo>
                  <a:lnTo>
                    <a:pt x="76" y="58"/>
                  </a:lnTo>
                  <a:lnTo>
                    <a:pt x="66" y="60"/>
                  </a:lnTo>
                  <a:lnTo>
                    <a:pt x="60" y="66"/>
                  </a:lnTo>
                  <a:lnTo>
                    <a:pt x="28" y="100"/>
                  </a:lnTo>
                  <a:lnTo>
                    <a:pt x="10" y="148"/>
                  </a:lnTo>
                  <a:lnTo>
                    <a:pt x="14" y="150"/>
                  </a:lnTo>
                  <a:lnTo>
                    <a:pt x="10" y="160"/>
                  </a:lnTo>
                  <a:lnTo>
                    <a:pt x="10" y="164"/>
                  </a:lnTo>
                  <a:lnTo>
                    <a:pt x="10" y="168"/>
                  </a:lnTo>
                  <a:lnTo>
                    <a:pt x="12" y="170"/>
                  </a:lnTo>
                  <a:lnTo>
                    <a:pt x="16" y="172"/>
                  </a:lnTo>
                  <a:lnTo>
                    <a:pt x="22" y="170"/>
                  </a:lnTo>
                  <a:lnTo>
                    <a:pt x="26" y="166"/>
                  </a:lnTo>
                  <a:lnTo>
                    <a:pt x="46" y="120"/>
                  </a:lnTo>
                  <a:lnTo>
                    <a:pt x="66" y="100"/>
                  </a:lnTo>
                  <a:lnTo>
                    <a:pt x="54" y="138"/>
                  </a:lnTo>
                  <a:lnTo>
                    <a:pt x="50" y="144"/>
                  </a:lnTo>
                  <a:lnTo>
                    <a:pt x="46" y="156"/>
                  </a:lnTo>
                  <a:lnTo>
                    <a:pt x="42" y="166"/>
                  </a:lnTo>
                  <a:lnTo>
                    <a:pt x="40" y="172"/>
                  </a:lnTo>
                  <a:lnTo>
                    <a:pt x="40" y="178"/>
                  </a:lnTo>
                  <a:lnTo>
                    <a:pt x="42" y="188"/>
                  </a:lnTo>
                  <a:lnTo>
                    <a:pt x="34" y="254"/>
                  </a:lnTo>
                  <a:lnTo>
                    <a:pt x="24" y="284"/>
                  </a:lnTo>
                  <a:lnTo>
                    <a:pt x="0" y="332"/>
                  </a:lnTo>
                  <a:lnTo>
                    <a:pt x="32" y="358"/>
                  </a:lnTo>
                  <a:lnTo>
                    <a:pt x="56" y="350"/>
                  </a:lnTo>
                  <a:lnTo>
                    <a:pt x="50" y="344"/>
                  </a:lnTo>
                  <a:lnTo>
                    <a:pt x="40" y="344"/>
                  </a:lnTo>
                  <a:lnTo>
                    <a:pt x="36" y="338"/>
                  </a:lnTo>
                  <a:lnTo>
                    <a:pt x="72" y="274"/>
                  </a:lnTo>
                  <a:lnTo>
                    <a:pt x="78" y="242"/>
                  </a:lnTo>
                  <a:lnTo>
                    <a:pt x="100" y="280"/>
                  </a:lnTo>
                  <a:lnTo>
                    <a:pt x="110" y="364"/>
                  </a:lnTo>
                  <a:lnTo>
                    <a:pt x="160" y="366"/>
                  </a:lnTo>
                  <a:lnTo>
                    <a:pt x="156" y="354"/>
                  </a:lnTo>
                  <a:lnTo>
                    <a:pt x="138" y="348"/>
                  </a:lnTo>
                  <a:lnTo>
                    <a:pt x="136" y="256"/>
                  </a:lnTo>
                  <a:lnTo>
                    <a:pt x="96" y="182"/>
                  </a:lnTo>
                  <a:lnTo>
                    <a:pt x="100" y="174"/>
                  </a:lnTo>
                  <a:lnTo>
                    <a:pt x="112" y="134"/>
                  </a:lnTo>
                  <a:lnTo>
                    <a:pt x="116" y="146"/>
                  </a:lnTo>
                  <a:lnTo>
                    <a:pt x="158" y="168"/>
                  </a:lnTo>
                  <a:lnTo>
                    <a:pt x="162" y="166"/>
                  </a:lnTo>
                  <a:lnTo>
                    <a:pt x="166" y="170"/>
                  </a:lnTo>
                  <a:lnTo>
                    <a:pt x="162" y="176"/>
                  </a:lnTo>
                  <a:lnTo>
                    <a:pt x="158" y="184"/>
                  </a:lnTo>
                  <a:lnTo>
                    <a:pt x="158" y="188"/>
                  </a:lnTo>
                  <a:lnTo>
                    <a:pt x="162" y="190"/>
                  </a:lnTo>
                  <a:lnTo>
                    <a:pt x="164" y="188"/>
                  </a:lnTo>
                  <a:lnTo>
                    <a:pt x="166" y="186"/>
                  </a:lnTo>
                  <a:lnTo>
                    <a:pt x="168" y="180"/>
                  </a:lnTo>
                  <a:lnTo>
                    <a:pt x="172" y="176"/>
                  </a:lnTo>
                  <a:lnTo>
                    <a:pt x="174" y="178"/>
                  </a:lnTo>
                  <a:lnTo>
                    <a:pt x="178" y="178"/>
                  </a:lnTo>
                  <a:lnTo>
                    <a:pt x="182" y="174"/>
                  </a:lnTo>
                  <a:lnTo>
                    <a:pt x="184" y="180"/>
                  </a:lnTo>
                  <a:lnTo>
                    <a:pt x="184" y="188"/>
                  </a:lnTo>
                  <a:lnTo>
                    <a:pt x="162" y="348"/>
                  </a:lnTo>
                  <a:lnTo>
                    <a:pt x="162" y="352"/>
                  </a:lnTo>
                  <a:lnTo>
                    <a:pt x="166" y="352"/>
                  </a:lnTo>
                  <a:lnTo>
                    <a:pt x="168" y="352"/>
                  </a:lnTo>
                  <a:lnTo>
                    <a:pt x="170" y="350"/>
                  </a:lnTo>
                  <a:lnTo>
                    <a:pt x="194" y="188"/>
                  </a:lnTo>
                  <a:lnTo>
                    <a:pt x="194" y="180"/>
                  </a:lnTo>
                  <a:lnTo>
                    <a:pt x="192" y="174"/>
                  </a:lnTo>
                  <a:lnTo>
                    <a:pt x="188" y="170"/>
                  </a:lnTo>
                  <a:lnTo>
                    <a:pt x="184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Box 2"/>
          <p:cNvSpPr/>
          <p:nvPr/>
        </p:nvSpPr>
        <p:spPr>
          <a:xfrm>
            <a:off x="2709720" y="4954680"/>
            <a:ext cx="57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6446880" y="6149880"/>
            <a:ext cx="376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1. Leray 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et al. Brain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201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2.http://www.mstrust.org.uk/atoz/edss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3. Tremlett H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et al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Neurolog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 2006;66:172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400" spc="-1" strike="noStrike">
                <a:solidFill>
                  <a:srgbClr val="000000"/>
                </a:solidFill>
                <a:latin typeface="Comic Sans MS"/>
              </a:rPr>
              <a:t>Multipla sklero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Hronično demijelinizaciono 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urodegenerativno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oboljenjeC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Gubitak mijelina (plakovi) – oligodendroc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Oštećenje ak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Atrofija moz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Neurološki ispa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psi (pogor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šanja, egzacerbac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- najmanje 24h, u odsustvu povišene tt i infe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Remisije (faze oporav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- najmanje 30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apija relp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tomatska trap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355680" bIns="0" anchor="ctr">
            <a:noAutofit/>
          </a:bodyPr>
          <a:p>
            <a:pPr marL="519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c75"/>
                </a:solidFill>
                <a:latin typeface="Arial"/>
                <a:ea typeface="Arial"/>
              </a:rPr>
              <a:t>Rana intervencija i dugotrajna progno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bject 3"/>
          <p:cNvSpPr/>
          <p:nvPr/>
        </p:nvSpPr>
        <p:spPr>
          <a:xfrm>
            <a:off x="109440" y="6477120"/>
            <a:ext cx="6172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b6c12"/>
                </a:solidFill>
                <a:latin typeface="Arial"/>
              </a:rPr>
              <a:t>www.msbrainhealt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produc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iovannoni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,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al.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rai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ealth: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tter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clerosi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ww.msbrainhealth.org/report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cess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16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bject 4"/>
          <p:cNvSpPr/>
          <p:nvPr/>
        </p:nvSpPr>
        <p:spPr>
          <a:xfrm>
            <a:off x="1390680" y="1933560"/>
            <a:ext cx="5910120" cy="334800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3348000"/>
              <a:gd name="textAreaBottom" fmla="*/ 3348360 h 3348000"/>
            </a:gdLst>
            <a:ahLst/>
            <a:rect l="textAreaLeft" t="textAreaTop" r="textAreaRight" b="textAreaBottom"/>
            <a:pathLst>
              <a:path w="5910580" h="3347085">
                <a:moveTo>
                  <a:pt x="52139" y="3273496"/>
                </a:moveTo>
                <a:lnTo>
                  <a:pt x="23674" y="3274268"/>
                </a:lnTo>
                <a:lnTo>
                  <a:pt x="0" y="3275968"/>
                </a:lnTo>
                <a:lnTo>
                  <a:pt x="0" y="3346703"/>
                </a:lnTo>
                <a:lnTo>
                  <a:pt x="5910071" y="3346703"/>
                </a:lnTo>
                <a:lnTo>
                  <a:pt x="5910071" y="3286875"/>
                </a:lnTo>
                <a:lnTo>
                  <a:pt x="549219" y="3286875"/>
                </a:lnTo>
                <a:lnTo>
                  <a:pt x="498567" y="3286531"/>
                </a:lnTo>
                <a:lnTo>
                  <a:pt x="396842" y="3284216"/>
                </a:lnTo>
                <a:lnTo>
                  <a:pt x="121591" y="3274189"/>
                </a:lnTo>
                <a:lnTo>
                  <a:pt x="84932" y="3273516"/>
                </a:lnTo>
                <a:lnTo>
                  <a:pt x="52139" y="3273496"/>
                </a:lnTo>
                <a:close/>
              </a:path>
              <a:path w="5910580" h="3347085">
                <a:moveTo>
                  <a:pt x="5910071" y="0"/>
                </a:moveTo>
                <a:lnTo>
                  <a:pt x="5828347" y="7189"/>
                </a:lnTo>
                <a:lnTo>
                  <a:pt x="5743544" y="16378"/>
                </a:lnTo>
                <a:lnTo>
                  <a:pt x="5656027" y="27510"/>
                </a:lnTo>
                <a:lnTo>
                  <a:pt x="5566159" y="40531"/>
                </a:lnTo>
                <a:lnTo>
                  <a:pt x="5474303" y="55385"/>
                </a:lnTo>
                <a:lnTo>
                  <a:pt x="5380822" y="72018"/>
                </a:lnTo>
                <a:lnTo>
                  <a:pt x="5286080" y="90373"/>
                </a:lnTo>
                <a:lnTo>
                  <a:pt x="5190439" y="110398"/>
                </a:lnTo>
                <a:lnTo>
                  <a:pt x="5094263" y="132035"/>
                </a:lnTo>
                <a:lnTo>
                  <a:pt x="4997915" y="155230"/>
                </a:lnTo>
                <a:lnTo>
                  <a:pt x="4901759" y="179929"/>
                </a:lnTo>
                <a:lnTo>
                  <a:pt x="4806157" y="206075"/>
                </a:lnTo>
                <a:lnTo>
                  <a:pt x="4711473" y="233615"/>
                </a:lnTo>
                <a:lnTo>
                  <a:pt x="4618070" y="262492"/>
                </a:lnTo>
                <a:lnTo>
                  <a:pt x="4526311" y="292652"/>
                </a:lnTo>
                <a:lnTo>
                  <a:pt x="4436560" y="324039"/>
                </a:lnTo>
                <a:lnTo>
                  <a:pt x="4349179" y="356600"/>
                </a:lnTo>
                <a:lnTo>
                  <a:pt x="4264532" y="390278"/>
                </a:lnTo>
                <a:lnTo>
                  <a:pt x="4182983" y="425018"/>
                </a:lnTo>
                <a:lnTo>
                  <a:pt x="4104893" y="460766"/>
                </a:lnTo>
                <a:lnTo>
                  <a:pt x="4029808" y="497699"/>
                </a:lnTo>
                <a:lnTo>
                  <a:pt x="3956901" y="535983"/>
                </a:lnTo>
                <a:lnTo>
                  <a:pt x="3886035" y="575544"/>
                </a:lnTo>
                <a:lnTo>
                  <a:pt x="3817073" y="616308"/>
                </a:lnTo>
                <a:lnTo>
                  <a:pt x="3749880" y="658202"/>
                </a:lnTo>
                <a:lnTo>
                  <a:pt x="3684316" y="701151"/>
                </a:lnTo>
                <a:lnTo>
                  <a:pt x="3620247" y="745082"/>
                </a:lnTo>
                <a:lnTo>
                  <a:pt x="3557536" y="789922"/>
                </a:lnTo>
                <a:lnTo>
                  <a:pt x="3496044" y="835596"/>
                </a:lnTo>
                <a:lnTo>
                  <a:pt x="3435636" y="882030"/>
                </a:lnTo>
                <a:lnTo>
                  <a:pt x="3376176" y="929151"/>
                </a:lnTo>
                <a:lnTo>
                  <a:pt x="3317525" y="976884"/>
                </a:lnTo>
                <a:lnTo>
                  <a:pt x="3259547" y="1025157"/>
                </a:lnTo>
                <a:lnTo>
                  <a:pt x="3202106" y="1073896"/>
                </a:lnTo>
                <a:lnTo>
                  <a:pt x="3145065" y="1123026"/>
                </a:lnTo>
                <a:lnTo>
                  <a:pt x="2861066" y="1371965"/>
                </a:lnTo>
                <a:lnTo>
                  <a:pt x="2803651" y="1422976"/>
                </a:lnTo>
                <a:lnTo>
                  <a:pt x="2746053" y="1475933"/>
                </a:lnTo>
                <a:lnTo>
                  <a:pt x="2688390" y="1530571"/>
                </a:lnTo>
                <a:lnTo>
                  <a:pt x="2630781" y="1586624"/>
                </a:lnTo>
                <a:lnTo>
                  <a:pt x="2573346" y="1643827"/>
                </a:lnTo>
                <a:lnTo>
                  <a:pt x="2516204" y="1701914"/>
                </a:lnTo>
                <a:lnTo>
                  <a:pt x="2459473" y="1760619"/>
                </a:lnTo>
                <a:lnTo>
                  <a:pt x="2403274" y="1819677"/>
                </a:lnTo>
                <a:lnTo>
                  <a:pt x="2347725" y="1878822"/>
                </a:lnTo>
                <a:lnTo>
                  <a:pt x="2239054" y="1996312"/>
                </a:lnTo>
                <a:lnTo>
                  <a:pt x="1987097" y="2272974"/>
                </a:lnTo>
                <a:lnTo>
                  <a:pt x="1896705" y="2371236"/>
                </a:lnTo>
                <a:lnTo>
                  <a:pt x="1854213" y="2416647"/>
                </a:lnTo>
                <a:lnTo>
                  <a:pt x="1709269" y="2568594"/>
                </a:lnTo>
                <a:lnTo>
                  <a:pt x="1544604" y="2743958"/>
                </a:lnTo>
                <a:lnTo>
                  <a:pt x="1508212" y="2782264"/>
                </a:lnTo>
                <a:lnTo>
                  <a:pt x="1472626" y="2818884"/>
                </a:lnTo>
                <a:lnTo>
                  <a:pt x="1435700" y="2855756"/>
                </a:lnTo>
                <a:lnTo>
                  <a:pt x="1395290" y="2894822"/>
                </a:lnTo>
                <a:lnTo>
                  <a:pt x="1256160" y="3024935"/>
                </a:lnTo>
                <a:lnTo>
                  <a:pt x="1212485" y="3064606"/>
                </a:lnTo>
                <a:lnTo>
                  <a:pt x="1169245" y="3101603"/>
                </a:lnTo>
                <a:lnTo>
                  <a:pt x="1125328" y="3135817"/>
                </a:lnTo>
                <a:lnTo>
                  <a:pt x="1079624" y="3167135"/>
                </a:lnTo>
                <a:lnTo>
                  <a:pt x="1031023" y="3195447"/>
                </a:lnTo>
                <a:lnTo>
                  <a:pt x="978416" y="3220640"/>
                </a:lnTo>
                <a:lnTo>
                  <a:pt x="920690" y="3242605"/>
                </a:lnTo>
                <a:lnTo>
                  <a:pt x="856737" y="3261228"/>
                </a:lnTo>
                <a:lnTo>
                  <a:pt x="781899" y="3274945"/>
                </a:lnTo>
                <a:lnTo>
                  <a:pt x="739648" y="3279611"/>
                </a:lnTo>
                <a:lnTo>
                  <a:pt x="694792" y="3282999"/>
                </a:lnTo>
                <a:lnTo>
                  <a:pt x="647794" y="3285247"/>
                </a:lnTo>
                <a:lnTo>
                  <a:pt x="599116" y="3286493"/>
                </a:lnTo>
                <a:lnTo>
                  <a:pt x="549219" y="3286875"/>
                </a:lnTo>
                <a:lnTo>
                  <a:pt x="5910071" y="3286875"/>
                </a:lnTo>
                <a:lnTo>
                  <a:pt x="591007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bject 5"/>
          <p:cNvSpPr/>
          <p:nvPr/>
        </p:nvSpPr>
        <p:spPr>
          <a:xfrm>
            <a:off x="1390680" y="2928960"/>
            <a:ext cx="5910120" cy="235260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5910580" h="2352040">
                <a:moveTo>
                  <a:pt x="52139" y="2278321"/>
                </a:moveTo>
                <a:lnTo>
                  <a:pt x="23674" y="2279095"/>
                </a:lnTo>
                <a:lnTo>
                  <a:pt x="0" y="2280797"/>
                </a:lnTo>
                <a:lnTo>
                  <a:pt x="0" y="2351531"/>
                </a:lnTo>
                <a:lnTo>
                  <a:pt x="5910071" y="2351531"/>
                </a:lnTo>
                <a:lnTo>
                  <a:pt x="5910071" y="2291651"/>
                </a:lnTo>
                <a:lnTo>
                  <a:pt x="549219" y="2291651"/>
                </a:lnTo>
                <a:lnTo>
                  <a:pt x="498567" y="2291308"/>
                </a:lnTo>
                <a:lnTo>
                  <a:pt x="396842" y="2289000"/>
                </a:lnTo>
                <a:lnTo>
                  <a:pt x="121591" y="2279005"/>
                </a:lnTo>
                <a:lnTo>
                  <a:pt x="84932" y="2278337"/>
                </a:lnTo>
                <a:lnTo>
                  <a:pt x="52139" y="2278321"/>
                </a:lnTo>
                <a:close/>
              </a:path>
              <a:path w="5910580" h="2352040">
                <a:moveTo>
                  <a:pt x="5910071" y="0"/>
                </a:moveTo>
                <a:lnTo>
                  <a:pt x="5825458" y="5723"/>
                </a:lnTo>
                <a:lnTo>
                  <a:pt x="5738778" y="13369"/>
                </a:lnTo>
                <a:lnTo>
                  <a:pt x="5650294" y="22819"/>
                </a:lnTo>
                <a:lnTo>
                  <a:pt x="5560264" y="33956"/>
                </a:lnTo>
                <a:lnTo>
                  <a:pt x="5468950" y="46661"/>
                </a:lnTo>
                <a:lnTo>
                  <a:pt x="5376611" y="60817"/>
                </a:lnTo>
                <a:lnTo>
                  <a:pt x="5283509" y="76304"/>
                </a:lnTo>
                <a:lnTo>
                  <a:pt x="5189904" y="93006"/>
                </a:lnTo>
                <a:lnTo>
                  <a:pt x="5096055" y="110805"/>
                </a:lnTo>
                <a:lnTo>
                  <a:pt x="4908672" y="149218"/>
                </a:lnTo>
                <a:lnTo>
                  <a:pt x="4723442" y="190600"/>
                </a:lnTo>
                <a:lnTo>
                  <a:pt x="4542449" y="234007"/>
                </a:lnTo>
                <a:lnTo>
                  <a:pt x="4367776" y="278494"/>
                </a:lnTo>
                <a:lnTo>
                  <a:pt x="4122176" y="345185"/>
                </a:lnTo>
                <a:lnTo>
                  <a:pt x="3896371" y="410632"/>
                </a:lnTo>
                <a:lnTo>
                  <a:pt x="3754089" y="454218"/>
                </a:lnTo>
                <a:lnTo>
                  <a:pt x="3617634" y="498204"/>
                </a:lnTo>
                <a:lnTo>
                  <a:pt x="3486342" y="542963"/>
                </a:lnTo>
                <a:lnTo>
                  <a:pt x="3422423" y="565750"/>
                </a:lnTo>
                <a:lnTo>
                  <a:pt x="3359546" y="588870"/>
                </a:lnTo>
                <a:lnTo>
                  <a:pt x="3297627" y="612371"/>
                </a:lnTo>
                <a:lnTo>
                  <a:pt x="3236582" y="636298"/>
                </a:lnTo>
                <a:lnTo>
                  <a:pt x="3176329" y="660699"/>
                </a:lnTo>
                <a:lnTo>
                  <a:pt x="3116784" y="685621"/>
                </a:lnTo>
                <a:lnTo>
                  <a:pt x="3057865" y="711109"/>
                </a:lnTo>
                <a:lnTo>
                  <a:pt x="2999487" y="737212"/>
                </a:lnTo>
                <a:lnTo>
                  <a:pt x="2941569" y="763974"/>
                </a:lnTo>
                <a:lnTo>
                  <a:pt x="2884026" y="791444"/>
                </a:lnTo>
                <a:lnTo>
                  <a:pt x="2826776" y="819668"/>
                </a:lnTo>
                <a:lnTo>
                  <a:pt x="2769773" y="848994"/>
                </a:lnTo>
                <a:lnTo>
                  <a:pt x="2713115" y="879686"/>
                </a:lnTo>
                <a:lnTo>
                  <a:pt x="2656875" y="911590"/>
                </a:lnTo>
                <a:lnTo>
                  <a:pt x="2601127" y="944550"/>
                </a:lnTo>
                <a:lnTo>
                  <a:pt x="2545946" y="978412"/>
                </a:lnTo>
                <a:lnTo>
                  <a:pt x="2491405" y="1013022"/>
                </a:lnTo>
                <a:lnTo>
                  <a:pt x="2437578" y="1048224"/>
                </a:lnTo>
                <a:lnTo>
                  <a:pt x="2384541" y="1083865"/>
                </a:lnTo>
                <a:lnTo>
                  <a:pt x="2332365" y="1119789"/>
                </a:lnTo>
                <a:lnTo>
                  <a:pt x="2281126" y="1155843"/>
                </a:lnTo>
                <a:lnTo>
                  <a:pt x="2230898" y="1191870"/>
                </a:lnTo>
                <a:lnTo>
                  <a:pt x="2181755" y="1227718"/>
                </a:lnTo>
                <a:lnTo>
                  <a:pt x="2087018" y="1298254"/>
                </a:lnTo>
                <a:lnTo>
                  <a:pt x="1836541" y="1489460"/>
                </a:lnTo>
                <a:lnTo>
                  <a:pt x="1800836" y="1517164"/>
                </a:lnTo>
                <a:lnTo>
                  <a:pt x="1767469" y="1544144"/>
                </a:lnTo>
                <a:lnTo>
                  <a:pt x="1736248" y="1570430"/>
                </a:lnTo>
                <a:lnTo>
                  <a:pt x="1706983" y="1596056"/>
                </a:lnTo>
                <a:lnTo>
                  <a:pt x="1653559" y="1645456"/>
                </a:lnTo>
                <a:lnTo>
                  <a:pt x="1605672" y="1692603"/>
                </a:lnTo>
                <a:lnTo>
                  <a:pt x="1500175" y="1802319"/>
                </a:lnTo>
                <a:lnTo>
                  <a:pt x="1479988" y="1823124"/>
                </a:lnTo>
                <a:lnTo>
                  <a:pt x="1439004" y="1863857"/>
                </a:lnTo>
                <a:lnTo>
                  <a:pt x="1395933" y="1903635"/>
                </a:lnTo>
                <a:lnTo>
                  <a:pt x="1325172" y="1962180"/>
                </a:lnTo>
                <a:lnTo>
                  <a:pt x="1301841" y="1981696"/>
                </a:lnTo>
                <a:lnTo>
                  <a:pt x="1279126" y="2001200"/>
                </a:lnTo>
                <a:lnTo>
                  <a:pt x="1191725" y="2077758"/>
                </a:lnTo>
                <a:lnTo>
                  <a:pt x="1170067" y="2096198"/>
                </a:lnTo>
                <a:lnTo>
                  <a:pt x="1126042" y="2131770"/>
                </a:lnTo>
                <a:lnTo>
                  <a:pt x="1080173" y="2165152"/>
                </a:lnTo>
                <a:lnTo>
                  <a:pt x="1031383" y="2195807"/>
                </a:lnTo>
                <a:lnTo>
                  <a:pt x="978599" y="2223200"/>
                </a:lnTo>
                <a:lnTo>
                  <a:pt x="920742" y="2246795"/>
                </a:lnTo>
                <a:lnTo>
                  <a:pt x="856737" y="2266056"/>
                </a:lnTo>
                <a:lnTo>
                  <a:pt x="781899" y="2279745"/>
                </a:lnTo>
                <a:lnTo>
                  <a:pt x="739648" y="2284401"/>
                </a:lnTo>
                <a:lnTo>
                  <a:pt x="694792" y="2287782"/>
                </a:lnTo>
                <a:lnTo>
                  <a:pt x="647794" y="2290025"/>
                </a:lnTo>
                <a:lnTo>
                  <a:pt x="599116" y="2291269"/>
                </a:lnTo>
                <a:lnTo>
                  <a:pt x="549219" y="2291651"/>
                </a:lnTo>
                <a:lnTo>
                  <a:pt x="5910071" y="2291651"/>
                </a:lnTo>
                <a:lnTo>
                  <a:pt x="5910071" y="0"/>
                </a:lnTo>
                <a:close/>
              </a:path>
            </a:pathLst>
          </a:custGeom>
          <a:solidFill>
            <a:srgbClr val="ff9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bject 6"/>
          <p:cNvSpPr/>
          <p:nvPr/>
        </p:nvSpPr>
        <p:spPr>
          <a:xfrm>
            <a:off x="1390680" y="3706920"/>
            <a:ext cx="5910120" cy="157464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5910580" h="1574800">
                <a:moveTo>
                  <a:pt x="53760" y="1501818"/>
                </a:moveTo>
                <a:lnTo>
                  <a:pt x="24076" y="1502039"/>
                </a:lnTo>
                <a:lnTo>
                  <a:pt x="0" y="1503557"/>
                </a:lnTo>
                <a:lnTo>
                  <a:pt x="0" y="1574291"/>
                </a:lnTo>
                <a:lnTo>
                  <a:pt x="5910071" y="1574291"/>
                </a:lnTo>
                <a:lnTo>
                  <a:pt x="5910071" y="1530159"/>
                </a:lnTo>
                <a:lnTo>
                  <a:pt x="687771" y="1530159"/>
                </a:lnTo>
                <a:lnTo>
                  <a:pt x="624997" y="1529844"/>
                </a:lnTo>
                <a:lnTo>
                  <a:pt x="562567" y="1528515"/>
                </a:lnTo>
                <a:lnTo>
                  <a:pt x="500922" y="1526366"/>
                </a:lnTo>
                <a:lnTo>
                  <a:pt x="381738" y="1520373"/>
                </a:lnTo>
                <a:lnTo>
                  <a:pt x="128198" y="1504490"/>
                </a:lnTo>
                <a:lnTo>
                  <a:pt x="88613" y="1502699"/>
                </a:lnTo>
                <a:lnTo>
                  <a:pt x="53760" y="1501818"/>
                </a:lnTo>
                <a:close/>
              </a:path>
              <a:path w="5910580" h="1574800">
                <a:moveTo>
                  <a:pt x="5910071" y="0"/>
                </a:moveTo>
                <a:lnTo>
                  <a:pt x="5828280" y="5141"/>
                </a:lnTo>
                <a:lnTo>
                  <a:pt x="5749716" y="11099"/>
                </a:lnTo>
                <a:lnTo>
                  <a:pt x="5674115" y="17840"/>
                </a:lnTo>
                <a:lnTo>
                  <a:pt x="5601209" y="25334"/>
                </a:lnTo>
                <a:lnTo>
                  <a:pt x="5530734" y="33549"/>
                </a:lnTo>
                <a:lnTo>
                  <a:pt x="5462424" y="42451"/>
                </a:lnTo>
                <a:lnTo>
                  <a:pt x="5396014" y="52010"/>
                </a:lnTo>
                <a:lnTo>
                  <a:pt x="5331236" y="62194"/>
                </a:lnTo>
                <a:lnTo>
                  <a:pt x="5267826" y="72970"/>
                </a:lnTo>
                <a:lnTo>
                  <a:pt x="5205519" y="84307"/>
                </a:lnTo>
                <a:lnTo>
                  <a:pt x="5083146" y="108535"/>
                </a:lnTo>
                <a:lnTo>
                  <a:pt x="4961992" y="134623"/>
                </a:lnTo>
                <a:lnTo>
                  <a:pt x="4449583" y="253453"/>
                </a:lnTo>
                <a:lnTo>
                  <a:pt x="4243029" y="305879"/>
                </a:lnTo>
                <a:lnTo>
                  <a:pt x="4034326" y="362719"/>
                </a:lnTo>
                <a:lnTo>
                  <a:pt x="3826525" y="422888"/>
                </a:lnTo>
                <a:lnTo>
                  <a:pt x="3622673" y="485301"/>
                </a:lnTo>
                <a:lnTo>
                  <a:pt x="3425821" y="548872"/>
                </a:lnTo>
                <a:lnTo>
                  <a:pt x="3239018" y="612516"/>
                </a:lnTo>
                <a:lnTo>
                  <a:pt x="3179539" y="633797"/>
                </a:lnTo>
                <a:lnTo>
                  <a:pt x="3121490" y="655404"/>
                </a:lnTo>
                <a:lnTo>
                  <a:pt x="3064742" y="677307"/>
                </a:lnTo>
                <a:lnTo>
                  <a:pt x="3009167" y="699475"/>
                </a:lnTo>
                <a:lnTo>
                  <a:pt x="2954635" y="721879"/>
                </a:lnTo>
                <a:lnTo>
                  <a:pt x="2901019" y="744488"/>
                </a:lnTo>
                <a:lnTo>
                  <a:pt x="2796018" y="790201"/>
                </a:lnTo>
                <a:lnTo>
                  <a:pt x="2334882" y="998097"/>
                </a:lnTo>
                <a:lnTo>
                  <a:pt x="2228805" y="1043344"/>
                </a:lnTo>
                <a:lnTo>
                  <a:pt x="2119447" y="1088297"/>
                </a:lnTo>
                <a:lnTo>
                  <a:pt x="2063932" y="1111769"/>
                </a:lnTo>
                <a:lnTo>
                  <a:pt x="1666969" y="1286331"/>
                </a:lnTo>
                <a:lnTo>
                  <a:pt x="1552467" y="1334866"/>
                </a:lnTo>
                <a:lnTo>
                  <a:pt x="1495303" y="1358138"/>
                </a:lnTo>
                <a:lnTo>
                  <a:pt x="1438268" y="1380540"/>
                </a:lnTo>
                <a:lnTo>
                  <a:pt x="1381415" y="1401916"/>
                </a:lnTo>
                <a:lnTo>
                  <a:pt x="1324797" y="1422113"/>
                </a:lnTo>
                <a:lnTo>
                  <a:pt x="1268469" y="1440977"/>
                </a:lnTo>
                <a:lnTo>
                  <a:pt x="1212484" y="1458351"/>
                </a:lnTo>
                <a:lnTo>
                  <a:pt x="1156895" y="1474082"/>
                </a:lnTo>
                <a:lnTo>
                  <a:pt x="1101755" y="1488016"/>
                </a:lnTo>
                <a:lnTo>
                  <a:pt x="1047119" y="1499996"/>
                </a:lnTo>
                <a:lnTo>
                  <a:pt x="991480" y="1509802"/>
                </a:lnTo>
                <a:lnTo>
                  <a:pt x="933555" y="1517439"/>
                </a:lnTo>
                <a:lnTo>
                  <a:pt x="873784" y="1523101"/>
                </a:lnTo>
                <a:lnTo>
                  <a:pt x="812604" y="1526980"/>
                </a:lnTo>
                <a:lnTo>
                  <a:pt x="750453" y="1529269"/>
                </a:lnTo>
                <a:lnTo>
                  <a:pt x="687771" y="1530159"/>
                </a:lnTo>
                <a:lnTo>
                  <a:pt x="5910071" y="1530159"/>
                </a:lnTo>
                <a:lnTo>
                  <a:pt x="5910071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bject 7"/>
          <p:cNvSpPr/>
          <p:nvPr/>
        </p:nvSpPr>
        <p:spPr>
          <a:xfrm>
            <a:off x="1390680" y="1886040"/>
            <a:ext cx="5927760" cy="3394080"/>
          </a:xfrm>
          <a:custGeom>
            <a:avLst/>
            <a:gdLst>
              <a:gd name="textAreaLeft" fmla="*/ 0 w 5927760"/>
              <a:gd name="textAreaRight" fmla="*/ 5928120 w 5927760"/>
              <a:gd name="textAreaTop" fmla="*/ 0 h 3394080"/>
              <a:gd name="textAreaBottom" fmla="*/ 3394440 h 3394080"/>
            </a:gdLst>
            <a:ahLst/>
            <a:rect l="textAreaLeft" t="textAreaTop" r="textAreaRight" b="textAreaBottom"/>
            <a:pathLst>
              <a:path w="5928359" h="3394075">
                <a:moveTo>
                  <a:pt x="0" y="0"/>
                </a:moveTo>
                <a:lnTo>
                  <a:pt x="0" y="3393947"/>
                </a:lnTo>
                <a:lnTo>
                  <a:pt x="5928359" y="3393947"/>
                </a:lnTo>
              </a:path>
            </a:pathLst>
          </a:custGeom>
          <a:noFill/>
          <a:ln w="28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bject 8"/>
          <p:cNvSpPr/>
          <p:nvPr/>
        </p:nvSpPr>
        <p:spPr>
          <a:xfrm>
            <a:off x="539640" y="1749600"/>
            <a:ext cx="677880" cy="3538440"/>
          </a:xfrm>
          <a:custGeom>
            <a:avLst/>
            <a:gdLst>
              <a:gd name="textAreaLeft" fmla="*/ 0 w 677880"/>
              <a:gd name="textAreaRight" fmla="*/ 677880 w 677880"/>
              <a:gd name="textAreaTop" fmla="*/ 0 h 3538440"/>
              <a:gd name="textAreaBottom" fmla="*/ 3538800 h 3538440"/>
            </a:gdLst>
            <a:ahLst/>
            <a:rect l="textAreaLeft" t="textAreaTop" r="textAreaRight" b="textAreaBottom"/>
            <a:pathLst>
              <a:path w="678180" h="3538854">
                <a:moveTo>
                  <a:pt x="530696" y="339089"/>
                </a:moveTo>
                <a:lnTo>
                  <a:pt x="147483" y="339089"/>
                </a:lnTo>
                <a:lnTo>
                  <a:pt x="147483" y="3538727"/>
                </a:lnTo>
                <a:lnTo>
                  <a:pt x="530696" y="3538727"/>
                </a:lnTo>
                <a:lnTo>
                  <a:pt x="530696" y="339089"/>
                </a:lnTo>
                <a:close/>
              </a:path>
              <a:path w="678180" h="3538854">
                <a:moveTo>
                  <a:pt x="339089" y="0"/>
                </a:moveTo>
                <a:lnTo>
                  <a:pt x="0" y="339089"/>
                </a:lnTo>
                <a:lnTo>
                  <a:pt x="678179" y="339089"/>
                </a:lnTo>
                <a:lnTo>
                  <a:pt x="339089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object 9" descr=""/>
          <p:cNvPicPr/>
          <p:nvPr/>
        </p:nvPicPr>
        <p:blipFill>
          <a:blip r:embed="rId1"/>
          <a:stretch/>
        </p:blipFill>
        <p:spPr>
          <a:xfrm>
            <a:off x="712800" y="2530440"/>
            <a:ext cx="433440" cy="2187720"/>
          </a:xfrm>
          <a:prstGeom prst="rect">
            <a:avLst/>
          </a:prstGeom>
          <a:ln w="0">
            <a:noFill/>
          </a:ln>
        </p:spPr>
      </p:pic>
      <p:sp>
        <p:nvSpPr>
          <p:cNvPr id="912" name="object 10"/>
          <p:cNvSpPr/>
          <p:nvPr/>
        </p:nvSpPr>
        <p:spPr>
          <a:xfrm>
            <a:off x="1398600" y="5403960"/>
            <a:ext cx="5972040" cy="76032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5971540" h="760729">
                <a:moveTo>
                  <a:pt x="5590793" y="0"/>
                </a:moveTo>
                <a:lnTo>
                  <a:pt x="5590793" y="165353"/>
                </a:lnTo>
                <a:lnTo>
                  <a:pt x="0" y="165353"/>
                </a:lnTo>
                <a:lnTo>
                  <a:pt x="0" y="595085"/>
                </a:lnTo>
                <a:lnTo>
                  <a:pt x="5590793" y="595085"/>
                </a:lnTo>
                <a:lnTo>
                  <a:pt x="5590793" y="760475"/>
                </a:lnTo>
                <a:lnTo>
                  <a:pt x="5971031" y="380237"/>
                </a:lnTo>
                <a:lnTo>
                  <a:pt x="5590793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bject 11"/>
          <p:cNvSpPr/>
          <p:nvPr/>
        </p:nvSpPr>
        <p:spPr>
          <a:xfrm>
            <a:off x="4027320" y="56847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bject 12"/>
          <p:cNvSpPr/>
          <p:nvPr/>
        </p:nvSpPr>
        <p:spPr>
          <a:xfrm>
            <a:off x="1996920" y="2598840"/>
            <a:ext cx="144720" cy="2574720"/>
          </a:xfrm>
          <a:custGeom>
            <a:avLst/>
            <a:gdLst>
              <a:gd name="textAreaLeft" fmla="*/ 0 w 144720"/>
              <a:gd name="textAreaRight" fmla="*/ 145080 w 14472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144780" h="2574290">
                <a:moveTo>
                  <a:pt x="0" y="2428874"/>
                </a:moveTo>
                <a:lnTo>
                  <a:pt x="71877" y="2573904"/>
                </a:lnTo>
                <a:lnTo>
                  <a:pt x="137608" y="2443602"/>
                </a:lnTo>
                <a:lnTo>
                  <a:pt x="57780" y="2443602"/>
                </a:lnTo>
                <a:lnTo>
                  <a:pt x="57829" y="2429079"/>
                </a:lnTo>
                <a:lnTo>
                  <a:pt x="0" y="2428874"/>
                </a:lnTo>
                <a:close/>
              </a:path>
              <a:path w="144780" h="2574290">
                <a:moveTo>
                  <a:pt x="94987" y="0"/>
                </a:moveTo>
                <a:lnTo>
                  <a:pt x="66031" y="0"/>
                </a:lnTo>
                <a:lnTo>
                  <a:pt x="57780" y="2443602"/>
                </a:lnTo>
                <a:lnTo>
                  <a:pt x="86736" y="2443602"/>
                </a:lnTo>
                <a:lnTo>
                  <a:pt x="94987" y="0"/>
                </a:lnTo>
                <a:close/>
              </a:path>
              <a:path w="144780" h="2574290">
                <a:moveTo>
                  <a:pt x="86785" y="2429181"/>
                </a:moveTo>
                <a:lnTo>
                  <a:pt x="86736" y="2443602"/>
                </a:lnTo>
                <a:lnTo>
                  <a:pt x="137608" y="2443602"/>
                </a:lnTo>
                <a:lnTo>
                  <a:pt x="144779" y="2429387"/>
                </a:lnTo>
                <a:lnTo>
                  <a:pt x="86785" y="2429181"/>
                </a:lnTo>
                <a:close/>
              </a:path>
              <a:path w="144780" h="2574290">
                <a:moveTo>
                  <a:pt x="86785" y="2429079"/>
                </a:moveTo>
                <a:lnTo>
                  <a:pt x="57829" y="2429079"/>
                </a:lnTo>
                <a:lnTo>
                  <a:pt x="86785" y="2429181"/>
                </a:lnTo>
                <a:lnTo>
                  <a:pt x="86785" y="24290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bject 13"/>
          <p:cNvSpPr/>
          <p:nvPr/>
        </p:nvSpPr>
        <p:spPr>
          <a:xfrm>
            <a:off x="1425600" y="1886040"/>
            <a:ext cx="1149480" cy="71280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150620" h="711835">
                <a:moveTo>
                  <a:pt x="1031997" y="0"/>
                </a:moveTo>
                <a:lnTo>
                  <a:pt x="115512" y="39"/>
                </a:lnTo>
                <a:lnTo>
                  <a:pt x="73641" y="8820"/>
                </a:lnTo>
                <a:lnTo>
                  <a:pt x="38676" y="30975"/>
                </a:lnTo>
                <a:lnTo>
                  <a:pt x="13475" y="63646"/>
                </a:lnTo>
                <a:lnTo>
                  <a:pt x="895" y="103976"/>
                </a:lnTo>
                <a:lnTo>
                  <a:pt x="0" y="118628"/>
                </a:lnTo>
                <a:lnTo>
                  <a:pt x="39" y="596188"/>
                </a:lnTo>
                <a:lnTo>
                  <a:pt x="8819" y="638061"/>
                </a:lnTo>
                <a:lnTo>
                  <a:pt x="30972" y="673028"/>
                </a:lnTo>
                <a:lnTo>
                  <a:pt x="63641" y="698231"/>
                </a:lnTo>
                <a:lnTo>
                  <a:pt x="103970" y="710812"/>
                </a:lnTo>
                <a:lnTo>
                  <a:pt x="118622" y="711707"/>
                </a:lnTo>
                <a:lnTo>
                  <a:pt x="1035107" y="711668"/>
                </a:lnTo>
                <a:lnTo>
                  <a:pt x="1076978" y="702887"/>
                </a:lnTo>
                <a:lnTo>
                  <a:pt x="1111943" y="680732"/>
                </a:lnTo>
                <a:lnTo>
                  <a:pt x="1137144" y="648061"/>
                </a:lnTo>
                <a:lnTo>
                  <a:pt x="1149724" y="607731"/>
                </a:lnTo>
                <a:lnTo>
                  <a:pt x="1150619" y="593079"/>
                </a:lnTo>
                <a:lnTo>
                  <a:pt x="1150580" y="115519"/>
                </a:lnTo>
                <a:lnTo>
                  <a:pt x="1141800" y="73646"/>
                </a:lnTo>
                <a:lnTo>
                  <a:pt x="1119647" y="38679"/>
                </a:lnTo>
                <a:lnTo>
                  <a:pt x="1086978" y="13476"/>
                </a:lnTo>
                <a:lnTo>
                  <a:pt x="1046649" y="895"/>
                </a:lnTo>
                <a:lnTo>
                  <a:pt x="1031997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bject 14"/>
          <p:cNvSpPr/>
          <p:nvPr/>
        </p:nvSpPr>
        <p:spPr>
          <a:xfrm>
            <a:off x="1541520" y="2071800"/>
            <a:ext cx="91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en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bject 15"/>
          <p:cNvSpPr/>
          <p:nvPr/>
        </p:nvSpPr>
        <p:spPr>
          <a:xfrm>
            <a:off x="2992320" y="2579760"/>
            <a:ext cx="146160" cy="1957320"/>
          </a:xfrm>
          <a:custGeom>
            <a:avLst/>
            <a:gdLst>
              <a:gd name="textAreaLeft" fmla="*/ 0 w 146160"/>
              <a:gd name="textAreaRight" fmla="*/ 146520 w 1461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44780" h="1957070">
                <a:moveTo>
                  <a:pt x="57911" y="1812167"/>
                </a:moveTo>
                <a:lnTo>
                  <a:pt x="0" y="1812167"/>
                </a:lnTo>
                <a:lnTo>
                  <a:pt x="72389" y="1956947"/>
                </a:lnTo>
                <a:lnTo>
                  <a:pt x="137540" y="1826645"/>
                </a:lnTo>
                <a:lnTo>
                  <a:pt x="57911" y="1826645"/>
                </a:lnTo>
                <a:lnTo>
                  <a:pt x="57911" y="1812167"/>
                </a:lnTo>
                <a:close/>
              </a:path>
              <a:path w="144780" h="1957070">
                <a:moveTo>
                  <a:pt x="86867" y="0"/>
                </a:moveTo>
                <a:lnTo>
                  <a:pt x="57911" y="0"/>
                </a:lnTo>
                <a:lnTo>
                  <a:pt x="57911" y="1826645"/>
                </a:lnTo>
                <a:lnTo>
                  <a:pt x="86867" y="1826645"/>
                </a:lnTo>
                <a:lnTo>
                  <a:pt x="86867" y="0"/>
                </a:lnTo>
                <a:close/>
              </a:path>
              <a:path w="144780" h="1957070">
                <a:moveTo>
                  <a:pt x="144779" y="1812167"/>
                </a:moveTo>
                <a:lnTo>
                  <a:pt x="86867" y="1812167"/>
                </a:lnTo>
                <a:lnTo>
                  <a:pt x="86867" y="1826645"/>
                </a:lnTo>
                <a:lnTo>
                  <a:pt x="137540" y="1826645"/>
                </a:lnTo>
                <a:lnTo>
                  <a:pt x="144779" y="1812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bject 16"/>
          <p:cNvSpPr/>
          <p:nvPr/>
        </p:nvSpPr>
        <p:spPr>
          <a:xfrm>
            <a:off x="2610000" y="1886040"/>
            <a:ext cx="1150920" cy="712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150620" h="711835">
                <a:moveTo>
                  <a:pt x="1031991" y="0"/>
                </a:moveTo>
                <a:lnTo>
                  <a:pt x="115512" y="39"/>
                </a:lnTo>
                <a:lnTo>
                  <a:pt x="73641" y="8820"/>
                </a:lnTo>
                <a:lnTo>
                  <a:pt x="38676" y="30975"/>
                </a:lnTo>
                <a:lnTo>
                  <a:pt x="13475" y="63646"/>
                </a:lnTo>
                <a:lnTo>
                  <a:pt x="895" y="103976"/>
                </a:lnTo>
                <a:lnTo>
                  <a:pt x="0" y="118628"/>
                </a:lnTo>
                <a:lnTo>
                  <a:pt x="39" y="596188"/>
                </a:lnTo>
                <a:lnTo>
                  <a:pt x="8819" y="638061"/>
                </a:lnTo>
                <a:lnTo>
                  <a:pt x="30972" y="673028"/>
                </a:lnTo>
                <a:lnTo>
                  <a:pt x="63641" y="698231"/>
                </a:lnTo>
                <a:lnTo>
                  <a:pt x="103970" y="710812"/>
                </a:lnTo>
                <a:lnTo>
                  <a:pt x="118622" y="711707"/>
                </a:lnTo>
                <a:lnTo>
                  <a:pt x="1035105" y="711667"/>
                </a:lnTo>
                <a:lnTo>
                  <a:pt x="1076976" y="702886"/>
                </a:lnTo>
                <a:lnTo>
                  <a:pt x="1111941" y="680731"/>
                </a:lnTo>
                <a:lnTo>
                  <a:pt x="1137143" y="648060"/>
                </a:lnTo>
                <a:lnTo>
                  <a:pt x="1149724" y="607730"/>
                </a:lnTo>
                <a:lnTo>
                  <a:pt x="1150619" y="593079"/>
                </a:lnTo>
                <a:lnTo>
                  <a:pt x="1150579" y="115514"/>
                </a:lnTo>
                <a:lnTo>
                  <a:pt x="1141798" y="73643"/>
                </a:lnTo>
                <a:lnTo>
                  <a:pt x="1119643" y="38678"/>
                </a:lnTo>
                <a:lnTo>
                  <a:pt x="1086972" y="13476"/>
                </a:lnTo>
                <a:lnTo>
                  <a:pt x="1046642" y="895"/>
                </a:lnTo>
                <a:lnTo>
                  <a:pt x="1031991" y="0"/>
                </a:lnTo>
                <a:close/>
              </a:path>
            </a:pathLst>
          </a:custGeom>
          <a:solidFill>
            <a:srgbClr val="ff9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bject 17"/>
          <p:cNvSpPr/>
          <p:nvPr/>
        </p:nvSpPr>
        <p:spPr>
          <a:xfrm>
            <a:off x="2738520" y="2071800"/>
            <a:ext cx="89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en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bject 18"/>
          <p:cNvSpPr/>
          <p:nvPr/>
        </p:nvSpPr>
        <p:spPr>
          <a:xfrm>
            <a:off x="7645320" y="4200480"/>
            <a:ext cx="80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ten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bject 19"/>
          <p:cNvSpPr/>
          <p:nvPr/>
        </p:nvSpPr>
        <p:spPr>
          <a:xfrm>
            <a:off x="7358040" y="3720960"/>
            <a:ext cx="176400" cy="1568520"/>
          </a:xfrm>
          <a:custGeom>
            <a:avLst/>
            <a:gdLst>
              <a:gd name="textAreaLeft" fmla="*/ 0 w 176400"/>
              <a:gd name="textAreaRight" fmla="*/ 176760 w 1764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175259" h="1568450">
                <a:moveTo>
                  <a:pt x="0" y="0"/>
                </a:moveTo>
                <a:lnTo>
                  <a:pt x="44057" y="9693"/>
                </a:lnTo>
                <a:lnTo>
                  <a:pt x="76406" y="35357"/>
                </a:lnTo>
                <a:lnTo>
                  <a:pt x="91118" y="71864"/>
                </a:lnTo>
                <a:lnTo>
                  <a:pt x="91439" y="705611"/>
                </a:lnTo>
                <a:lnTo>
                  <a:pt x="92766" y="719000"/>
                </a:lnTo>
                <a:lnTo>
                  <a:pt x="110904" y="754019"/>
                </a:lnTo>
                <a:lnTo>
                  <a:pt x="145669" y="777326"/>
                </a:lnTo>
                <a:lnTo>
                  <a:pt x="175154" y="783821"/>
                </a:lnTo>
                <a:lnTo>
                  <a:pt x="161086" y="785155"/>
                </a:lnTo>
                <a:lnTo>
                  <a:pt x="122876" y="802330"/>
                </a:lnTo>
                <a:lnTo>
                  <a:pt x="97285" y="834712"/>
                </a:lnTo>
                <a:lnTo>
                  <a:pt x="91439" y="1489709"/>
                </a:lnTo>
                <a:lnTo>
                  <a:pt x="90113" y="1503098"/>
                </a:lnTo>
                <a:lnTo>
                  <a:pt x="71975" y="1538117"/>
                </a:lnTo>
                <a:lnTo>
                  <a:pt x="37210" y="1561424"/>
                </a:lnTo>
                <a:lnTo>
                  <a:pt x="22951" y="1565702"/>
                </a:lnTo>
                <a:lnTo>
                  <a:pt x="7725" y="1567919"/>
                </a:lnTo>
              </a:path>
            </a:pathLst>
          </a:custGeom>
          <a:noFill/>
          <a:ln w="19800">
            <a:solidFill>
              <a:srgbClr val="7f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bject 20"/>
          <p:cNvSpPr/>
          <p:nvPr/>
        </p:nvSpPr>
        <p:spPr>
          <a:xfrm>
            <a:off x="5897520" y="247500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bject 21"/>
          <p:cNvSpPr/>
          <p:nvPr/>
        </p:nvSpPr>
        <p:spPr>
          <a:xfrm>
            <a:off x="5437080" y="342900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bject 22"/>
          <p:cNvSpPr/>
          <p:nvPr/>
        </p:nvSpPr>
        <p:spPr>
          <a:xfrm>
            <a:off x="4743360" y="4511520"/>
            <a:ext cx="242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ven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bject 23"/>
          <p:cNvSpPr/>
          <p:nvPr/>
        </p:nvSpPr>
        <p:spPr>
          <a:xfrm>
            <a:off x="7574040" y="2046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06679" h="118110">
                <a:moveTo>
                  <a:pt x="49323" y="0"/>
                </a:moveTo>
                <a:lnTo>
                  <a:pt x="14313" y="18770"/>
                </a:lnTo>
                <a:lnTo>
                  <a:pt x="0" y="59269"/>
                </a:lnTo>
                <a:lnTo>
                  <a:pt x="1158" y="71526"/>
                </a:lnTo>
                <a:lnTo>
                  <a:pt x="21263" y="105025"/>
                </a:lnTo>
                <a:lnTo>
                  <a:pt x="63133" y="117693"/>
                </a:lnTo>
                <a:lnTo>
                  <a:pt x="74959" y="113475"/>
                </a:lnTo>
                <a:lnTo>
                  <a:pt x="100746" y="83523"/>
                </a:lnTo>
                <a:lnTo>
                  <a:pt x="106242" y="51648"/>
                </a:lnTo>
                <a:lnTo>
                  <a:pt x="102994" y="37679"/>
                </a:lnTo>
                <a:lnTo>
                  <a:pt x="77040" y="6837"/>
                </a:lnTo>
                <a:lnTo>
                  <a:pt x="493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bject 24"/>
          <p:cNvSpPr/>
          <p:nvPr/>
        </p:nvSpPr>
        <p:spPr>
          <a:xfrm>
            <a:off x="7599240" y="2171880"/>
            <a:ext cx="400320" cy="453960"/>
          </a:xfrm>
          <a:custGeom>
            <a:avLst/>
            <a:gdLst>
              <a:gd name="textAreaLeft" fmla="*/ 0 w 400320"/>
              <a:gd name="textAreaRight" fmla="*/ 400680 w 400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400050" h="453389">
                <a:moveTo>
                  <a:pt x="41622" y="0"/>
                </a:moveTo>
                <a:lnTo>
                  <a:pt x="2703" y="27368"/>
                </a:lnTo>
                <a:lnTo>
                  <a:pt x="0" y="64796"/>
                </a:lnTo>
                <a:lnTo>
                  <a:pt x="291" y="79206"/>
                </a:lnTo>
                <a:lnTo>
                  <a:pt x="3346" y="121746"/>
                </a:lnTo>
                <a:lnTo>
                  <a:pt x="7575" y="153519"/>
                </a:lnTo>
                <a:lnTo>
                  <a:pt x="9090" y="168098"/>
                </a:lnTo>
                <a:lnTo>
                  <a:pt x="16778" y="215385"/>
                </a:lnTo>
                <a:lnTo>
                  <a:pt x="30429" y="255520"/>
                </a:lnTo>
                <a:lnTo>
                  <a:pt x="205330" y="272966"/>
                </a:lnTo>
                <a:lnTo>
                  <a:pt x="208241" y="278658"/>
                </a:lnTo>
                <a:lnTo>
                  <a:pt x="212392" y="287023"/>
                </a:lnTo>
                <a:lnTo>
                  <a:pt x="237883" y="338953"/>
                </a:lnTo>
                <a:lnTo>
                  <a:pt x="245578" y="354453"/>
                </a:lnTo>
                <a:lnTo>
                  <a:pt x="269068" y="400490"/>
                </a:lnTo>
                <a:lnTo>
                  <a:pt x="289409" y="437047"/>
                </a:lnTo>
                <a:lnTo>
                  <a:pt x="301829" y="452947"/>
                </a:lnTo>
                <a:lnTo>
                  <a:pt x="335214" y="435276"/>
                </a:lnTo>
                <a:lnTo>
                  <a:pt x="378462" y="410718"/>
                </a:lnTo>
                <a:lnTo>
                  <a:pt x="392239" y="400113"/>
                </a:lnTo>
                <a:lnTo>
                  <a:pt x="399616" y="396029"/>
                </a:lnTo>
                <a:lnTo>
                  <a:pt x="390880" y="382574"/>
                </a:lnTo>
                <a:lnTo>
                  <a:pt x="379324" y="381730"/>
                </a:lnTo>
                <a:lnTo>
                  <a:pt x="349848" y="381075"/>
                </a:lnTo>
                <a:lnTo>
                  <a:pt x="336040" y="380030"/>
                </a:lnTo>
                <a:lnTo>
                  <a:pt x="325594" y="377686"/>
                </a:lnTo>
                <a:lnTo>
                  <a:pt x="323358" y="371814"/>
                </a:lnTo>
                <a:lnTo>
                  <a:pt x="319850" y="363091"/>
                </a:lnTo>
                <a:lnTo>
                  <a:pt x="303451" y="324473"/>
                </a:lnTo>
                <a:lnTo>
                  <a:pt x="281945" y="276988"/>
                </a:lnTo>
                <a:lnTo>
                  <a:pt x="260093" y="233234"/>
                </a:lnTo>
                <a:lnTo>
                  <a:pt x="94851" y="201819"/>
                </a:lnTo>
                <a:lnTo>
                  <a:pt x="88437" y="152951"/>
                </a:lnTo>
                <a:lnTo>
                  <a:pt x="170897" y="152436"/>
                </a:lnTo>
                <a:lnTo>
                  <a:pt x="214058" y="151348"/>
                </a:lnTo>
                <a:lnTo>
                  <a:pt x="225561" y="141229"/>
                </a:lnTo>
                <a:lnTo>
                  <a:pt x="224620" y="128123"/>
                </a:lnTo>
                <a:lnTo>
                  <a:pt x="217182" y="116008"/>
                </a:lnTo>
                <a:lnTo>
                  <a:pt x="184011" y="115747"/>
                </a:lnTo>
                <a:lnTo>
                  <a:pt x="152383" y="114983"/>
                </a:lnTo>
                <a:lnTo>
                  <a:pt x="106713" y="112206"/>
                </a:lnTo>
                <a:lnTo>
                  <a:pt x="85726" y="97193"/>
                </a:lnTo>
                <a:lnTo>
                  <a:pt x="84384" y="84023"/>
                </a:lnTo>
                <a:lnTo>
                  <a:pt x="75910" y="41460"/>
                </a:lnTo>
                <a:lnTo>
                  <a:pt x="54737" y="7235"/>
                </a:lnTo>
                <a:lnTo>
                  <a:pt x="43518" y="551"/>
                </a:lnTo>
                <a:lnTo>
                  <a:pt x="416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bject 25"/>
          <p:cNvSpPr/>
          <p:nvPr/>
        </p:nvSpPr>
        <p:spPr>
          <a:xfrm>
            <a:off x="7496280" y="2265480"/>
            <a:ext cx="365040" cy="393480"/>
          </a:xfrm>
          <a:custGeom>
            <a:avLst/>
            <a:gdLst>
              <a:gd name="textAreaLeft" fmla="*/ 0 w 365040"/>
              <a:gd name="textAreaRight" fmla="*/ 365400 w 365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365125" h="393700">
                <a:moveTo>
                  <a:pt x="364781" y="236163"/>
                </a:moveTo>
                <a:lnTo>
                  <a:pt x="348727" y="283167"/>
                </a:lnTo>
                <a:lnTo>
                  <a:pt x="324017" y="323217"/>
                </a:lnTo>
                <a:lnTo>
                  <a:pt x="292211" y="355263"/>
                </a:lnTo>
                <a:lnTo>
                  <a:pt x="254871" y="378254"/>
                </a:lnTo>
                <a:lnTo>
                  <a:pt x="213558" y="391141"/>
                </a:lnTo>
                <a:lnTo>
                  <a:pt x="184580" y="393600"/>
                </a:lnTo>
                <a:lnTo>
                  <a:pt x="169833" y="392873"/>
                </a:lnTo>
                <a:lnTo>
                  <a:pt x="125534" y="382477"/>
                </a:lnTo>
                <a:lnTo>
                  <a:pt x="85651" y="360980"/>
                </a:lnTo>
                <a:lnTo>
                  <a:pt x="52275" y="330359"/>
                </a:lnTo>
                <a:lnTo>
                  <a:pt x="26339" y="292360"/>
                </a:lnTo>
                <a:lnTo>
                  <a:pt x="8777" y="248728"/>
                </a:lnTo>
                <a:lnTo>
                  <a:pt x="522" y="201207"/>
                </a:lnTo>
                <a:lnTo>
                  <a:pt x="0" y="184805"/>
                </a:lnTo>
                <a:lnTo>
                  <a:pt x="650" y="168229"/>
                </a:lnTo>
                <a:lnTo>
                  <a:pt x="9003" y="121495"/>
                </a:lnTo>
                <a:lnTo>
                  <a:pt x="23627" y="83860"/>
                </a:lnTo>
                <a:lnTo>
                  <a:pt x="44372" y="50446"/>
                </a:lnTo>
                <a:lnTo>
                  <a:pt x="70564" y="22182"/>
                </a:lnTo>
                <a:lnTo>
                  <a:pt x="90718" y="6661"/>
                </a:lnTo>
                <a:lnTo>
                  <a:pt x="1015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bject 3"/>
          <p:cNvSpPr/>
          <p:nvPr/>
        </p:nvSpPr>
        <p:spPr>
          <a:xfrm>
            <a:off x="190440" y="1352520"/>
            <a:ext cx="8677440" cy="4684680"/>
          </a:xfrm>
          <a:custGeom>
            <a:avLst/>
            <a:gdLst>
              <a:gd name="textAreaLeft" fmla="*/ 0 w 8677440"/>
              <a:gd name="textAreaRight" fmla="*/ 8677800 w 8677440"/>
              <a:gd name="textAreaTop" fmla="*/ 0 h 4684680"/>
              <a:gd name="textAreaBottom" fmla="*/ 4685040 h 4684680"/>
            </a:gdLst>
            <a:ahLst/>
            <a:rect l="textAreaLeft" t="textAreaTop" r="textAreaRight" b="textAreaBottom"/>
            <a:pathLst>
              <a:path w="8676640" h="4685030">
                <a:moveTo>
                  <a:pt x="0" y="4684775"/>
                </a:moveTo>
                <a:lnTo>
                  <a:pt x="8676131" y="4684775"/>
                </a:lnTo>
                <a:lnTo>
                  <a:pt x="8676131" y="0"/>
                </a:lnTo>
                <a:lnTo>
                  <a:pt x="0" y="0"/>
                </a:lnTo>
                <a:lnTo>
                  <a:pt x="0" y="4684775"/>
                </a:lnTo>
                <a:close/>
              </a:path>
            </a:pathLst>
          </a:custGeom>
          <a:solidFill>
            <a:srgbClr val="10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bject 4"/>
          <p:cNvSpPr/>
          <p:nvPr/>
        </p:nvSpPr>
        <p:spPr>
          <a:xfrm>
            <a:off x="776160" y="1771560"/>
            <a:ext cx="7574040" cy="377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bject 5"/>
          <p:cNvSpPr/>
          <p:nvPr/>
        </p:nvSpPr>
        <p:spPr>
          <a:xfrm>
            <a:off x="4710240" y="1766880"/>
            <a:ext cx="11160" cy="3706920"/>
          </a:xfrm>
          <a:custGeom>
            <a:avLst/>
            <a:gdLst>
              <a:gd name="textAreaLeft" fmla="*/ 0 w 11160"/>
              <a:gd name="textAreaRight" fmla="*/ 11520 w 11160"/>
              <a:gd name="textAreaTop" fmla="*/ 0 h 3706920"/>
              <a:gd name="textAreaBottom" fmla="*/ 3707280 h 3706920"/>
            </a:gdLst>
            <a:ahLst/>
            <a:rect l="textAreaLeft" t="textAreaTop" r="textAreaRight" b="textAreaBottom"/>
            <a:pathLst>
              <a:path w="11429" h="3706495">
                <a:moveTo>
                  <a:pt x="11429" y="0"/>
                </a:moveTo>
                <a:lnTo>
                  <a:pt x="0" y="3706236"/>
                </a:lnTo>
              </a:path>
            </a:pathLst>
          </a:custGeom>
          <a:noFill/>
          <a:ln w="28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bject 6"/>
          <p:cNvSpPr/>
          <p:nvPr/>
        </p:nvSpPr>
        <p:spPr>
          <a:xfrm>
            <a:off x="1371600" y="3505320"/>
            <a:ext cx="7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bject 7"/>
          <p:cNvSpPr/>
          <p:nvPr/>
        </p:nvSpPr>
        <p:spPr>
          <a:xfrm>
            <a:off x="3678120" y="3505320"/>
            <a:ext cx="8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bject 8"/>
          <p:cNvSpPr/>
          <p:nvPr/>
        </p:nvSpPr>
        <p:spPr>
          <a:xfrm>
            <a:off x="1143000" y="5410080"/>
            <a:ext cx="100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bject 9"/>
          <p:cNvSpPr/>
          <p:nvPr/>
        </p:nvSpPr>
        <p:spPr>
          <a:xfrm>
            <a:off x="3352680" y="5410080"/>
            <a:ext cx="90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bject 10"/>
          <p:cNvSpPr/>
          <p:nvPr/>
        </p:nvSpPr>
        <p:spPr>
          <a:xfrm>
            <a:off x="5029200" y="3505320"/>
            <a:ext cx="10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bject 11"/>
          <p:cNvSpPr/>
          <p:nvPr/>
        </p:nvSpPr>
        <p:spPr>
          <a:xfrm>
            <a:off x="7086600" y="3505320"/>
            <a:ext cx="10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bject 12"/>
          <p:cNvSpPr/>
          <p:nvPr/>
        </p:nvSpPr>
        <p:spPr>
          <a:xfrm>
            <a:off x="5181480" y="5410080"/>
            <a:ext cx="94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bject 13"/>
          <p:cNvSpPr/>
          <p:nvPr/>
        </p:nvSpPr>
        <p:spPr>
          <a:xfrm>
            <a:off x="7238880" y="54100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bject 14"/>
          <p:cNvSpPr/>
          <p:nvPr/>
        </p:nvSpPr>
        <p:spPr>
          <a:xfrm>
            <a:off x="2557440" y="567684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Patien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bject 15"/>
          <p:cNvSpPr/>
          <p:nvPr/>
        </p:nvSpPr>
        <p:spPr>
          <a:xfrm>
            <a:off x="6529320" y="566748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Patien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10960" bIns="0" anchor="ctr">
            <a:noAutofit/>
          </a:bodyPr>
          <a:p>
            <a:pPr marL="244152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-org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bject 17"/>
          <p:cNvSpPr/>
          <p:nvPr/>
        </p:nvSpPr>
        <p:spPr>
          <a:xfrm>
            <a:off x="231840" y="6462720"/>
            <a:ext cx="1247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ww.ms-re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bject 3"/>
          <p:cNvSpPr/>
          <p:nvPr/>
        </p:nvSpPr>
        <p:spPr>
          <a:xfrm>
            <a:off x="1042920" y="1052640"/>
            <a:ext cx="7072560" cy="449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bject 3"/>
          <p:cNvSpPr/>
          <p:nvPr/>
        </p:nvSpPr>
        <p:spPr>
          <a:xfrm>
            <a:off x="4394160" y="3405240"/>
            <a:ext cx="4425840" cy="321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bject 4"/>
          <p:cNvSpPr/>
          <p:nvPr/>
        </p:nvSpPr>
        <p:spPr>
          <a:xfrm>
            <a:off x="250920" y="252360"/>
            <a:ext cx="3889440" cy="637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bject 5"/>
          <p:cNvSpPr/>
          <p:nvPr/>
        </p:nvSpPr>
        <p:spPr>
          <a:xfrm>
            <a:off x="4775040" y="422280"/>
            <a:ext cx="38102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ES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end-stage</a:t>
            </a:r>
            <a:r>
              <a:rPr b="1" lang="en-US" sz="3200" spc="-1" strike="noStrike">
                <a:solidFill>
                  <a:srgbClr val="b8cde5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renal</a:t>
            </a:r>
            <a:r>
              <a:rPr b="1" lang="en-US" sz="3200" spc="-1" strike="noStrike">
                <a:solidFill>
                  <a:srgbClr val="b8cde5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Šta je cilj terapije u M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DA – za rrms – bez podataka o aktivnosti bole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P- za ppms – bez podataka o prpgresiji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4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57"/>
          <p:cNvSpPr/>
          <p:nvPr/>
        </p:nvSpPr>
        <p:spPr>
          <a:xfrm>
            <a:off x="2690640" y="0"/>
            <a:ext cx="1573560" cy="6705720"/>
          </a:xfrm>
          <a:custGeom>
            <a:avLst/>
            <a:gdLst>
              <a:gd name="textAreaLeft" fmla="*/ 0 w 1573560"/>
              <a:gd name="textAreaRight" fmla="*/ 1573920 w 1573560"/>
              <a:gd name="textAreaTop" fmla="*/ 0 h 6705720"/>
              <a:gd name="textAreaBottom" fmla="*/ 6706080 h 670572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33"/>
          <p:cNvSpPr/>
          <p:nvPr/>
        </p:nvSpPr>
        <p:spPr>
          <a:xfrm>
            <a:off x="2644920" y="1778040"/>
            <a:ext cx="2541600" cy="164160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Control the symptoms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of acute rela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: Shape 129"/>
          <p:cNvSpPr/>
          <p:nvPr/>
        </p:nvSpPr>
        <p:spPr>
          <a:xfrm>
            <a:off x="576360" y="5259240"/>
            <a:ext cx="533160" cy="712800"/>
          </a:xfrm>
          <a:custGeom>
            <a:avLst/>
            <a:gdLst>
              <a:gd name="textAreaLeft" fmla="*/ 0 w 533160"/>
              <a:gd name="textAreaRight" fmla="*/ 533520 w 5331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: Shape 131"/>
          <p:cNvSpPr/>
          <p:nvPr/>
        </p:nvSpPr>
        <p:spPr>
          <a:xfrm>
            <a:off x="657360" y="5365800"/>
            <a:ext cx="379440" cy="504720"/>
          </a:xfrm>
          <a:custGeom>
            <a:avLst/>
            <a:gdLst>
              <a:gd name="textAreaLeft" fmla="*/ 0 w 379440"/>
              <a:gd name="textAreaRight" fmla="*/ 379800 w 37944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ljevi su se menjali tokom vreme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ntrola simptoma relap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556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Rectangle 126"/>
          <p:cNvSpPr/>
          <p:nvPr/>
        </p:nvSpPr>
        <p:spPr>
          <a:xfrm>
            <a:off x="301680" y="4606920"/>
            <a:ext cx="10936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ACTH &amp; stero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: Shape 135"/>
          <p:cNvSpPr/>
          <p:nvPr/>
        </p:nvSpPr>
        <p:spPr>
          <a:xfrm rot="16200000">
            <a:off x="5914080" y="3650040"/>
            <a:ext cx="1612800" cy="31863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3186360"/>
              <a:gd name="textAreaBottom" fmla="*/ 3186720 h 3186360"/>
            </a:gdLst>
            <a:ahLst/>
            <a:rect l="textAreaLeft" t="textAreaTop" r="textAreaRight" b="textAreaBottom"/>
            <a:pathLst>
              <a:path w="1321914" h="3553533">
                <a:moveTo>
                  <a:pt x="1321914" y="164680"/>
                </a:moveTo>
                <a:cubicBezTo>
                  <a:pt x="1318528" y="1290912"/>
                  <a:pt x="1315141" y="2417144"/>
                  <a:pt x="1311755" y="3543376"/>
                </a:cubicBezTo>
                <a:lnTo>
                  <a:pt x="0" y="3553533"/>
                </a:lnTo>
                <a:lnTo>
                  <a:pt x="0" y="124040"/>
                </a:lnTo>
                <a:lnTo>
                  <a:pt x="321889" y="124040"/>
                </a:lnTo>
                <a:lnTo>
                  <a:pt x="417118" y="0"/>
                </a:lnTo>
                <a:lnTo>
                  <a:pt x="512347" y="124040"/>
                </a:lnTo>
                <a:lnTo>
                  <a:pt x="1321914" y="16468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0"/>
          <p:cNvSpPr/>
          <p:nvPr/>
        </p:nvSpPr>
        <p:spPr>
          <a:xfrm>
            <a:off x="5405400" y="4510080"/>
            <a:ext cx="30592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Nemodifikovan tok MS</a:t>
            </a:r>
            <a:r>
              <a:rPr b="1" lang="en-GB" sz="2000" spc="-1" strike="noStrike">
                <a:solidFill>
                  <a:srgbClr val="000000"/>
                </a:solidFill>
                <a:latin typeface="Imago"/>
                <a:ea typeface="MS PGothic"/>
              </a:rPr>
              <a:t>:</a:t>
            </a:r>
            <a:r>
              <a:rPr b="1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Veliki broj rela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gresija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Česte posete bol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985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49"/>
          <p:cNvSpPr/>
          <p:nvPr/>
        </p:nvSpPr>
        <p:spPr>
          <a:xfrm>
            <a:off x="404640" y="2039760"/>
            <a:ext cx="1854360" cy="110016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1853830" h="824938">
                <a:moveTo>
                  <a:pt x="0" y="692585"/>
                </a:moveTo>
                <a:lnTo>
                  <a:pt x="1853830" y="692585"/>
                </a:lnTo>
                <a:lnTo>
                  <a:pt x="1853830" y="824938"/>
                </a:lnTo>
                <a:lnTo>
                  <a:pt x="0" y="824938"/>
                </a:lnTo>
                <a:lnTo>
                  <a:pt x="0" y="692585"/>
                </a:lnTo>
                <a:close/>
                <a:moveTo>
                  <a:pt x="0" y="0"/>
                </a:moveTo>
                <a:lnTo>
                  <a:pt x="1853830" y="0"/>
                </a:lnTo>
                <a:lnTo>
                  <a:pt x="1853830" y="132644"/>
                </a:lnTo>
                <a:lnTo>
                  <a:pt x="0" y="132644"/>
                </a:lnTo>
                <a:lnTo>
                  <a:pt x="0" y="0"/>
                </a:lnTo>
                <a:close/>
              </a:path>
            </a:pathLst>
          </a:cu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ight Arrow 6"/>
          <p:cNvSpPr/>
          <p:nvPr/>
        </p:nvSpPr>
        <p:spPr>
          <a:xfrm>
            <a:off x="295200" y="1928880"/>
            <a:ext cx="2629080" cy="1322280"/>
          </a:xfrm>
          <a:prstGeom prst="rightArrow">
            <a:avLst>
              <a:gd name="adj1" fmla="val 50000"/>
              <a:gd name="adj2" fmla="val 61812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5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56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57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8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2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54" dur="750" fill="hold"/>
                                        <p:tgtEl>
                                          <p:spTgt spid="9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57"/>
          <p:cNvSpPr/>
          <p:nvPr/>
        </p:nvSpPr>
        <p:spPr>
          <a:xfrm>
            <a:off x="2722680" y="0"/>
            <a:ext cx="1573200" cy="7086600"/>
          </a:xfrm>
          <a:custGeom>
            <a:avLst/>
            <a:gdLst>
              <a:gd name="textAreaLeft" fmla="*/ 0 w 1573200"/>
              <a:gd name="textAreaRight" fmla="*/ 1573560 w 1573200"/>
              <a:gd name="textAreaTop" fmla="*/ 0 h 7086600"/>
              <a:gd name="textAreaBottom" fmla="*/ 7086960 h 708660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3"/>
          <p:cNvSpPr/>
          <p:nvPr/>
        </p:nvSpPr>
        <p:spPr>
          <a:xfrm>
            <a:off x="6842160" y="4191120"/>
            <a:ext cx="2095560" cy="164304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Reduce 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relapse rate 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and disability prog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: Shape 129"/>
          <p:cNvSpPr/>
          <p:nvPr/>
        </p:nvSpPr>
        <p:spPr>
          <a:xfrm>
            <a:off x="3324240" y="4451400"/>
            <a:ext cx="534960" cy="711000"/>
          </a:xfrm>
          <a:custGeom>
            <a:avLst/>
            <a:gdLst>
              <a:gd name="textAreaLeft" fmla="*/ 0 w 534960"/>
              <a:gd name="textAreaRight" fmla="*/ 534960 w 5349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: Shape 131"/>
          <p:cNvSpPr/>
          <p:nvPr/>
        </p:nvSpPr>
        <p:spPr>
          <a:xfrm>
            <a:off x="3406680" y="4557600"/>
            <a:ext cx="378000" cy="505080"/>
          </a:xfrm>
          <a:custGeom>
            <a:avLst/>
            <a:gdLst>
              <a:gd name="textAreaLeft" fmla="*/ 0 w 378000"/>
              <a:gd name="textAreaRight" fmla="*/ 378360 w 378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d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cija broj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lap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ije onesposoblje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85920" y="6497280"/>
            <a:ext cx="496080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, GA, glatiramer acetate; IFN, interferon; RRMS, relapsing-remitting multiple scler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90032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1. Natalizumab Summary of Product Characteristics; May 201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126"/>
          <p:cNvSpPr/>
          <p:nvPr/>
        </p:nvSpPr>
        <p:spPr>
          <a:xfrm>
            <a:off x="301680" y="502452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CTH &amp; stero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1027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Rectangle 39"/>
          <p:cNvSpPr/>
          <p:nvPr/>
        </p:nvSpPr>
        <p:spPr>
          <a:xfrm>
            <a:off x="2744640" y="4125960"/>
            <a:ext cx="15098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Natalizum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42"/>
          <p:cNvSpPr/>
          <p:nvPr/>
        </p:nvSpPr>
        <p:spPr>
          <a:xfrm>
            <a:off x="1268280" y="4803840"/>
            <a:ext cx="109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IFN</a:t>
            </a: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β </a:t>
            </a:r>
            <a:br>
              <a:rPr sz="1300"/>
            </a:b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&amp; </a:t>
            </a: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47"/>
          <p:cNvSpPr/>
          <p:nvPr/>
        </p:nvSpPr>
        <p:spPr>
          <a:xfrm>
            <a:off x="457200" y="1295280"/>
            <a:ext cx="4029120" cy="2749680"/>
          </a:xfrm>
          <a:custGeom>
            <a:avLst/>
            <a:gdLst>
              <a:gd name="textAreaLeft" fmla="*/ 0 w 4029120"/>
              <a:gd name="textAreaRight" fmla="*/ 4029480 w 402912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2967781" h="1105058">
                <a:moveTo>
                  <a:pt x="1896024" y="0"/>
                </a:moveTo>
                <a:lnTo>
                  <a:pt x="2967781" y="0"/>
                </a:lnTo>
                <a:lnTo>
                  <a:pt x="2967781" y="1"/>
                </a:lnTo>
                <a:lnTo>
                  <a:pt x="2967781" y="995992"/>
                </a:lnTo>
                <a:lnTo>
                  <a:pt x="2967781" y="1004442"/>
                </a:lnTo>
                <a:lnTo>
                  <a:pt x="2544768" y="1004442"/>
                </a:lnTo>
                <a:lnTo>
                  <a:pt x="2431904" y="1105058"/>
                </a:lnTo>
                <a:lnTo>
                  <a:pt x="2319040" y="1004442"/>
                </a:lnTo>
                <a:lnTo>
                  <a:pt x="0" y="1004442"/>
                </a:lnTo>
                <a:lnTo>
                  <a:pt x="0" y="1"/>
                </a:lnTo>
                <a:lnTo>
                  <a:pt x="1896024" y="1"/>
                </a:lnTo>
                <a:lnTo>
                  <a:pt x="1896024" y="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0"/>
          <p:cNvSpPr/>
          <p:nvPr/>
        </p:nvSpPr>
        <p:spPr>
          <a:xfrm>
            <a:off x="357120" y="1509840"/>
            <a:ext cx="404352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High efficacy therapy, reducing relapse rate and slowing disability progression: </a:t>
            </a: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Indicated for use in highly active or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rapidly-evolving severe RRMS</a:t>
            </a:r>
            <a:r>
              <a:rPr b="0" lang="en-GB" sz="21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Benefit-risk considerations must be applied to all treat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0"/>
          <p:cNvSpPr/>
          <p:nvPr/>
        </p:nvSpPr>
        <p:spPr>
          <a:xfrm>
            <a:off x="5484960" y="4316400"/>
            <a:ext cx="1012680" cy="140004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ight Arrow 6"/>
          <p:cNvSpPr/>
          <p:nvPr/>
        </p:nvSpPr>
        <p:spPr>
          <a:xfrm>
            <a:off x="5346720" y="4213080"/>
            <a:ext cx="1873080" cy="1606680"/>
          </a:xfrm>
          <a:prstGeom prst="rightArrow">
            <a:avLst>
              <a:gd name="adj1" fmla="val 62491"/>
              <a:gd name="adj2" fmla="val 52763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46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8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9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3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91" dur="750" fill="hold"/>
                                        <p:tgtEl>
                                          <p:spTgt spid="10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100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57"/>
          <p:cNvSpPr/>
          <p:nvPr/>
        </p:nvSpPr>
        <p:spPr>
          <a:xfrm>
            <a:off x="2722680" y="0"/>
            <a:ext cx="1573200" cy="7086600"/>
          </a:xfrm>
          <a:custGeom>
            <a:avLst/>
            <a:gdLst>
              <a:gd name="textAreaLeft" fmla="*/ 0 w 1573200"/>
              <a:gd name="textAreaRight" fmla="*/ 1573560 w 1573200"/>
              <a:gd name="textAreaTop" fmla="*/ 0 h 7086600"/>
              <a:gd name="textAreaBottom" fmla="*/ 7086960 h 708660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: Shape 129"/>
          <p:cNvSpPr/>
          <p:nvPr/>
        </p:nvSpPr>
        <p:spPr>
          <a:xfrm>
            <a:off x="6599160" y="1060560"/>
            <a:ext cx="533520" cy="711000"/>
          </a:xfrm>
          <a:custGeom>
            <a:avLst/>
            <a:gdLst>
              <a:gd name="textAreaLeft" fmla="*/ 0 w 533520"/>
              <a:gd name="textAreaRight" fmla="*/ 533880 w 53352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: Shape 131"/>
          <p:cNvSpPr/>
          <p:nvPr/>
        </p:nvSpPr>
        <p:spPr>
          <a:xfrm>
            <a:off x="6680160" y="1166760"/>
            <a:ext cx="379440" cy="504720"/>
          </a:xfrm>
          <a:custGeom>
            <a:avLst/>
            <a:gdLst>
              <a:gd name="textAreaLeft" fmla="*/ 0 w 379440"/>
              <a:gd name="textAreaRight" fmla="*/ 379800 w 37944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p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ja aktivnosti i progresije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85920" y="6497280"/>
            <a:ext cx="583560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, GA, glatiramer acetate; IFN, interferon; PPMS, primary progressive MS; RMS relapsing multiple scler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90032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1. Ocrelizumab Summary of Product Characteristics; April 201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126"/>
          <p:cNvSpPr/>
          <p:nvPr/>
        </p:nvSpPr>
        <p:spPr>
          <a:xfrm>
            <a:off x="301680" y="502452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CTH &amp; stero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1071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39"/>
          <p:cNvSpPr/>
          <p:nvPr/>
        </p:nvSpPr>
        <p:spPr>
          <a:xfrm>
            <a:off x="6553080" y="1739880"/>
            <a:ext cx="2057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Ocrelizum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2"/>
          <p:cNvSpPr/>
          <p:nvPr/>
        </p:nvSpPr>
        <p:spPr>
          <a:xfrm>
            <a:off x="1268280" y="4803840"/>
            <a:ext cx="109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IFN</a:t>
            </a: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β </a:t>
            </a:r>
            <a:br>
              <a:rPr sz="1300"/>
            </a:b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&amp; </a:t>
            </a: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0"/>
          <p:cNvSpPr/>
          <p:nvPr/>
        </p:nvSpPr>
        <p:spPr>
          <a:xfrm>
            <a:off x="3036960" y="435780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Natali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: Shape 135"/>
          <p:cNvSpPr/>
          <p:nvPr/>
        </p:nvSpPr>
        <p:spPr>
          <a:xfrm flipH="1">
            <a:off x="6043680" y="2116080"/>
            <a:ext cx="2813040" cy="4103640"/>
          </a:xfrm>
          <a:custGeom>
            <a:avLst/>
            <a:gdLst>
              <a:gd name="textAreaLeft" fmla="*/ 0 w 2813040"/>
              <a:gd name="textAreaRight" fmla="*/ 2813040 w 2813040"/>
              <a:gd name="textAreaTop" fmla="*/ 0 h 4103640"/>
              <a:gd name="textAreaBottom" fmla="*/ 4104000 h 4103640"/>
            </a:gdLst>
            <a:ahLst/>
            <a:rect l="textAreaLeft" t="textAreaTop" r="textAreaRight" b="textAreaBottom"/>
            <a:pathLst>
              <a:path w="834234" h="3553533">
                <a:moveTo>
                  <a:pt x="834234" y="124040"/>
                </a:moveTo>
                <a:lnTo>
                  <a:pt x="834233" y="3553533"/>
                </a:lnTo>
                <a:lnTo>
                  <a:pt x="0" y="3553533"/>
                </a:lnTo>
                <a:lnTo>
                  <a:pt x="0" y="124040"/>
                </a:lnTo>
                <a:lnTo>
                  <a:pt x="321889" y="124040"/>
                </a:lnTo>
                <a:lnTo>
                  <a:pt x="417118" y="0"/>
                </a:lnTo>
                <a:lnTo>
                  <a:pt x="512347" y="124040"/>
                </a:lnTo>
                <a:lnTo>
                  <a:pt x="834234" y="12404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46"/>
          <p:cNvSpPr/>
          <p:nvPr/>
        </p:nvSpPr>
        <p:spPr>
          <a:xfrm>
            <a:off x="5715000" y="232740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High efficacy therapy,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reducing relapse rate and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slowing disability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prog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Approved for RMS with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active disease defined by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clinical or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MRI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eature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irst therapy approved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or early PPM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Benefit-risk considerations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must be applied to all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trea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7"/>
          <p:cNvSpPr/>
          <p:nvPr/>
        </p:nvSpPr>
        <p:spPr>
          <a:xfrm>
            <a:off x="4179960" y="402264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Fingoli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3"/>
          <p:cNvSpPr/>
          <p:nvPr/>
        </p:nvSpPr>
        <p:spPr>
          <a:xfrm>
            <a:off x="4476600" y="3224160"/>
            <a:ext cx="1094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lemtu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2"/>
          <p:cNvSpPr/>
          <p:nvPr/>
        </p:nvSpPr>
        <p:spPr>
          <a:xfrm>
            <a:off x="1920960" y="1641600"/>
            <a:ext cx="3244680" cy="137304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Suppression of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sease activity and disease pro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9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4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5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6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7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59"/>
          <p:cNvSpPr/>
          <p:nvPr/>
        </p:nvSpPr>
        <p:spPr>
          <a:xfrm>
            <a:off x="612720" y="1627200"/>
            <a:ext cx="920880" cy="140184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ight Arrow 60"/>
          <p:cNvSpPr/>
          <p:nvPr/>
        </p:nvSpPr>
        <p:spPr>
          <a:xfrm>
            <a:off x="479520" y="1523880"/>
            <a:ext cx="1757160" cy="1608120"/>
          </a:xfrm>
          <a:prstGeom prst="rightArrow">
            <a:avLst>
              <a:gd name="adj1" fmla="val 62491"/>
              <a:gd name="adj2" fmla="val 52701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31" dur="750" fill="hold"/>
                                        <p:tgtEl>
                                          <p:spTgt spid="10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Outcome Measures in 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35908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Kliničke form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279360" y="1187280"/>
            <a:ext cx="3312000" cy="2338920"/>
            <a:chOff x="279360" y="1187280"/>
            <a:chExt cx="3312000" cy="2338920"/>
          </a:xfrm>
        </p:grpSpPr>
        <p:sp>
          <p:nvSpPr>
            <p:cNvPr id="244" name="Line 7"/>
            <p:cNvSpPr/>
            <p:nvPr/>
          </p:nvSpPr>
          <p:spPr>
            <a:xfrm flipV="1">
              <a:off x="780480" y="2491200"/>
              <a:ext cx="2430360" cy="9500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527400" y="118728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imar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gresiv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"/>
            <p:cNvSpPr/>
            <p:nvPr/>
          </p:nvSpPr>
          <p:spPr>
            <a:xfrm rot="16200000">
              <a:off x="-370440" y="253872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Calibri"/>
                </a:rPr>
                <a:t>onesposobljen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0"/>
          <p:cNvGrpSpPr/>
          <p:nvPr/>
        </p:nvGrpSpPr>
        <p:grpSpPr>
          <a:xfrm>
            <a:off x="4534560" y="1219320"/>
            <a:ext cx="3366000" cy="2155320"/>
            <a:chOff x="4534560" y="1219320"/>
            <a:chExt cx="3366000" cy="2155320"/>
          </a:xfrm>
        </p:grpSpPr>
        <p:sp>
          <p:nvSpPr>
            <p:cNvPr id="248" name="Freeform 13"/>
            <p:cNvSpPr/>
            <p:nvPr/>
          </p:nvSpPr>
          <p:spPr>
            <a:xfrm>
              <a:off x="5069160" y="2475720"/>
              <a:ext cx="2507760" cy="898920"/>
            </a:xfrm>
            <a:custGeom>
              <a:avLst/>
              <a:gdLst>
                <a:gd name="textAreaLeft" fmla="*/ 0 w 2507760"/>
                <a:gd name="textAreaRight" fmla="*/ 2508120 w 250776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1776" h="752">
                  <a:moveTo>
                    <a:pt x="0" y="720"/>
                  </a:moveTo>
                  <a:cubicBezTo>
                    <a:pt x="28" y="480"/>
                    <a:pt x="56" y="240"/>
                    <a:pt x="96" y="240"/>
                  </a:cubicBezTo>
                  <a:cubicBezTo>
                    <a:pt x="136" y="240"/>
                    <a:pt x="192" y="688"/>
                    <a:pt x="240" y="720"/>
                  </a:cubicBezTo>
                  <a:cubicBezTo>
                    <a:pt x="288" y="752"/>
                    <a:pt x="328" y="448"/>
                    <a:pt x="384" y="432"/>
                  </a:cubicBezTo>
                  <a:cubicBezTo>
                    <a:pt x="440" y="416"/>
                    <a:pt x="528" y="632"/>
                    <a:pt x="576" y="624"/>
                  </a:cubicBezTo>
                  <a:cubicBezTo>
                    <a:pt x="624" y="616"/>
                    <a:pt x="640" y="400"/>
                    <a:pt x="672" y="384"/>
                  </a:cubicBezTo>
                  <a:cubicBezTo>
                    <a:pt x="704" y="368"/>
                    <a:pt x="680" y="544"/>
                    <a:pt x="768" y="528"/>
                  </a:cubicBezTo>
                  <a:cubicBezTo>
                    <a:pt x="856" y="512"/>
                    <a:pt x="1120" y="368"/>
                    <a:pt x="1200" y="288"/>
                  </a:cubicBezTo>
                  <a:cubicBezTo>
                    <a:pt x="1280" y="208"/>
                    <a:pt x="1208" y="64"/>
                    <a:pt x="1248" y="48"/>
                  </a:cubicBezTo>
                  <a:cubicBezTo>
                    <a:pt x="1288" y="32"/>
                    <a:pt x="1352" y="200"/>
                    <a:pt x="1440" y="192"/>
                  </a:cubicBezTo>
                  <a:cubicBezTo>
                    <a:pt x="1528" y="184"/>
                    <a:pt x="1652" y="92"/>
                    <a:pt x="1776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4534560" y="1219320"/>
              <a:ext cx="336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kundarno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gresiv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6"/>
          <p:cNvSpPr/>
          <p:nvPr/>
        </p:nvSpPr>
        <p:spPr>
          <a:xfrm>
            <a:off x="952560" y="4800600"/>
            <a:ext cx="3085920" cy="110016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" h="888">
                <a:moveTo>
                  <a:pt x="0" y="838"/>
                </a:moveTo>
                <a:cubicBezTo>
                  <a:pt x="30" y="420"/>
                  <a:pt x="64" y="0"/>
                  <a:pt x="102" y="2"/>
                </a:cubicBezTo>
                <a:cubicBezTo>
                  <a:pt x="140" y="3"/>
                  <a:pt x="155" y="702"/>
                  <a:pt x="227" y="845"/>
                </a:cubicBezTo>
                <a:lnTo>
                  <a:pt x="535" y="859"/>
                </a:lnTo>
                <a:cubicBezTo>
                  <a:pt x="598" y="764"/>
                  <a:pt x="563" y="274"/>
                  <a:pt x="608" y="275"/>
                </a:cubicBezTo>
                <a:cubicBezTo>
                  <a:pt x="653" y="276"/>
                  <a:pt x="718" y="771"/>
                  <a:pt x="804" y="864"/>
                </a:cubicBezTo>
                <a:lnTo>
                  <a:pt x="1124" y="837"/>
                </a:lnTo>
                <a:cubicBezTo>
                  <a:pt x="1189" y="787"/>
                  <a:pt x="1132" y="585"/>
                  <a:pt x="1194" y="564"/>
                </a:cubicBezTo>
                <a:cubicBezTo>
                  <a:pt x="1256" y="543"/>
                  <a:pt x="1417" y="776"/>
                  <a:pt x="1499" y="708"/>
                </a:cubicBezTo>
                <a:cubicBezTo>
                  <a:pt x="1582" y="640"/>
                  <a:pt x="1633" y="128"/>
                  <a:pt x="1690" y="156"/>
                </a:cubicBezTo>
                <a:cubicBezTo>
                  <a:pt x="1747" y="184"/>
                  <a:pt x="1764" y="754"/>
                  <a:pt x="1842" y="876"/>
                </a:cubicBezTo>
                <a:lnTo>
                  <a:pt x="2160" y="8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"/>
          <p:cNvSpPr/>
          <p:nvPr/>
        </p:nvSpPr>
        <p:spPr>
          <a:xfrm>
            <a:off x="4910040" y="4267080"/>
            <a:ext cx="2933640" cy="1714680"/>
          </a:xfrm>
          <a:custGeom>
            <a:avLst/>
            <a:gdLst>
              <a:gd name="textAreaLeft" fmla="*/ 0 w 2933640"/>
              <a:gd name="textAreaRight" fmla="*/ 2934000 w 29336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6" h="1059">
                <a:moveTo>
                  <a:pt x="0" y="1059"/>
                </a:moveTo>
                <a:cubicBezTo>
                  <a:pt x="36" y="696"/>
                  <a:pt x="71" y="334"/>
                  <a:pt x="122" y="334"/>
                </a:cubicBezTo>
                <a:cubicBezTo>
                  <a:pt x="173" y="334"/>
                  <a:pt x="231" y="939"/>
                  <a:pt x="305" y="1059"/>
                </a:cubicBezTo>
                <a:lnTo>
                  <a:pt x="566" y="1054"/>
                </a:lnTo>
                <a:cubicBezTo>
                  <a:pt x="619" y="962"/>
                  <a:pt x="575" y="539"/>
                  <a:pt x="621" y="505"/>
                </a:cubicBezTo>
                <a:cubicBezTo>
                  <a:pt x="667" y="471"/>
                  <a:pt x="763" y="794"/>
                  <a:pt x="843" y="851"/>
                </a:cubicBezTo>
                <a:lnTo>
                  <a:pt x="1100" y="847"/>
                </a:lnTo>
                <a:cubicBezTo>
                  <a:pt x="1151" y="715"/>
                  <a:pt x="1119" y="114"/>
                  <a:pt x="1148" y="60"/>
                </a:cubicBezTo>
                <a:cubicBezTo>
                  <a:pt x="1177" y="6"/>
                  <a:pt x="1200" y="444"/>
                  <a:pt x="1272" y="521"/>
                </a:cubicBezTo>
                <a:lnTo>
                  <a:pt x="1580" y="520"/>
                </a:lnTo>
                <a:lnTo>
                  <a:pt x="1729" y="44"/>
                </a:lnTo>
                <a:cubicBezTo>
                  <a:pt x="1777" y="0"/>
                  <a:pt x="1780" y="222"/>
                  <a:pt x="1868" y="258"/>
                </a:cubicBezTo>
                <a:cubicBezTo>
                  <a:pt x="1955" y="295"/>
                  <a:pt x="2175" y="258"/>
                  <a:pt x="2256" y="25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58800" y="434016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V="1">
            <a:off x="4705200" y="4495320"/>
            <a:ext cx="1800" cy="177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 rot="16200000">
            <a:off x="-413280" y="51220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2636280" y="3733920"/>
            <a:ext cx="349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p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1935720" y="350532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 rot="16200000">
            <a:off x="3582000" y="25408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 rot="16200000">
            <a:off x="3718800" y="53506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V="1">
            <a:off x="6588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V="1">
            <a:off x="4537080" y="1795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6005520" y="358128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873800" y="6215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Arrow 37"/>
          <p:cNvSpPr/>
          <p:nvPr/>
        </p:nvSpPr>
        <p:spPr>
          <a:xfrm>
            <a:off x="654120" y="6141960"/>
            <a:ext cx="3240000" cy="8748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ight Arrow 38"/>
          <p:cNvSpPr/>
          <p:nvPr/>
        </p:nvSpPr>
        <p:spPr>
          <a:xfrm>
            <a:off x="654120" y="3505320"/>
            <a:ext cx="32400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ight Arrow 39"/>
          <p:cNvSpPr/>
          <p:nvPr/>
        </p:nvSpPr>
        <p:spPr>
          <a:xfrm>
            <a:off x="4537080" y="3552840"/>
            <a:ext cx="3241800" cy="763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6275880" y="6215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0" y="6553080"/>
            <a:ext cx="36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Lublin et al.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ight Arrow 42"/>
          <p:cNvSpPr/>
          <p:nvPr/>
        </p:nvSpPr>
        <p:spPr>
          <a:xfrm>
            <a:off x="4707000" y="6227640"/>
            <a:ext cx="3241440" cy="889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object 2"/>
          <p:cNvSpPr/>
          <p:nvPr/>
        </p:nvSpPr>
        <p:spPr>
          <a:xfrm>
            <a:off x="690480" y="5180040"/>
            <a:ext cx="77342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No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evidence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of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clinical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disease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reat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arge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ED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ze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ler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ongo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easur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isea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bject 3"/>
          <p:cNvSpPr/>
          <p:nvPr/>
        </p:nvSpPr>
        <p:spPr>
          <a:xfrm>
            <a:off x="1143000" y="533520"/>
            <a:ext cx="6715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NEDA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(No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Evidence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of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Disease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Activity)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in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bject 4"/>
          <p:cNvSpPr/>
          <p:nvPr/>
        </p:nvSpPr>
        <p:spPr>
          <a:xfrm>
            <a:off x="4051440" y="2779560"/>
            <a:ext cx="129384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bject 5"/>
          <p:cNvSpPr/>
          <p:nvPr/>
        </p:nvSpPr>
        <p:spPr>
          <a:xfrm>
            <a:off x="3995640" y="1925640"/>
            <a:ext cx="1476360" cy="10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bject 6"/>
          <p:cNvSpPr/>
          <p:nvPr/>
        </p:nvSpPr>
        <p:spPr>
          <a:xfrm>
            <a:off x="4325760" y="3481560"/>
            <a:ext cx="703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DA</a:t>
            </a:r>
            <a:r>
              <a:rPr b="0" lang="en-US" sz="1000" spc="-1" strike="noStrike" baseline="87000">
                <a:solidFill>
                  <a:srgbClr val="ffffff"/>
                </a:solidFill>
                <a:latin typeface="Sylfaen"/>
                <a:ea typeface="Sylfae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bject 7"/>
          <p:cNvSpPr/>
          <p:nvPr/>
        </p:nvSpPr>
        <p:spPr>
          <a:xfrm>
            <a:off x="4449600" y="2033640"/>
            <a:ext cx="53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bject 8"/>
          <p:cNvSpPr/>
          <p:nvPr/>
        </p:nvSpPr>
        <p:spPr>
          <a:xfrm>
            <a:off x="4127400" y="2244600"/>
            <a:ext cx="1173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hanc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w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sion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bject 9"/>
          <p:cNvSpPr/>
          <p:nvPr/>
        </p:nvSpPr>
        <p:spPr>
          <a:xfrm>
            <a:off x="5129280" y="4102200"/>
            <a:ext cx="264960" cy="2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bject 10"/>
          <p:cNvSpPr/>
          <p:nvPr/>
        </p:nvSpPr>
        <p:spPr>
          <a:xfrm>
            <a:off x="5121360" y="4206960"/>
            <a:ext cx="1046160" cy="9507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bject 11"/>
          <p:cNvSpPr/>
          <p:nvPr/>
        </p:nvSpPr>
        <p:spPr>
          <a:xfrm>
            <a:off x="5326200" y="4425840"/>
            <a:ext cx="6458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209520">
              <a:lnSpc>
                <a:spcPts val="12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bject 12"/>
          <p:cNvSpPr/>
          <p:nvPr/>
        </p:nvSpPr>
        <p:spPr>
          <a:xfrm>
            <a:off x="3990960" y="4102200"/>
            <a:ext cx="274680" cy="311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bject 13"/>
          <p:cNvSpPr/>
          <p:nvPr/>
        </p:nvSpPr>
        <p:spPr>
          <a:xfrm>
            <a:off x="3144960" y="4170240"/>
            <a:ext cx="1257120" cy="938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bject 14"/>
          <p:cNvSpPr/>
          <p:nvPr/>
        </p:nvSpPr>
        <p:spPr>
          <a:xfrm>
            <a:off x="3333600" y="4294080"/>
            <a:ext cx="8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" indent="-22320" algn="just"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confirmed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orsen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EDS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bject 15"/>
          <p:cNvSpPr/>
          <p:nvPr/>
        </p:nvSpPr>
        <p:spPr>
          <a:xfrm>
            <a:off x="3048120" y="1817640"/>
            <a:ext cx="3009960" cy="12034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3009900" h="902335">
                <a:moveTo>
                  <a:pt x="0" y="901732"/>
                </a:moveTo>
                <a:lnTo>
                  <a:pt x="3009387" y="901732"/>
                </a:lnTo>
                <a:lnTo>
                  <a:pt x="3009387" y="0"/>
                </a:lnTo>
                <a:lnTo>
                  <a:pt x="0" y="0"/>
                </a:lnTo>
                <a:lnTo>
                  <a:pt x="0" y="901732"/>
                </a:lnTo>
                <a:close/>
              </a:path>
            </a:pathLst>
          </a:custGeom>
          <a:noFill/>
          <a:ln w="28440">
            <a:solidFill>
              <a:srgbClr val="dc006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bject 16"/>
          <p:cNvSpPr/>
          <p:nvPr/>
        </p:nvSpPr>
        <p:spPr>
          <a:xfrm>
            <a:off x="2543040" y="4199040"/>
            <a:ext cx="4221360" cy="1073160"/>
          </a:xfrm>
          <a:custGeom>
            <a:avLst/>
            <a:gdLst>
              <a:gd name="textAreaLeft" fmla="*/ 0 w 4221360"/>
              <a:gd name="textAreaRight" fmla="*/ 4221720 w 4221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4220209" h="805179">
                <a:moveTo>
                  <a:pt x="0" y="804577"/>
                </a:moveTo>
                <a:lnTo>
                  <a:pt x="4219590" y="804577"/>
                </a:lnTo>
                <a:lnTo>
                  <a:pt x="4219590" y="0"/>
                </a:lnTo>
                <a:lnTo>
                  <a:pt x="0" y="0"/>
                </a:lnTo>
                <a:lnTo>
                  <a:pt x="0" y="804577"/>
                </a:lnTo>
                <a:close/>
              </a:path>
            </a:pathLst>
          </a:custGeom>
          <a:noFill/>
          <a:ln w="28440">
            <a:solidFill>
              <a:srgbClr val="dc006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bject 17"/>
          <p:cNvSpPr/>
          <p:nvPr/>
        </p:nvSpPr>
        <p:spPr>
          <a:xfrm>
            <a:off x="3162240" y="1703520"/>
            <a:ext cx="2820960" cy="369720"/>
          </a:xfrm>
          <a:custGeom>
            <a:avLst/>
            <a:gdLst>
              <a:gd name="textAreaLeft" fmla="*/ 0 w 2820960"/>
              <a:gd name="textAreaRight" fmla="*/ 2821320 w 28209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821304" h="277494">
                <a:moveTo>
                  <a:pt x="0" y="276998"/>
                </a:moveTo>
                <a:lnTo>
                  <a:pt x="2820923" y="276998"/>
                </a:lnTo>
                <a:lnTo>
                  <a:pt x="2820923" y="0"/>
                </a:lnTo>
                <a:lnTo>
                  <a:pt x="0" y="0"/>
                </a:lnTo>
                <a:lnTo>
                  <a:pt x="0" y="2769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bject 18"/>
          <p:cNvSpPr/>
          <p:nvPr/>
        </p:nvSpPr>
        <p:spPr>
          <a:xfrm>
            <a:off x="3413160" y="1789200"/>
            <a:ext cx="2314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No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evidence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of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MRI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disease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bject 19"/>
          <p:cNvSpPr/>
          <p:nvPr/>
        </p:nvSpPr>
        <p:spPr>
          <a:xfrm>
            <a:off x="3083040" y="5089680"/>
            <a:ext cx="3073320" cy="411120"/>
          </a:xfrm>
          <a:custGeom>
            <a:avLst/>
            <a:gdLst>
              <a:gd name="textAreaLeft" fmla="*/ 0 w 3073320"/>
              <a:gd name="textAreaRight" fmla="*/ 3073680 w 30733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073400" h="307975">
                <a:moveTo>
                  <a:pt x="0" y="307777"/>
                </a:moveTo>
                <a:lnTo>
                  <a:pt x="3073267" y="307777"/>
                </a:lnTo>
                <a:lnTo>
                  <a:pt x="3073267" y="0"/>
                </a:lnTo>
                <a:lnTo>
                  <a:pt x="0" y="0"/>
                </a:lnTo>
                <a:lnTo>
                  <a:pt x="0" y="3077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bject 20"/>
          <p:cNvSpPr/>
          <p:nvPr/>
        </p:nvSpPr>
        <p:spPr>
          <a:xfrm>
            <a:off x="3373560" y="1432080"/>
            <a:ext cx="196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D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omposit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of NEDA in M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[a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136"/>
          <p:cNvGrpSpPr/>
          <p:nvPr/>
        </p:nvGrpSpPr>
        <p:grpSpPr>
          <a:xfrm>
            <a:off x="7389720" y="5305320"/>
            <a:ext cx="606600" cy="774720"/>
            <a:chOff x="7389720" y="5305320"/>
            <a:chExt cx="606600" cy="774720"/>
          </a:xfrm>
        </p:grpSpPr>
        <p:sp>
          <p:nvSpPr>
            <p:cNvPr id="1112" name="Freeform 30"/>
            <p:cNvSpPr/>
            <p:nvPr/>
          </p:nvSpPr>
          <p:spPr>
            <a:xfrm>
              <a:off x="7389720" y="5305320"/>
              <a:ext cx="606600" cy="77472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62" h="569">
                  <a:moveTo>
                    <a:pt x="488" y="569"/>
                  </a:moveTo>
                  <a:cubicBezTo>
                    <a:pt x="74" y="569"/>
                    <a:pt x="74" y="569"/>
                    <a:pt x="74" y="569"/>
                  </a:cubicBezTo>
                  <a:cubicBezTo>
                    <a:pt x="33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3" y="0"/>
                    <a:pt x="74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29" y="0"/>
                    <a:pt x="562" y="33"/>
                    <a:pt x="562" y="74"/>
                  </a:cubicBezTo>
                  <a:cubicBezTo>
                    <a:pt x="562" y="494"/>
                    <a:pt x="562" y="494"/>
                    <a:pt x="562" y="494"/>
                  </a:cubicBezTo>
                  <a:cubicBezTo>
                    <a:pt x="562" y="535"/>
                    <a:pt x="529" y="569"/>
                    <a:pt x="488" y="569"/>
                  </a:cubicBezTo>
                  <a:close/>
                </a:path>
              </a:pathLst>
            </a:custGeom>
            <a:noFill/>
            <a:ln cap="rnd"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1"/>
            <p:cNvSpPr/>
            <p:nvPr/>
          </p:nvSpPr>
          <p:spPr>
            <a:xfrm>
              <a:off x="7458840" y="5455080"/>
              <a:ext cx="214200" cy="405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199" h="298">
                  <a:moveTo>
                    <a:pt x="5" y="271"/>
                  </a:moveTo>
                  <a:cubicBezTo>
                    <a:pt x="5" y="271"/>
                    <a:pt x="0" y="287"/>
                    <a:pt x="14" y="293"/>
                  </a:cubicBezTo>
                  <a:cubicBezTo>
                    <a:pt x="27" y="298"/>
                    <a:pt x="37" y="285"/>
                    <a:pt x="37" y="285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87" y="197"/>
                    <a:pt x="88" y="202"/>
                  </a:cubicBezTo>
                  <a:cubicBezTo>
                    <a:pt x="88" y="206"/>
                    <a:pt x="55" y="276"/>
                    <a:pt x="55" y="276"/>
                  </a:cubicBezTo>
                  <a:cubicBezTo>
                    <a:pt x="55" y="276"/>
                    <a:pt x="56" y="293"/>
                    <a:pt x="72" y="293"/>
                  </a:cubicBezTo>
                  <a:cubicBezTo>
                    <a:pt x="89" y="293"/>
                    <a:pt x="90" y="278"/>
                    <a:pt x="90" y="278"/>
                  </a:cubicBezTo>
                  <a:cubicBezTo>
                    <a:pt x="90" y="278"/>
                    <a:pt x="128" y="205"/>
                    <a:pt x="124" y="191"/>
                  </a:cubicBezTo>
                  <a:cubicBezTo>
                    <a:pt x="122" y="184"/>
                    <a:pt x="86" y="138"/>
                    <a:pt x="86" y="138"/>
                  </a:cubicBezTo>
                  <a:cubicBezTo>
                    <a:pt x="86" y="138"/>
                    <a:pt x="92" y="125"/>
                    <a:pt x="98" y="110"/>
                  </a:cubicBezTo>
                  <a:cubicBezTo>
                    <a:pt x="105" y="94"/>
                    <a:pt x="106" y="87"/>
                    <a:pt x="106" y="87"/>
                  </a:cubicBezTo>
                  <a:cubicBezTo>
                    <a:pt x="106" y="87"/>
                    <a:pt x="111" y="94"/>
                    <a:pt x="115" y="98"/>
                  </a:cubicBezTo>
                  <a:cubicBezTo>
                    <a:pt x="120" y="101"/>
                    <a:pt x="176" y="121"/>
                    <a:pt x="176" y="121"/>
                  </a:cubicBezTo>
                  <a:cubicBezTo>
                    <a:pt x="176" y="121"/>
                    <a:pt x="189" y="125"/>
                    <a:pt x="194" y="113"/>
                  </a:cubicBezTo>
                  <a:cubicBezTo>
                    <a:pt x="199" y="100"/>
                    <a:pt x="189" y="96"/>
                    <a:pt x="189" y="96"/>
                  </a:cubicBezTo>
                  <a:cubicBezTo>
                    <a:pt x="189" y="96"/>
                    <a:pt x="137" y="76"/>
                    <a:pt x="135" y="75"/>
                  </a:cubicBezTo>
                  <a:cubicBezTo>
                    <a:pt x="130" y="73"/>
                    <a:pt x="116" y="55"/>
                    <a:pt x="112" y="19"/>
                  </a:cubicBezTo>
                  <a:cubicBezTo>
                    <a:pt x="111" y="6"/>
                    <a:pt x="87" y="0"/>
                    <a:pt x="81" y="3"/>
                  </a:cubicBezTo>
                  <a:cubicBezTo>
                    <a:pt x="14" y="45"/>
                    <a:pt x="35" y="133"/>
                    <a:pt x="35" y="133"/>
                  </a:cubicBezTo>
                  <a:lnTo>
                    <a:pt x="5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2"/>
            <p:cNvSpPr/>
            <p:nvPr/>
          </p:nvSpPr>
          <p:spPr>
            <a:xfrm>
              <a:off x="7551720" y="5381640"/>
              <a:ext cx="622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3"/>
            <p:cNvSpPr/>
            <p:nvPr/>
          </p:nvSpPr>
          <p:spPr>
            <a:xfrm>
              <a:off x="7684200" y="5699160"/>
              <a:ext cx="240840" cy="30348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4"/>
            <p:cNvSpPr/>
            <p:nvPr/>
          </p:nvSpPr>
          <p:spPr>
            <a:xfrm>
              <a:off x="7804440" y="5738760"/>
              <a:ext cx="78480" cy="157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72" h="275">
                  <a:moveTo>
                    <a:pt x="0" y="0"/>
                  </a:moveTo>
                  <a:lnTo>
                    <a:pt x="0" y="216"/>
                  </a:lnTo>
                  <a:lnTo>
                    <a:pt x="172" y="275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5"/>
            <p:cNvSpPr/>
            <p:nvPr/>
          </p:nvSpPr>
          <p:spPr>
            <a:xfrm>
              <a:off x="7879680" y="5707080"/>
              <a:ext cx="24840" cy="338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3" h="25">
                  <a:moveTo>
                    <a:pt x="0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2" y="0"/>
                    <a:pt x="18" y="4"/>
                  </a:cubicBezTo>
                  <a:cubicBezTo>
                    <a:pt x="23" y="9"/>
                    <a:pt x="22" y="12"/>
                    <a:pt x="22" y="12"/>
                  </a:cubicBezTo>
                  <a:cubicBezTo>
                    <a:pt x="11" y="25"/>
                    <a:pt x="11" y="25"/>
                    <a:pt x="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6"/>
            <p:cNvSpPr/>
            <p:nvPr/>
          </p:nvSpPr>
          <p:spPr>
            <a:xfrm>
              <a:off x="7792560" y="5655240"/>
              <a:ext cx="24480" cy="417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31">
                  <a:moveTo>
                    <a:pt x="0" y="29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0"/>
                    <a:pt x="10" y="0"/>
                  </a:cubicBezTo>
                  <a:cubicBezTo>
                    <a:pt x="21" y="0"/>
                    <a:pt x="23" y="5"/>
                    <a:pt x="23" y="5"/>
                  </a:cubicBezTo>
                  <a:cubicBezTo>
                    <a:pt x="23" y="31"/>
                    <a:pt x="23" y="31"/>
                    <a:pt x="23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7"/>
            <p:cNvSpPr/>
            <p:nvPr/>
          </p:nvSpPr>
          <p:spPr>
            <a:xfrm>
              <a:off x="7777080" y="5632560"/>
              <a:ext cx="52920" cy="406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0">
                  <a:moveTo>
                    <a:pt x="41" y="30"/>
                  </a:move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6"/>
                    <a:pt x="0" y="2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5" y="0"/>
                    <a:pt x="49" y="4"/>
                    <a:pt x="49" y="8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9" y="26"/>
                    <a:pt x="45" y="30"/>
                    <a:pt x="4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38"/>
            <p:cNvSpPr/>
            <p:nvPr/>
          </p:nvSpPr>
          <p:spPr>
            <a:xfrm>
              <a:off x="7881120" y="5682240"/>
              <a:ext cx="42840" cy="50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7">
                  <a:moveTo>
                    <a:pt x="23" y="35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1" y="18"/>
                    <a:pt x="0" y="14"/>
                    <a:pt x="2" y="12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0"/>
                    <a:pt x="14" y="0"/>
                    <a:pt x="17" y="2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9" y="18"/>
                    <a:pt x="40" y="22"/>
                    <a:pt x="38" y="2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0" y="36"/>
                    <a:pt x="26" y="37"/>
                    <a:pt x="23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9"/>
            <p:cNvSpPr/>
            <p:nvPr/>
          </p:nvSpPr>
          <p:spPr>
            <a:xfrm flipV="1">
              <a:off x="7805160" y="597636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40"/>
            <p:cNvSpPr/>
            <p:nvPr/>
          </p:nvSpPr>
          <p:spPr>
            <a:xfrm flipV="1">
              <a:off x="7805160" y="569448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41"/>
            <p:cNvSpPr/>
            <p:nvPr/>
          </p:nvSpPr>
          <p:spPr>
            <a:xfrm flipH="1">
              <a:off x="7683840" y="5851800"/>
              <a:ext cx="20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42"/>
            <p:cNvSpPr/>
            <p:nvPr/>
          </p:nvSpPr>
          <p:spPr>
            <a:xfrm flipH="1" flipV="1">
              <a:off x="7717680" y="5750640"/>
              <a:ext cx="1080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43"/>
            <p:cNvSpPr/>
            <p:nvPr/>
          </p:nvSpPr>
          <p:spPr>
            <a:xfrm flipV="1">
              <a:off x="7882920" y="5750640"/>
              <a:ext cx="1152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44"/>
            <p:cNvSpPr/>
            <p:nvPr/>
          </p:nvSpPr>
          <p:spPr>
            <a:xfrm flipH="1">
              <a:off x="7717680" y="5944320"/>
              <a:ext cx="1080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45"/>
            <p:cNvSpPr/>
            <p:nvPr/>
          </p:nvSpPr>
          <p:spPr>
            <a:xfrm>
              <a:off x="7882920" y="5944320"/>
              <a:ext cx="1152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46"/>
            <p:cNvSpPr/>
            <p:nvPr/>
          </p:nvSpPr>
          <p:spPr>
            <a:xfrm flipH="1">
              <a:off x="7906320" y="5851800"/>
              <a:ext cx="20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6257880" y="4044960"/>
            <a:ext cx="457200" cy="660240"/>
            <a:chOff x="6257880" y="4044960"/>
            <a:chExt cx="457200" cy="660240"/>
          </a:xfrm>
        </p:grpSpPr>
        <p:grpSp>
          <p:nvGrpSpPr>
            <p:cNvPr id="1130" name="Freeform 89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1" name="Freeform 89" descr=""/>
              <p:cNvPicPr/>
              <p:nvPr/>
            </p:nvPicPr>
            <p:blipFill>
              <a:blip r:embed="rId1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Freeform 99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4" name="Freeform 99" descr=""/>
              <p:cNvPicPr/>
              <p:nvPr/>
            </p:nvPicPr>
            <p:blipFill>
              <a:blip r:embed="rId2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Freeform 100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7" name="Freeform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Group 10"/>
          <p:cNvGrpSpPr/>
          <p:nvPr/>
        </p:nvGrpSpPr>
        <p:grpSpPr>
          <a:xfrm>
            <a:off x="581040" y="1238400"/>
            <a:ext cx="7907400" cy="1214280"/>
            <a:chOff x="581040" y="1238400"/>
            <a:chExt cx="7907400" cy="1214280"/>
          </a:xfrm>
        </p:grpSpPr>
        <p:sp>
          <p:nvSpPr>
            <p:cNvPr id="1140" name="Rounded Rectangle 6"/>
            <p:cNvSpPr/>
            <p:nvPr/>
          </p:nvSpPr>
          <p:spPr>
            <a:xfrm>
              <a:off x="581040" y="1238400"/>
              <a:ext cx="790740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9"/>
            <p:cNvSpPr/>
            <p:nvPr/>
          </p:nvSpPr>
          <p:spPr>
            <a:xfrm>
              <a:off x="668520" y="1253880"/>
              <a:ext cx="773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No Evidence of Progression </a:t>
              </a:r>
              <a:r>
                <a:rPr b="0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(</a:t>
              </a:r>
              <a:r>
                <a:rPr b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NEP</a:t>
              </a:r>
              <a:r>
                <a:rPr b="0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) je kompozitni cilj koji se koristi za procenu (P)PMS </a:t>
              </a:r>
              <a:r>
                <a:rPr b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pacijenata sa klinički stabilnom boleš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Rectangle 32"/>
          <p:cNvSpPr/>
          <p:nvPr/>
        </p:nvSpPr>
        <p:spPr>
          <a:xfrm>
            <a:off x="5964120" y="5064120"/>
            <a:ext cx="111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potvrđene ≥20% progresije T25F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ontent Placeholder 3"/>
          <p:cNvSpPr/>
          <p:nvPr/>
        </p:nvSpPr>
        <p:spPr>
          <a:xfrm>
            <a:off x="457200" y="2590920"/>
            <a:ext cx="39924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95000"/>
              </a:lnSpc>
              <a:spcBef>
                <a:spcPts val="1199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Arial"/>
              </a:rPr>
              <a:t>NEP procenjuje kombinaciju odsustva </a:t>
            </a:r>
            <a:br>
              <a:rPr sz="1800"/>
            </a:b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Arial"/>
              </a:rPr>
              <a:t>12-nedeljne kliničke progresije    mer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otvrđene progresije onesposobljenosti mereno 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E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otvrđene progresije na gornjim ektremitetima mereno </a:t>
            </a:r>
            <a:r>
              <a:rPr b="1" i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9-Hole Peg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 Te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rogresije pri kretanju mereno</a:t>
            </a:r>
            <a:r>
              <a:rPr b="1" i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Timed 25-Foot Walk 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Te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itle 3"/>
          <p:cNvSpPr/>
          <p:nvPr/>
        </p:nvSpPr>
        <p:spPr>
          <a:xfrm>
            <a:off x="457200" y="142920"/>
            <a:ext cx="8229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EP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(P)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Placeholder 4"/>
          <p:cNvSpPr/>
          <p:nvPr/>
        </p:nvSpPr>
        <p:spPr>
          <a:xfrm>
            <a:off x="457200" y="6237360"/>
            <a:ext cx="28735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3f3f3f"/>
                </a:solidFill>
                <a:latin typeface="Arial"/>
                <a:ea typeface="Arial"/>
              </a:rPr>
              <a:t>T25FW, timed 25-foot wal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117"/>
          <p:cNvSpPr/>
          <p:nvPr/>
        </p:nvSpPr>
        <p:spPr>
          <a:xfrm>
            <a:off x="6253200" y="2822400"/>
            <a:ext cx="1674720" cy="223236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9"/>
          <p:cNvGrpSpPr/>
          <p:nvPr/>
        </p:nvGrpSpPr>
        <p:grpSpPr>
          <a:xfrm>
            <a:off x="7904160" y="2641680"/>
            <a:ext cx="625320" cy="774720"/>
            <a:chOff x="7904160" y="2641680"/>
            <a:chExt cx="625320" cy="774720"/>
          </a:xfrm>
        </p:grpSpPr>
        <p:sp>
          <p:nvSpPr>
            <p:cNvPr id="1148" name="Freeform 5"/>
            <p:cNvSpPr/>
            <p:nvPr/>
          </p:nvSpPr>
          <p:spPr>
            <a:xfrm>
              <a:off x="7904160" y="2641680"/>
              <a:ext cx="625320" cy="774720"/>
            </a:xfrm>
            <a:custGeom>
              <a:avLst/>
              <a:gdLst/>
              <a:ahLst/>
              <a:rect l="l" t="t" r="r" b="b"/>
              <a:pathLst>
                <a:path w="562" h="569">
                  <a:moveTo>
                    <a:pt x="488" y="569"/>
                  </a:moveTo>
                  <a:cubicBezTo>
                    <a:pt x="75" y="569"/>
                    <a:pt x="75" y="569"/>
                    <a:pt x="75" y="569"/>
                  </a:cubicBezTo>
                  <a:cubicBezTo>
                    <a:pt x="34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4" y="0"/>
                    <a:pt x="75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29" y="0"/>
                    <a:pt x="562" y="33"/>
                    <a:pt x="562" y="74"/>
                  </a:cubicBezTo>
                  <a:cubicBezTo>
                    <a:pt x="562" y="494"/>
                    <a:pt x="562" y="494"/>
                    <a:pt x="562" y="494"/>
                  </a:cubicBezTo>
                  <a:cubicBezTo>
                    <a:pt x="562" y="535"/>
                    <a:pt x="529" y="569"/>
                    <a:pt x="488" y="569"/>
                  </a:cubicBezTo>
                  <a:close/>
                </a:path>
              </a:pathLst>
            </a:custGeom>
            <a:noFill/>
            <a:ln cap="rnd" w="2556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7968600" y="2715120"/>
              <a:ext cx="294840" cy="302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65" h="222">
                  <a:moveTo>
                    <a:pt x="229" y="222"/>
                  </a:moveTo>
                  <a:cubicBezTo>
                    <a:pt x="36" y="222"/>
                    <a:pt x="36" y="222"/>
                    <a:pt x="36" y="222"/>
                  </a:cubicBezTo>
                  <a:cubicBezTo>
                    <a:pt x="16" y="222"/>
                    <a:pt x="0" y="206"/>
                    <a:pt x="0" y="18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49" y="0"/>
                    <a:pt x="265" y="16"/>
                    <a:pt x="265" y="36"/>
                  </a:cubicBezTo>
                  <a:cubicBezTo>
                    <a:pt x="265" y="186"/>
                    <a:pt x="265" y="186"/>
                    <a:pt x="265" y="186"/>
                  </a:cubicBezTo>
                  <a:cubicBezTo>
                    <a:pt x="265" y="206"/>
                    <a:pt x="249" y="222"/>
                    <a:pt x="229" y="222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7"/>
            <p:cNvSpPr/>
            <p:nvPr/>
          </p:nvSpPr>
          <p:spPr>
            <a:xfrm>
              <a:off x="8022960" y="276948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8"/>
            <p:cNvSpPr/>
            <p:nvPr/>
          </p:nvSpPr>
          <p:spPr>
            <a:xfrm>
              <a:off x="8095680" y="276948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9"/>
            <p:cNvSpPr/>
            <p:nvPr/>
          </p:nvSpPr>
          <p:spPr>
            <a:xfrm>
              <a:off x="8167680" y="2769480"/>
              <a:ext cx="4212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0"/>
            <p:cNvSpPr/>
            <p:nvPr/>
          </p:nvSpPr>
          <p:spPr>
            <a:xfrm>
              <a:off x="8022960" y="284184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1"/>
            <p:cNvSpPr/>
            <p:nvPr/>
          </p:nvSpPr>
          <p:spPr>
            <a:xfrm>
              <a:off x="8095680" y="284184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2"/>
            <p:cNvSpPr/>
            <p:nvPr/>
          </p:nvSpPr>
          <p:spPr>
            <a:xfrm>
              <a:off x="8167680" y="2841840"/>
              <a:ext cx="4212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3"/>
            <p:cNvSpPr/>
            <p:nvPr/>
          </p:nvSpPr>
          <p:spPr>
            <a:xfrm>
              <a:off x="8022960" y="2912400"/>
              <a:ext cx="4068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4"/>
            <p:cNvSpPr/>
            <p:nvPr/>
          </p:nvSpPr>
          <p:spPr>
            <a:xfrm>
              <a:off x="8095680" y="2912400"/>
              <a:ext cx="4068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5"/>
            <p:cNvSpPr/>
            <p:nvPr/>
          </p:nvSpPr>
          <p:spPr>
            <a:xfrm>
              <a:off x="8167680" y="2912400"/>
              <a:ext cx="4212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6"/>
            <p:cNvSpPr/>
            <p:nvPr/>
          </p:nvSpPr>
          <p:spPr>
            <a:xfrm>
              <a:off x="8206560" y="3035520"/>
              <a:ext cx="249480" cy="3045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7"/>
            <p:cNvSpPr/>
            <p:nvPr/>
          </p:nvSpPr>
          <p:spPr>
            <a:xfrm>
              <a:off x="8294760" y="3076200"/>
              <a:ext cx="35640" cy="198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6" h="346">
                  <a:moveTo>
                    <a:pt x="76" y="0"/>
                  </a:moveTo>
                  <a:lnTo>
                    <a:pt x="76" y="214"/>
                  </a:lnTo>
                  <a:lnTo>
                    <a:pt x="0" y="346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8"/>
            <p:cNvSpPr/>
            <p:nvPr/>
          </p:nvSpPr>
          <p:spPr>
            <a:xfrm>
              <a:off x="8408160" y="3043440"/>
              <a:ext cx="25560" cy="33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3" h="25">
                  <a:moveTo>
                    <a:pt x="0" y="15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3" y="0"/>
                    <a:pt x="18" y="5"/>
                  </a:cubicBezTo>
                  <a:cubicBezTo>
                    <a:pt x="23" y="9"/>
                    <a:pt x="22" y="13"/>
                    <a:pt x="22" y="13"/>
                  </a:cubicBezTo>
                  <a:cubicBezTo>
                    <a:pt x="11" y="25"/>
                    <a:pt x="11" y="25"/>
                    <a:pt x="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9"/>
            <p:cNvSpPr/>
            <p:nvPr/>
          </p:nvSpPr>
          <p:spPr>
            <a:xfrm>
              <a:off x="8318160" y="2991600"/>
              <a:ext cx="25200" cy="41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31">
                  <a:moveTo>
                    <a:pt x="0" y="3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0"/>
                    <a:pt x="10" y="0"/>
                  </a:cubicBezTo>
                  <a:cubicBezTo>
                    <a:pt x="21" y="0"/>
                    <a:pt x="23" y="5"/>
                    <a:pt x="23" y="5"/>
                  </a:cubicBezTo>
                  <a:cubicBezTo>
                    <a:pt x="23" y="31"/>
                    <a:pt x="23" y="31"/>
                    <a:pt x="23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0"/>
            <p:cNvSpPr/>
            <p:nvPr/>
          </p:nvSpPr>
          <p:spPr>
            <a:xfrm>
              <a:off x="8302680" y="296892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0">
                  <a:moveTo>
                    <a:pt x="41" y="30"/>
                  </a:move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7"/>
                    <a:pt x="0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5" y="0"/>
                    <a:pt x="49" y="4"/>
                    <a:pt x="49" y="9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9" y="27"/>
                    <a:pt x="45" y="30"/>
                    <a:pt x="4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1"/>
            <p:cNvSpPr/>
            <p:nvPr/>
          </p:nvSpPr>
          <p:spPr>
            <a:xfrm>
              <a:off x="8409600" y="3018600"/>
              <a:ext cx="43920" cy="50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7">
                  <a:moveTo>
                    <a:pt x="23" y="35"/>
                  </a:moveTo>
                  <a:cubicBezTo>
                    <a:pt x="4" y="21"/>
                    <a:pt x="4" y="21"/>
                    <a:pt x="4" y="21"/>
                  </a:cubicBezTo>
                  <a:cubicBezTo>
                    <a:pt x="1" y="19"/>
                    <a:pt x="0" y="15"/>
                    <a:pt x="2" y="1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1"/>
                    <a:pt x="14" y="0"/>
                    <a:pt x="17" y="2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9" y="19"/>
                    <a:pt x="40" y="23"/>
                    <a:pt x="38" y="26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0" y="37"/>
                    <a:pt x="26" y="37"/>
                    <a:pt x="23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22"/>
            <p:cNvSpPr/>
            <p:nvPr/>
          </p:nvSpPr>
          <p:spPr>
            <a:xfrm flipV="1">
              <a:off x="8331480" y="331416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23"/>
            <p:cNvSpPr/>
            <p:nvPr/>
          </p:nvSpPr>
          <p:spPr>
            <a:xfrm flipV="1">
              <a:off x="8331480" y="303228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24"/>
            <p:cNvSpPr/>
            <p:nvPr/>
          </p:nvSpPr>
          <p:spPr>
            <a:xfrm flipH="1">
              <a:off x="8208000" y="3188160"/>
              <a:ext cx="2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5"/>
            <p:cNvSpPr/>
            <p:nvPr/>
          </p:nvSpPr>
          <p:spPr>
            <a:xfrm flipH="1" flipV="1">
              <a:off x="8241480" y="3086640"/>
              <a:ext cx="108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6"/>
            <p:cNvSpPr/>
            <p:nvPr/>
          </p:nvSpPr>
          <p:spPr>
            <a:xfrm flipV="1">
              <a:off x="8412120" y="3086640"/>
              <a:ext cx="1188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7"/>
            <p:cNvSpPr/>
            <p:nvPr/>
          </p:nvSpPr>
          <p:spPr>
            <a:xfrm flipH="1">
              <a:off x="8241480" y="3280680"/>
              <a:ext cx="108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8"/>
            <p:cNvSpPr/>
            <p:nvPr/>
          </p:nvSpPr>
          <p:spPr>
            <a:xfrm>
              <a:off x="8412120" y="3280680"/>
              <a:ext cx="1188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9"/>
            <p:cNvSpPr/>
            <p:nvPr/>
          </p:nvSpPr>
          <p:spPr>
            <a:xfrm flipH="1">
              <a:off x="8436600" y="3188160"/>
              <a:ext cx="2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Oval 153"/>
          <p:cNvSpPr/>
          <p:nvPr/>
        </p:nvSpPr>
        <p:spPr>
          <a:xfrm>
            <a:off x="5057640" y="2822400"/>
            <a:ext cx="1675080" cy="223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155"/>
          <p:cNvGrpSpPr/>
          <p:nvPr/>
        </p:nvGrpSpPr>
        <p:grpSpPr>
          <a:xfrm>
            <a:off x="4518000" y="2641680"/>
            <a:ext cx="628560" cy="774720"/>
            <a:chOff x="4518000" y="2641680"/>
            <a:chExt cx="628560" cy="774720"/>
          </a:xfrm>
        </p:grpSpPr>
        <p:sp>
          <p:nvSpPr>
            <p:cNvPr id="1175" name="Freeform 47"/>
            <p:cNvSpPr/>
            <p:nvPr/>
          </p:nvSpPr>
          <p:spPr>
            <a:xfrm>
              <a:off x="4518000" y="2641680"/>
              <a:ext cx="628560" cy="774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61" h="569">
                  <a:moveTo>
                    <a:pt x="487" y="569"/>
                  </a:moveTo>
                  <a:cubicBezTo>
                    <a:pt x="74" y="569"/>
                    <a:pt x="74" y="569"/>
                    <a:pt x="74" y="569"/>
                  </a:cubicBezTo>
                  <a:cubicBezTo>
                    <a:pt x="33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3" y="0"/>
                    <a:pt x="74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28" y="0"/>
                    <a:pt x="561" y="33"/>
                    <a:pt x="561" y="74"/>
                  </a:cubicBezTo>
                  <a:cubicBezTo>
                    <a:pt x="561" y="494"/>
                    <a:pt x="561" y="494"/>
                    <a:pt x="561" y="494"/>
                  </a:cubicBezTo>
                  <a:cubicBezTo>
                    <a:pt x="561" y="535"/>
                    <a:pt x="528" y="569"/>
                    <a:pt x="487" y="569"/>
                  </a:cubicBezTo>
                  <a:close/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48"/>
            <p:cNvSpPr/>
            <p:nvPr/>
          </p:nvSpPr>
          <p:spPr>
            <a:xfrm>
              <a:off x="4659120" y="2727000"/>
              <a:ext cx="403200" cy="520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851" h="907">
                  <a:moveTo>
                    <a:pt x="0" y="0"/>
                  </a:moveTo>
                  <a:lnTo>
                    <a:pt x="0" y="907"/>
                  </a:lnTo>
                  <a:lnTo>
                    <a:pt x="851" y="907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9"/>
            <p:cNvSpPr/>
            <p:nvPr/>
          </p:nvSpPr>
          <p:spPr>
            <a:xfrm>
              <a:off x="4660920" y="284868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50"/>
            <p:cNvSpPr/>
            <p:nvPr/>
          </p:nvSpPr>
          <p:spPr>
            <a:xfrm>
              <a:off x="4660920" y="29451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51"/>
            <p:cNvSpPr/>
            <p:nvPr/>
          </p:nvSpPr>
          <p:spPr>
            <a:xfrm>
              <a:off x="4660920" y="30405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52"/>
            <p:cNvSpPr/>
            <p:nvPr/>
          </p:nvSpPr>
          <p:spPr>
            <a:xfrm>
              <a:off x="4660920" y="31359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53"/>
            <p:cNvSpPr/>
            <p:nvPr/>
          </p:nvSpPr>
          <p:spPr>
            <a:xfrm>
              <a:off x="4977720" y="2809080"/>
              <a:ext cx="55800" cy="68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54"/>
            <p:cNvSpPr/>
            <p:nvPr/>
          </p:nvSpPr>
          <p:spPr>
            <a:xfrm>
              <a:off x="4929120" y="2930400"/>
              <a:ext cx="54720" cy="662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55"/>
            <p:cNvSpPr/>
            <p:nvPr/>
          </p:nvSpPr>
          <p:spPr>
            <a:xfrm>
              <a:off x="4832640" y="2988720"/>
              <a:ext cx="56160" cy="68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56"/>
            <p:cNvSpPr/>
            <p:nvPr/>
          </p:nvSpPr>
          <p:spPr>
            <a:xfrm>
              <a:off x="4738680" y="3053160"/>
              <a:ext cx="55800" cy="662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57"/>
            <p:cNvSpPr/>
            <p:nvPr/>
          </p:nvSpPr>
          <p:spPr>
            <a:xfrm flipH="1">
              <a:off x="4969440" y="2875680"/>
              <a:ext cx="24480" cy="55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58"/>
            <p:cNvSpPr/>
            <p:nvPr/>
          </p:nvSpPr>
          <p:spPr>
            <a:xfrm flipH="1">
              <a:off x="4885200" y="2984760"/>
              <a:ext cx="50040" cy="216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59"/>
            <p:cNvSpPr/>
            <p:nvPr/>
          </p:nvSpPr>
          <p:spPr>
            <a:xfrm flipH="1">
              <a:off x="4791240" y="3032640"/>
              <a:ext cx="42480" cy="3672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60"/>
            <p:cNvSpPr/>
            <p:nvPr/>
          </p:nvSpPr>
          <p:spPr>
            <a:xfrm>
              <a:off x="4736880" y="32529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61"/>
            <p:cNvSpPr/>
            <p:nvPr/>
          </p:nvSpPr>
          <p:spPr>
            <a:xfrm rot="16200000">
              <a:off x="4454640" y="29736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62"/>
            <p:cNvSpPr/>
            <p:nvPr/>
          </p:nvSpPr>
          <p:spPr>
            <a:xfrm>
              <a:off x="4949280" y="3323160"/>
              <a:ext cx="87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3"/>
            <p:cNvSpPr/>
            <p:nvPr/>
          </p:nvSpPr>
          <p:spPr>
            <a:xfrm>
              <a:off x="5024520" y="3299400"/>
              <a:ext cx="43560" cy="4500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2" h="79">
                  <a:moveTo>
                    <a:pt x="92" y="41"/>
                  </a:moveTo>
                  <a:lnTo>
                    <a:pt x="0" y="79"/>
                  </a:lnTo>
                  <a:lnTo>
                    <a:pt x="21" y="41"/>
                  </a:lnTo>
                  <a:lnTo>
                    <a:pt x="0" y="0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64"/>
            <p:cNvSpPr/>
            <p:nvPr/>
          </p:nvSpPr>
          <p:spPr>
            <a:xfrm flipV="1">
              <a:off x="4597560" y="2761560"/>
              <a:ext cx="0" cy="70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5"/>
            <p:cNvSpPr/>
            <p:nvPr/>
          </p:nvSpPr>
          <p:spPr>
            <a:xfrm>
              <a:off x="4579560" y="2723040"/>
              <a:ext cx="35280" cy="543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5" h="95">
                  <a:moveTo>
                    <a:pt x="38" y="0"/>
                  </a:moveTo>
                  <a:lnTo>
                    <a:pt x="75" y="95"/>
                  </a:lnTo>
                  <a:lnTo>
                    <a:pt x="38" y="74"/>
                  </a:lnTo>
                  <a:lnTo>
                    <a:pt x="0" y="9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Oval 207"/>
          <p:cNvSpPr/>
          <p:nvPr/>
        </p:nvSpPr>
        <p:spPr>
          <a:xfrm>
            <a:off x="5689440" y="4065480"/>
            <a:ext cx="1673280" cy="22320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101"/>
          <p:cNvSpPr/>
          <p:nvPr/>
        </p:nvSpPr>
        <p:spPr>
          <a:xfrm>
            <a:off x="6269040" y="412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N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83"/>
          <p:cNvSpPr/>
          <p:nvPr/>
        </p:nvSpPr>
        <p:spPr>
          <a:xfrm>
            <a:off x="6708600" y="3273480"/>
            <a:ext cx="113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potvrđene ≥20% progresije  9H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84"/>
          <p:cNvSpPr/>
          <p:nvPr/>
        </p:nvSpPr>
        <p:spPr>
          <a:xfrm>
            <a:off x="5181480" y="3252960"/>
            <a:ext cx="10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potvrđene progresije  na EDSS sk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Ts for the Treatment of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object 2"/>
          <p:cNvSpPr/>
          <p:nvPr/>
        </p:nvSpPr>
        <p:spPr>
          <a:xfrm>
            <a:off x="1847880" y="1411200"/>
            <a:ext cx="7053120" cy="4457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bject 3"/>
          <p:cNvSpPr/>
          <p:nvPr/>
        </p:nvSpPr>
        <p:spPr>
          <a:xfrm>
            <a:off x="2352600" y="3827520"/>
            <a:ext cx="94140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ingol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bject 4"/>
          <p:cNvSpPr/>
          <p:nvPr/>
        </p:nvSpPr>
        <p:spPr>
          <a:xfrm>
            <a:off x="7537320" y="4381560"/>
            <a:ext cx="94320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ingol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bject 5"/>
          <p:cNvSpPr/>
          <p:nvPr/>
        </p:nvSpPr>
        <p:spPr>
          <a:xfrm>
            <a:off x="6854760" y="1411200"/>
            <a:ext cx="768240" cy="36540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imethyl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uma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bject 6"/>
          <p:cNvSpPr/>
          <p:nvPr/>
        </p:nvSpPr>
        <p:spPr>
          <a:xfrm>
            <a:off x="2131920" y="4276800"/>
            <a:ext cx="114948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lemtuzu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bject 7"/>
          <p:cNvSpPr/>
          <p:nvPr/>
        </p:nvSpPr>
        <p:spPr>
          <a:xfrm>
            <a:off x="3908520" y="2090880"/>
            <a:ext cx="101268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Natalizu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bject 8"/>
          <p:cNvSpPr/>
          <p:nvPr/>
        </p:nvSpPr>
        <p:spPr>
          <a:xfrm>
            <a:off x="5205240" y="4362480"/>
            <a:ext cx="1089360" cy="182880"/>
          </a:xfrm>
          <a:prstGeom prst="rect">
            <a:avLst/>
          </a:prstGeom>
          <a:solidFill>
            <a:srgbClr val="d99593"/>
          </a:solidFill>
          <a:ln w="25920">
            <a:solidFill>
              <a:srgbClr val="a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Laquin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bject 9"/>
          <p:cNvSpPr/>
          <p:nvPr/>
        </p:nvSpPr>
        <p:spPr>
          <a:xfrm>
            <a:off x="1935000" y="4805280"/>
            <a:ext cx="1285920" cy="182880"/>
          </a:xfrm>
          <a:prstGeom prst="rect">
            <a:avLst/>
          </a:prstGeom>
          <a:solidFill>
            <a:srgbClr val="c00000"/>
          </a:solidFill>
          <a:ln w="25920">
            <a:solidFill>
              <a:srgbClr val="a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aclizumab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HY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bject 10"/>
          <p:cNvSpPr/>
          <p:nvPr/>
        </p:nvSpPr>
        <p:spPr>
          <a:xfrm>
            <a:off x="3646440" y="2949480"/>
            <a:ext cx="863640" cy="273240"/>
          </a:xfrm>
          <a:custGeom>
            <a:avLst/>
            <a:gdLst>
              <a:gd name="textAreaLeft" fmla="*/ 0 w 863640"/>
              <a:gd name="textAreaRight" fmla="*/ 864000 w 863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864235" h="273050">
                <a:moveTo>
                  <a:pt x="0" y="272795"/>
                </a:moveTo>
                <a:lnTo>
                  <a:pt x="864107" y="272795"/>
                </a:lnTo>
                <a:lnTo>
                  <a:pt x="864107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bject 11"/>
          <p:cNvSpPr/>
          <p:nvPr/>
        </p:nvSpPr>
        <p:spPr>
          <a:xfrm>
            <a:off x="3646440" y="2949480"/>
            <a:ext cx="863640" cy="273240"/>
          </a:xfrm>
          <a:custGeom>
            <a:avLst/>
            <a:gdLst>
              <a:gd name="textAreaLeft" fmla="*/ 0 w 863640"/>
              <a:gd name="textAreaRight" fmla="*/ 864000 w 863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864235" h="273050">
                <a:moveTo>
                  <a:pt x="0" y="272795"/>
                </a:moveTo>
                <a:lnTo>
                  <a:pt x="864107" y="272795"/>
                </a:lnTo>
                <a:lnTo>
                  <a:pt x="864107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noFill/>
          <a:ln w="25920">
            <a:solidFill>
              <a:srgbClr val="a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bject 12"/>
          <p:cNvSpPr/>
          <p:nvPr/>
        </p:nvSpPr>
        <p:spPr>
          <a:xfrm>
            <a:off x="3684600" y="3003480"/>
            <a:ext cx="78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ladri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bject 13"/>
          <p:cNvSpPr/>
          <p:nvPr/>
        </p:nvSpPr>
        <p:spPr>
          <a:xfrm>
            <a:off x="3541680" y="2665440"/>
            <a:ext cx="1076400" cy="2728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076325" h="273050">
                <a:moveTo>
                  <a:pt x="0" y="272795"/>
                </a:moveTo>
                <a:lnTo>
                  <a:pt x="1075943" y="272795"/>
                </a:lnTo>
                <a:lnTo>
                  <a:pt x="1075943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solidFill>
            <a:srgbClr val="4f8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bject 14"/>
          <p:cNvSpPr/>
          <p:nvPr/>
        </p:nvSpPr>
        <p:spPr>
          <a:xfrm>
            <a:off x="3541680" y="2665440"/>
            <a:ext cx="1076400" cy="2728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076325" h="273050">
                <a:moveTo>
                  <a:pt x="0" y="272795"/>
                </a:moveTo>
                <a:lnTo>
                  <a:pt x="1075943" y="272795"/>
                </a:lnTo>
                <a:lnTo>
                  <a:pt x="1075943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noFill/>
          <a:ln w="2592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bject 15"/>
          <p:cNvSpPr/>
          <p:nvPr/>
        </p:nvSpPr>
        <p:spPr>
          <a:xfrm>
            <a:off x="3581280" y="2666880"/>
            <a:ext cx="12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Terifluno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bject 16"/>
          <p:cNvSpPr/>
          <p:nvPr/>
        </p:nvSpPr>
        <p:spPr>
          <a:xfrm>
            <a:off x="4021200" y="2809800"/>
            <a:ext cx="1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bject 17"/>
          <p:cNvSpPr/>
          <p:nvPr/>
        </p:nvSpPr>
        <p:spPr>
          <a:xfrm>
            <a:off x="3267000" y="3286080"/>
            <a:ext cx="579600" cy="496800"/>
          </a:xfrm>
          <a:custGeom>
            <a:avLst/>
            <a:gdLst>
              <a:gd name="textAreaLeft" fmla="*/ 0 w 579600"/>
              <a:gd name="textAreaRight" fmla="*/ 579960 w 5796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79120" h="496570">
                <a:moveTo>
                  <a:pt x="476129" y="421545"/>
                </a:moveTo>
                <a:lnTo>
                  <a:pt x="457809" y="442965"/>
                </a:lnTo>
                <a:lnTo>
                  <a:pt x="579119" y="496458"/>
                </a:lnTo>
                <a:lnTo>
                  <a:pt x="536149" y="429767"/>
                </a:lnTo>
                <a:lnTo>
                  <a:pt x="485759" y="429767"/>
                </a:lnTo>
                <a:lnTo>
                  <a:pt x="476129" y="421545"/>
                </a:lnTo>
                <a:close/>
              </a:path>
              <a:path w="579120" h="496570">
                <a:moveTo>
                  <a:pt x="489068" y="406416"/>
                </a:moveTo>
                <a:lnTo>
                  <a:pt x="476129" y="421545"/>
                </a:lnTo>
                <a:lnTo>
                  <a:pt x="485759" y="429767"/>
                </a:lnTo>
                <a:lnTo>
                  <a:pt x="498713" y="414649"/>
                </a:lnTo>
                <a:lnTo>
                  <a:pt x="489068" y="406416"/>
                </a:lnTo>
                <a:close/>
              </a:path>
              <a:path w="579120" h="496570">
                <a:moveTo>
                  <a:pt x="507339" y="385053"/>
                </a:moveTo>
                <a:lnTo>
                  <a:pt x="489068" y="406416"/>
                </a:lnTo>
                <a:lnTo>
                  <a:pt x="498713" y="414649"/>
                </a:lnTo>
                <a:lnTo>
                  <a:pt x="485759" y="429767"/>
                </a:lnTo>
                <a:lnTo>
                  <a:pt x="536149" y="429767"/>
                </a:lnTo>
                <a:lnTo>
                  <a:pt x="507339" y="385053"/>
                </a:lnTo>
                <a:close/>
              </a:path>
              <a:path w="579120" h="496570">
                <a:moveTo>
                  <a:pt x="12953" y="0"/>
                </a:moveTo>
                <a:lnTo>
                  <a:pt x="0" y="14996"/>
                </a:lnTo>
                <a:lnTo>
                  <a:pt x="476129" y="421545"/>
                </a:lnTo>
                <a:lnTo>
                  <a:pt x="489068" y="406416"/>
                </a:lnTo>
                <a:lnTo>
                  <a:pt x="129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bject 19"/>
          <p:cNvSpPr/>
          <p:nvPr/>
        </p:nvSpPr>
        <p:spPr>
          <a:xfrm>
            <a:off x="411120" y="577800"/>
            <a:ext cx="859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Targeting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immune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regulatio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has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bee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successful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previously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i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R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bject 20"/>
          <p:cNvSpPr/>
          <p:nvPr/>
        </p:nvSpPr>
        <p:spPr>
          <a:xfrm>
            <a:off x="2409840" y="1819440"/>
            <a:ext cx="942840" cy="27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bject 21"/>
          <p:cNvSpPr/>
          <p:nvPr/>
        </p:nvSpPr>
        <p:spPr>
          <a:xfrm>
            <a:off x="2409840" y="1819440"/>
            <a:ext cx="942840" cy="167760"/>
          </a:xfrm>
          <a:prstGeom prst="rect">
            <a:avLst/>
          </a:prstGeom>
          <a:noFill/>
          <a:ln w="1224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ymp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bject 22"/>
          <p:cNvSpPr/>
          <p:nvPr/>
        </p:nvSpPr>
        <p:spPr>
          <a:xfrm>
            <a:off x="77760" y="6492960"/>
            <a:ext cx="882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C=antigen-presentin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=B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BB=blood-brai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arrie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D=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fferentiatio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NS=centra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rvou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N=interfero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L=interleuki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Ø=macrophag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K=natura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kill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=nitri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xid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C=plasm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1P-R=Sphingosine-1-phosphat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cepto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=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=T-help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NF=tumou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crosi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acto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CAM=vascula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hesio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olecul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LA=Integri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pha4beta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ap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rom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arte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J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ru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ve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r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0;4:343-366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olei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ur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arm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iotechno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4;15:276-29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bject 23"/>
          <p:cNvSpPr/>
          <p:nvPr/>
        </p:nvSpPr>
        <p:spPr>
          <a:xfrm>
            <a:off x="5016600" y="5881680"/>
            <a:ext cx="27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bject 24"/>
          <p:cNvSpPr/>
          <p:nvPr/>
        </p:nvSpPr>
        <p:spPr>
          <a:xfrm>
            <a:off x="5675400" y="5881680"/>
            <a:ext cx="30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bject 25"/>
          <p:cNvSpPr/>
          <p:nvPr/>
        </p:nvSpPr>
        <p:spPr>
          <a:xfrm>
            <a:off x="3925800" y="588168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eriphe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bject 26"/>
          <p:cNvSpPr/>
          <p:nvPr/>
        </p:nvSpPr>
        <p:spPr>
          <a:xfrm>
            <a:off x="252360" y="25146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bject 27"/>
          <p:cNvSpPr/>
          <p:nvPr/>
        </p:nvSpPr>
        <p:spPr>
          <a:xfrm>
            <a:off x="252360" y="25146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noFill/>
          <a:ln w="25920">
            <a:solidFill>
              <a:srgbClr val="a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bject 28"/>
          <p:cNvSpPr/>
          <p:nvPr/>
        </p:nvSpPr>
        <p:spPr>
          <a:xfrm>
            <a:off x="252360" y="18684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solidFill>
            <a:srgbClr val="4f8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bject 29"/>
          <p:cNvSpPr/>
          <p:nvPr/>
        </p:nvSpPr>
        <p:spPr>
          <a:xfrm>
            <a:off x="252360" y="18684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noFill/>
          <a:ln w="2592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bject 30"/>
          <p:cNvSpPr/>
          <p:nvPr/>
        </p:nvSpPr>
        <p:spPr>
          <a:xfrm>
            <a:off x="608040" y="1809720"/>
            <a:ext cx="86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ro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bject 31"/>
          <p:cNvSpPr/>
          <p:nvPr/>
        </p:nvSpPr>
        <p:spPr>
          <a:xfrm>
            <a:off x="608040" y="2455920"/>
            <a:ext cx="128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vestigation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117880" y="5165640"/>
          <a:ext cx="1214280" cy="81936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273240"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Rituxi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marL="122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Ocrelizu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Ofatumu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to Optimize Brain 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p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572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va novih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goršanje postojećih neuroloških isp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ktivno doživljenih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kazanih neurološkim pregl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ju najmanje 24 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 odsustvu febrilnosti i infe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misij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puna 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mič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je najmanje 30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janje različito  (7-30 dana, retko i duž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čestalost  različi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sečna godišnja stopa relaps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manjuje se tokom evolucij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36520" y="1600200"/>
            <a:ext cx="845676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3"/>
          <p:cNvSpPr/>
          <p:nvPr/>
        </p:nvSpPr>
        <p:spPr>
          <a:xfrm>
            <a:off x="1374840" y="2451240"/>
            <a:ext cx="6416640" cy="2273040"/>
          </a:xfrm>
          <a:custGeom>
            <a:avLst/>
            <a:gdLst>
              <a:gd name="textAreaLeft" fmla="*/ 0 w 6416640"/>
              <a:gd name="textAreaRight" fmla="*/ 6417000 w 6416640"/>
              <a:gd name="textAreaTop" fmla="*/ 0 h 2273040"/>
              <a:gd name="textAreaBottom" fmla="*/ 2273400 h 2273040"/>
            </a:gdLst>
            <a:ahLst/>
            <a:rect l="textAreaLeft" t="textAreaTop" r="textAreaRight" b="textAreaBottom"/>
            <a:pathLst>
              <a:path fill="none" w="21314" h="21600">
                <a:moveTo>
                  <a:pt x="-1" y="0"/>
                </a:moveTo>
                <a:cubicBezTo>
                  <a:pt x="10576" y="0"/>
                  <a:pt x="19597" y="7658"/>
                  <a:pt x="21313" y="18095"/>
                </a:cubicBezTo>
              </a:path>
              <a:path stroke="0" w="21314" h="21600">
                <a:moveTo>
                  <a:pt x="-1" y="0"/>
                </a:moveTo>
                <a:cubicBezTo>
                  <a:pt x="10576" y="0"/>
                  <a:pt x="19597" y="7658"/>
                  <a:pt x="21313" y="180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14360" y="4168800"/>
            <a:ext cx="20700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Relapsi i 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554280" y="2101680"/>
            <a:ext cx="185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5581800" y="2143080"/>
            <a:ext cx="187200" cy="3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5280" y="2205000"/>
            <a:ext cx="1596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Zapre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moz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441600" y="1844640"/>
            <a:ext cx="208764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  <a:ea typeface="Arial"/>
              </a:rPr>
              <a:t>Relapsno remitent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5710680" y="1797120"/>
            <a:ext cx="2533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  <a:ea typeface="Arial"/>
              </a:rPr>
              <a:t>Sekundarno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 progresi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13984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782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37450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3863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41241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4053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45115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22734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2700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9"/>
          <p:cNvSpPr/>
          <p:nvPr/>
        </p:nvSpPr>
        <p:spPr>
          <a:xfrm>
            <a:off x="28242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26067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206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34099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5886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"/>
          <p:cNvSpPr/>
          <p:nvPr/>
        </p:nvSpPr>
        <p:spPr>
          <a:xfrm>
            <a:off x="4952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5"/>
          <p:cNvSpPr/>
          <p:nvPr/>
        </p:nvSpPr>
        <p:spPr>
          <a:xfrm>
            <a:off x="2979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6"/>
          <p:cNvSpPr/>
          <p:nvPr/>
        </p:nvSpPr>
        <p:spPr>
          <a:xfrm>
            <a:off x="3060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7"/>
          <p:cNvSpPr/>
          <p:nvPr/>
        </p:nvSpPr>
        <p:spPr>
          <a:xfrm>
            <a:off x="31464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434484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"/>
          <p:cNvSpPr/>
          <p:nvPr/>
        </p:nvSpPr>
        <p:spPr>
          <a:xfrm>
            <a:off x="3600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0"/>
          <p:cNvSpPr/>
          <p:nvPr/>
        </p:nvSpPr>
        <p:spPr>
          <a:xfrm>
            <a:off x="1428840" y="4011480"/>
            <a:ext cx="6453000" cy="1081080"/>
          </a:xfrm>
          <a:custGeom>
            <a:avLst/>
            <a:gdLst>
              <a:gd name="textAreaLeft" fmla="*/ 0 w 6453000"/>
              <a:gd name="textAreaRight" fmla="*/ 6453360 w 6453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4502" h="1020">
                <a:moveTo>
                  <a:pt x="0" y="1019"/>
                </a:moveTo>
                <a:lnTo>
                  <a:pt x="35" y="1009"/>
                </a:lnTo>
                <a:lnTo>
                  <a:pt x="61" y="999"/>
                </a:lnTo>
                <a:lnTo>
                  <a:pt x="88" y="999"/>
                </a:lnTo>
                <a:lnTo>
                  <a:pt x="114" y="999"/>
                </a:lnTo>
                <a:lnTo>
                  <a:pt x="150" y="999"/>
                </a:lnTo>
                <a:lnTo>
                  <a:pt x="176" y="999"/>
                </a:lnTo>
                <a:lnTo>
                  <a:pt x="211" y="989"/>
                </a:lnTo>
                <a:lnTo>
                  <a:pt x="238" y="989"/>
                </a:lnTo>
                <a:lnTo>
                  <a:pt x="264" y="989"/>
                </a:lnTo>
                <a:lnTo>
                  <a:pt x="291" y="989"/>
                </a:lnTo>
                <a:lnTo>
                  <a:pt x="317" y="989"/>
                </a:lnTo>
                <a:lnTo>
                  <a:pt x="344" y="989"/>
                </a:lnTo>
                <a:lnTo>
                  <a:pt x="370" y="980"/>
                </a:lnTo>
                <a:lnTo>
                  <a:pt x="397" y="980"/>
                </a:lnTo>
                <a:lnTo>
                  <a:pt x="423" y="980"/>
                </a:lnTo>
                <a:lnTo>
                  <a:pt x="450" y="989"/>
                </a:lnTo>
                <a:lnTo>
                  <a:pt x="511" y="1009"/>
                </a:lnTo>
                <a:lnTo>
                  <a:pt x="538" y="1009"/>
                </a:lnTo>
                <a:lnTo>
                  <a:pt x="573" y="1019"/>
                </a:lnTo>
                <a:lnTo>
                  <a:pt x="600" y="1019"/>
                </a:lnTo>
                <a:lnTo>
                  <a:pt x="617" y="989"/>
                </a:lnTo>
                <a:lnTo>
                  <a:pt x="644" y="980"/>
                </a:lnTo>
                <a:lnTo>
                  <a:pt x="670" y="970"/>
                </a:lnTo>
                <a:lnTo>
                  <a:pt x="697" y="970"/>
                </a:lnTo>
                <a:lnTo>
                  <a:pt x="723" y="970"/>
                </a:lnTo>
                <a:lnTo>
                  <a:pt x="750" y="980"/>
                </a:lnTo>
                <a:lnTo>
                  <a:pt x="776" y="989"/>
                </a:lnTo>
                <a:lnTo>
                  <a:pt x="803" y="989"/>
                </a:lnTo>
                <a:lnTo>
                  <a:pt x="829" y="989"/>
                </a:lnTo>
                <a:lnTo>
                  <a:pt x="856" y="989"/>
                </a:lnTo>
                <a:lnTo>
                  <a:pt x="873" y="960"/>
                </a:lnTo>
                <a:lnTo>
                  <a:pt x="900" y="941"/>
                </a:lnTo>
                <a:lnTo>
                  <a:pt x="926" y="941"/>
                </a:lnTo>
                <a:lnTo>
                  <a:pt x="953" y="941"/>
                </a:lnTo>
                <a:lnTo>
                  <a:pt x="970" y="912"/>
                </a:lnTo>
                <a:lnTo>
                  <a:pt x="988" y="883"/>
                </a:lnTo>
                <a:lnTo>
                  <a:pt x="1014" y="873"/>
                </a:lnTo>
                <a:lnTo>
                  <a:pt x="1032" y="902"/>
                </a:lnTo>
                <a:lnTo>
                  <a:pt x="1059" y="902"/>
                </a:lnTo>
                <a:lnTo>
                  <a:pt x="1085" y="902"/>
                </a:lnTo>
                <a:lnTo>
                  <a:pt x="1112" y="873"/>
                </a:lnTo>
                <a:lnTo>
                  <a:pt x="1138" y="854"/>
                </a:lnTo>
                <a:lnTo>
                  <a:pt x="1156" y="824"/>
                </a:lnTo>
                <a:lnTo>
                  <a:pt x="1182" y="815"/>
                </a:lnTo>
                <a:lnTo>
                  <a:pt x="1209" y="815"/>
                </a:lnTo>
                <a:lnTo>
                  <a:pt x="1226" y="786"/>
                </a:lnTo>
                <a:lnTo>
                  <a:pt x="1262" y="786"/>
                </a:lnTo>
                <a:lnTo>
                  <a:pt x="1297" y="766"/>
                </a:lnTo>
                <a:lnTo>
                  <a:pt x="1350" y="756"/>
                </a:lnTo>
                <a:lnTo>
                  <a:pt x="1376" y="737"/>
                </a:lnTo>
                <a:lnTo>
                  <a:pt x="1385" y="708"/>
                </a:lnTo>
                <a:lnTo>
                  <a:pt x="1403" y="679"/>
                </a:lnTo>
                <a:lnTo>
                  <a:pt x="1429" y="669"/>
                </a:lnTo>
                <a:lnTo>
                  <a:pt x="1465" y="679"/>
                </a:lnTo>
                <a:lnTo>
                  <a:pt x="1500" y="689"/>
                </a:lnTo>
                <a:lnTo>
                  <a:pt x="1562" y="689"/>
                </a:lnTo>
                <a:lnTo>
                  <a:pt x="1615" y="689"/>
                </a:lnTo>
                <a:lnTo>
                  <a:pt x="1641" y="689"/>
                </a:lnTo>
                <a:lnTo>
                  <a:pt x="1676" y="679"/>
                </a:lnTo>
                <a:lnTo>
                  <a:pt x="1703" y="659"/>
                </a:lnTo>
                <a:lnTo>
                  <a:pt x="1729" y="630"/>
                </a:lnTo>
                <a:lnTo>
                  <a:pt x="1756" y="621"/>
                </a:lnTo>
                <a:lnTo>
                  <a:pt x="1765" y="591"/>
                </a:lnTo>
                <a:lnTo>
                  <a:pt x="1791" y="582"/>
                </a:lnTo>
                <a:lnTo>
                  <a:pt x="1826" y="562"/>
                </a:lnTo>
                <a:lnTo>
                  <a:pt x="1853" y="553"/>
                </a:lnTo>
                <a:lnTo>
                  <a:pt x="1879" y="553"/>
                </a:lnTo>
                <a:lnTo>
                  <a:pt x="1906" y="553"/>
                </a:lnTo>
                <a:lnTo>
                  <a:pt x="1932" y="543"/>
                </a:lnTo>
                <a:lnTo>
                  <a:pt x="1968" y="543"/>
                </a:lnTo>
                <a:lnTo>
                  <a:pt x="1994" y="524"/>
                </a:lnTo>
                <a:lnTo>
                  <a:pt x="2021" y="504"/>
                </a:lnTo>
                <a:lnTo>
                  <a:pt x="2029" y="475"/>
                </a:lnTo>
                <a:lnTo>
                  <a:pt x="2056" y="465"/>
                </a:lnTo>
                <a:lnTo>
                  <a:pt x="2082" y="465"/>
                </a:lnTo>
                <a:lnTo>
                  <a:pt x="2109" y="456"/>
                </a:lnTo>
                <a:lnTo>
                  <a:pt x="2135" y="446"/>
                </a:lnTo>
                <a:lnTo>
                  <a:pt x="2162" y="427"/>
                </a:lnTo>
                <a:lnTo>
                  <a:pt x="2188" y="407"/>
                </a:lnTo>
                <a:lnTo>
                  <a:pt x="2215" y="397"/>
                </a:lnTo>
                <a:lnTo>
                  <a:pt x="2241" y="397"/>
                </a:lnTo>
                <a:lnTo>
                  <a:pt x="2268" y="397"/>
                </a:lnTo>
                <a:lnTo>
                  <a:pt x="2294" y="397"/>
                </a:lnTo>
                <a:lnTo>
                  <a:pt x="2321" y="407"/>
                </a:lnTo>
                <a:lnTo>
                  <a:pt x="2356" y="397"/>
                </a:lnTo>
                <a:lnTo>
                  <a:pt x="2374" y="368"/>
                </a:lnTo>
                <a:lnTo>
                  <a:pt x="2400" y="368"/>
                </a:lnTo>
                <a:lnTo>
                  <a:pt x="2435" y="368"/>
                </a:lnTo>
                <a:lnTo>
                  <a:pt x="2462" y="368"/>
                </a:lnTo>
                <a:lnTo>
                  <a:pt x="2497" y="368"/>
                </a:lnTo>
                <a:lnTo>
                  <a:pt x="2524" y="368"/>
                </a:lnTo>
                <a:lnTo>
                  <a:pt x="2550" y="368"/>
                </a:lnTo>
                <a:lnTo>
                  <a:pt x="2577" y="359"/>
                </a:lnTo>
                <a:lnTo>
                  <a:pt x="2603" y="349"/>
                </a:lnTo>
                <a:lnTo>
                  <a:pt x="2629" y="349"/>
                </a:lnTo>
                <a:lnTo>
                  <a:pt x="2656" y="349"/>
                </a:lnTo>
                <a:lnTo>
                  <a:pt x="2691" y="349"/>
                </a:lnTo>
                <a:lnTo>
                  <a:pt x="2718" y="349"/>
                </a:lnTo>
                <a:lnTo>
                  <a:pt x="2744" y="339"/>
                </a:lnTo>
                <a:lnTo>
                  <a:pt x="2771" y="320"/>
                </a:lnTo>
                <a:lnTo>
                  <a:pt x="2832" y="310"/>
                </a:lnTo>
                <a:lnTo>
                  <a:pt x="2885" y="291"/>
                </a:lnTo>
                <a:lnTo>
                  <a:pt x="2921" y="281"/>
                </a:lnTo>
                <a:lnTo>
                  <a:pt x="2947" y="271"/>
                </a:lnTo>
                <a:lnTo>
                  <a:pt x="3000" y="281"/>
                </a:lnTo>
                <a:lnTo>
                  <a:pt x="3035" y="281"/>
                </a:lnTo>
                <a:lnTo>
                  <a:pt x="3062" y="281"/>
                </a:lnTo>
                <a:lnTo>
                  <a:pt x="3133" y="281"/>
                </a:lnTo>
                <a:lnTo>
                  <a:pt x="3168" y="271"/>
                </a:lnTo>
                <a:lnTo>
                  <a:pt x="3194" y="252"/>
                </a:lnTo>
                <a:lnTo>
                  <a:pt x="3221" y="232"/>
                </a:lnTo>
                <a:lnTo>
                  <a:pt x="3256" y="232"/>
                </a:lnTo>
                <a:lnTo>
                  <a:pt x="3283" y="232"/>
                </a:lnTo>
                <a:lnTo>
                  <a:pt x="3353" y="252"/>
                </a:lnTo>
                <a:lnTo>
                  <a:pt x="3380" y="252"/>
                </a:lnTo>
                <a:lnTo>
                  <a:pt x="3406" y="252"/>
                </a:lnTo>
                <a:lnTo>
                  <a:pt x="3433" y="242"/>
                </a:lnTo>
                <a:lnTo>
                  <a:pt x="3468" y="232"/>
                </a:lnTo>
                <a:lnTo>
                  <a:pt x="3494" y="232"/>
                </a:lnTo>
                <a:lnTo>
                  <a:pt x="3547" y="232"/>
                </a:lnTo>
                <a:lnTo>
                  <a:pt x="3574" y="232"/>
                </a:lnTo>
                <a:lnTo>
                  <a:pt x="3600" y="223"/>
                </a:lnTo>
                <a:lnTo>
                  <a:pt x="3627" y="203"/>
                </a:lnTo>
                <a:lnTo>
                  <a:pt x="3653" y="203"/>
                </a:lnTo>
                <a:lnTo>
                  <a:pt x="3680" y="203"/>
                </a:lnTo>
                <a:lnTo>
                  <a:pt x="3706" y="194"/>
                </a:lnTo>
                <a:lnTo>
                  <a:pt x="3724" y="164"/>
                </a:lnTo>
                <a:lnTo>
                  <a:pt x="3759" y="155"/>
                </a:lnTo>
                <a:lnTo>
                  <a:pt x="3812" y="155"/>
                </a:lnTo>
                <a:lnTo>
                  <a:pt x="3839" y="145"/>
                </a:lnTo>
                <a:lnTo>
                  <a:pt x="3865" y="126"/>
                </a:lnTo>
                <a:lnTo>
                  <a:pt x="3892" y="116"/>
                </a:lnTo>
                <a:lnTo>
                  <a:pt x="3918" y="116"/>
                </a:lnTo>
                <a:lnTo>
                  <a:pt x="3953" y="116"/>
                </a:lnTo>
                <a:lnTo>
                  <a:pt x="3980" y="106"/>
                </a:lnTo>
                <a:lnTo>
                  <a:pt x="4006" y="97"/>
                </a:lnTo>
                <a:lnTo>
                  <a:pt x="4033" y="97"/>
                </a:lnTo>
                <a:lnTo>
                  <a:pt x="4059" y="87"/>
                </a:lnTo>
                <a:lnTo>
                  <a:pt x="4112" y="87"/>
                </a:lnTo>
                <a:lnTo>
                  <a:pt x="4183" y="97"/>
                </a:lnTo>
                <a:lnTo>
                  <a:pt x="4209" y="97"/>
                </a:lnTo>
                <a:lnTo>
                  <a:pt x="4236" y="97"/>
                </a:lnTo>
                <a:lnTo>
                  <a:pt x="4262" y="87"/>
                </a:lnTo>
                <a:lnTo>
                  <a:pt x="4289" y="67"/>
                </a:lnTo>
                <a:lnTo>
                  <a:pt x="4315" y="58"/>
                </a:lnTo>
                <a:lnTo>
                  <a:pt x="4350" y="58"/>
                </a:lnTo>
                <a:lnTo>
                  <a:pt x="4377" y="48"/>
                </a:lnTo>
                <a:lnTo>
                  <a:pt x="4403" y="38"/>
                </a:lnTo>
                <a:lnTo>
                  <a:pt x="4439" y="29"/>
                </a:lnTo>
                <a:lnTo>
                  <a:pt x="4465" y="29"/>
                </a:lnTo>
                <a:lnTo>
                  <a:pt x="4501" y="0"/>
                </a:lnTo>
                <a:lnTo>
                  <a:pt x="4501" y="29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1"/>
          <p:cNvSpPr/>
          <p:nvPr/>
        </p:nvSpPr>
        <p:spPr>
          <a:xfrm>
            <a:off x="40575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2"/>
          <p:cNvSpPr/>
          <p:nvPr/>
        </p:nvSpPr>
        <p:spPr>
          <a:xfrm>
            <a:off x="3270240" y="5110200"/>
            <a:ext cx="0" cy="22680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3"/>
          <p:cNvSpPr/>
          <p:nvPr/>
        </p:nvSpPr>
        <p:spPr>
          <a:xfrm>
            <a:off x="1403280" y="4437000"/>
            <a:ext cx="1063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4"/>
          <p:cNvSpPr/>
          <p:nvPr/>
        </p:nvSpPr>
        <p:spPr>
          <a:xfrm flipH="1" flipV="1">
            <a:off x="2467080" y="3938760"/>
            <a:ext cx="1440" cy="519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5"/>
          <p:cNvSpPr/>
          <p:nvPr/>
        </p:nvSpPr>
        <p:spPr>
          <a:xfrm>
            <a:off x="2467080" y="3957480"/>
            <a:ext cx="1490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6"/>
          <p:cNvSpPr/>
          <p:nvPr/>
        </p:nvSpPr>
        <p:spPr>
          <a:xfrm>
            <a:off x="2610000" y="3938760"/>
            <a:ext cx="0" cy="519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>
            <a:off x="2600280" y="4437000"/>
            <a:ext cx="8762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 flipV="1">
            <a:off x="3470400" y="4040280"/>
            <a:ext cx="0" cy="4204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9"/>
          <p:cNvSpPr/>
          <p:nvPr/>
        </p:nvSpPr>
        <p:spPr>
          <a:xfrm>
            <a:off x="3471840" y="4054320"/>
            <a:ext cx="157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0"/>
          <p:cNvSpPr/>
          <p:nvPr/>
        </p:nvSpPr>
        <p:spPr>
          <a:xfrm>
            <a:off x="3629160" y="4033800"/>
            <a:ext cx="0" cy="330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1"/>
          <p:cNvSpPr/>
          <p:nvPr/>
        </p:nvSpPr>
        <p:spPr>
          <a:xfrm>
            <a:off x="3629160" y="4346640"/>
            <a:ext cx="323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42"/>
          <p:cNvSpPr/>
          <p:nvPr/>
        </p:nvSpPr>
        <p:spPr>
          <a:xfrm flipV="1">
            <a:off x="3933720" y="3981600"/>
            <a:ext cx="0" cy="379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3"/>
          <p:cNvSpPr/>
          <p:nvPr/>
        </p:nvSpPr>
        <p:spPr>
          <a:xfrm>
            <a:off x="4059360" y="3983040"/>
            <a:ext cx="0" cy="466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4"/>
          <p:cNvSpPr/>
          <p:nvPr/>
        </p:nvSpPr>
        <p:spPr>
          <a:xfrm>
            <a:off x="4052880" y="4430880"/>
            <a:ext cx="19368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5"/>
          <p:cNvSpPr/>
          <p:nvPr/>
        </p:nvSpPr>
        <p:spPr>
          <a:xfrm flipV="1">
            <a:off x="4226040" y="3951000"/>
            <a:ext cx="0" cy="493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6"/>
          <p:cNvSpPr/>
          <p:nvPr/>
        </p:nvSpPr>
        <p:spPr>
          <a:xfrm>
            <a:off x="4330800" y="3951360"/>
            <a:ext cx="0" cy="365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7"/>
          <p:cNvSpPr/>
          <p:nvPr/>
        </p:nvSpPr>
        <p:spPr>
          <a:xfrm>
            <a:off x="4313160" y="4322880"/>
            <a:ext cx="3207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8"/>
          <p:cNvSpPr/>
          <p:nvPr/>
        </p:nvSpPr>
        <p:spPr>
          <a:xfrm flipV="1">
            <a:off x="4619520" y="3955680"/>
            <a:ext cx="0" cy="384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9"/>
          <p:cNvSpPr/>
          <p:nvPr/>
        </p:nvSpPr>
        <p:spPr>
          <a:xfrm flipV="1">
            <a:off x="5337000" y="3897000"/>
            <a:ext cx="0" cy="266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5464080" y="3892680"/>
            <a:ext cx="0" cy="2746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1"/>
          <p:cNvSpPr/>
          <p:nvPr/>
        </p:nvSpPr>
        <p:spPr>
          <a:xfrm flipV="1">
            <a:off x="5481360" y="4058280"/>
            <a:ext cx="202320" cy="95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5819760" y="3679920"/>
            <a:ext cx="0" cy="376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3"/>
          <p:cNvSpPr/>
          <p:nvPr/>
        </p:nvSpPr>
        <p:spPr>
          <a:xfrm flipV="1">
            <a:off x="5811840" y="3677760"/>
            <a:ext cx="690480" cy="36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4"/>
          <p:cNvSpPr/>
          <p:nvPr/>
        </p:nvSpPr>
        <p:spPr>
          <a:xfrm flipV="1">
            <a:off x="6500880" y="3379320"/>
            <a:ext cx="0" cy="314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5"/>
          <p:cNvSpPr/>
          <p:nvPr/>
        </p:nvSpPr>
        <p:spPr>
          <a:xfrm flipV="1">
            <a:off x="6611760" y="2514600"/>
            <a:ext cx="1248120" cy="1100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6618240" y="3382920"/>
            <a:ext cx="0" cy="246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4729320" y="3960720"/>
            <a:ext cx="0" cy="206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8"/>
          <p:cNvSpPr/>
          <p:nvPr/>
        </p:nvSpPr>
        <p:spPr>
          <a:xfrm>
            <a:off x="3940200" y="3997440"/>
            <a:ext cx="127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9"/>
          <p:cNvSpPr/>
          <p:nvPr/>
        </p:nvSpPr>
        <p:spPr>
          <a:xfrm>
            <a:off x="4216320" y="3970440"/>
            <a:ext cx="1285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0"/>
          <p:cNvSpPr/>
          <p:nvPr/>
        </p:nvSpPr>
        <p:spPr>
          <a:xfrm>
            <a:off x="5678640" y="3679920"/>
            <a:ext cx="0" cy="398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1"/>
          <p:cNvSpPr/>
          <p:nvPr/>
        </p:nvSpPr>
        <p:spPr>
          <a:xfrm>
            <a:off x="5315040" y="3897360"/>
            <a:ext cx="169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2"/>
          <p:cNvSpPr/>
          <p:nvPr/>
        </p:nvSpPr>
        <p:spPr>
          <a:xfrm>
            <a:off x="5680080" y="3699000"/>
            <a:ext cx="142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3"/>
          <p:cNvSpPr/>
          <p:nvPr/>
        </p:nvSpPr>
        <p:spPr>
          <a:xfrm>
            <a:off x="3475080" y="2092320"/>
            <a:ext cx="0" cy="332568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4"/>
          <p:cNvSpPr/>
          <p:nvPr/>
        </p:nvSpPr>
        <p:spPr>
          <a:xfrm>
            <a:off x="6504120" y="3398760"/>
            <a:ext cx="118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5"/>
          <p:cNvSpPr/>
          <p:nvPr/>
        </p:nvSpPr>
        <p:spPr>
          <a:xfrm>
            <a:off x="544032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6"/>
          <p:cNvSpPr/>
          <p:nvPr/>
        </p:nvSpPr>
        <p:spPr>
          <a:xfrm>
            <a:off x="4734000" y="4148280"/>
            <a:ext cx="6238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7"/>
          <p:cNvSpPr/>
          <p:nvPr/>
        </p:nvSpPr>
        <p:spPr>
          <a:xfrm>
            <a:off x="4608360" y="3971880"/>
            <a:ext cx="139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8"/>
          <p:cNvSpPr/>
          <p:nvPr/>
        </p:nvSpPr>
        <p:spPr>
          <a:xfrm>
            <a:off x="530208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9"/>
          <p:cNvSpPr/>
          <p:nvPr/>
        </p:nvSpPr>
        <p:spPr>
          <a:xfrm>
            <a:off x="635004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0"/>
          <p:cNvSpPr/>
          <p:nvPr/>
        </p:nvSpPr>
        <p:spPr>
          <a:xfrm>
            <a:off x="469260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71"/>
          <p:cNvSpPr/>
          <p:nvPr/>
        </p:nvSpPr>
        <p:spPr>
          <a:xfrm>
            <a:off x="5457960" y="2092320"/>
            <a:ext cx="0" cy="289260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2"/>
          <p:cNvSpPr/>
          <p:nvPr/>
        </p:nvSpPr>
        <p:spPr>
          <a:xfrm>
            <a:off x="2467080" y="2092320"/>
            <a:ext cx="0" cy="328284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3"/>
          <p:cNvSpPr/>
          <p:nvPr/>
        </p:nvSpPr>
        <p:spPr>
          <a:xfrm>
            <a:off x="396720" y="4863960"/>
            <a:ext cx="16542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sr-Latn-CS" sz="1600" spc="-1" strike="noStrike">
                <a:solidFill>
                  <a:srgbClr val="0000bf"/>
                </a:solidFill>
                <a:latin typeface="Tahoma"/>
                <a:ea typeface="Arial"/>
              </a:rPr>
              <a:t>Zapre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600" spc="-1" strike="noStrike">
                <a:solidFill>
                  <a:srgbClr val="0000bf"/>
                </a:solidFill>
                <a:latin typeface="Tahoma"/>
                <a:ea typeface="MS PGothic"/>
              </a:rPr>
              <a:t>T2</a:t>
            </a:r>
            <a:r>
              <a:rPr b="1" lang="sr-Latn-CS" sz="1600" spc="-1" strike="noStrike">
                <a:solidFill>
                  <a:srgbClr val="0000bf"/>
                </a:solidFill>
                <a:latin typeface="Tahoma"/>
                <a:ea typeface="Arial"/>
              </a:rPr>
              <a:t>-lez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4"/>
          <p:cNvSpPr/>
          <p:nvPr/>
        </p:nvSpPr>
        <p:spPr>
          <a:xfrm>
            <a:off x="3493440" y="5506920"/>
            <a:ext cx="1618560" cy="3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MRI Aktiv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6"/>
          <p:cNvSpPr/>
          <p:nvPr/>
        </p:nvSpPr>
        <p:spPr>
          <a:xfrm>
            <a:off x="36417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7"/>
          <p:cNvSpPr/>
          <p:nvPr/>
        </p:nvSpPr>
        <p:spPr>
          <a:xfrm>
            <a:off x="2627280" y="1844640"/>
            <a:ext cx="6937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K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8"/>
          <p:cNvSpPr/>
          <p:nvPr/>
        </p:nvSpPr>
        <p:spPr>
          <a:xfrm>
            <a:off x="354960" y="6270480"/>
            <a:ext cx="49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RIS: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adiološki izolovani sindrom,  </a:t>
            </a:r>
            <a:r>
              <a:rPr b="1" lang="sr-Latn-CS" sz="1400" spc="-1" strike="noStrike">
                <a:solidFill>
                  <a:srgbClr val="0000ff"/>
                </a:solidFill>
                <a:latin typeface="Calibri"/>
                <a:ea typeface="Arial"/>
              </a:rPr>
              <a:t>KIS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MS PGothic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Arial"/>
              </a:rPr>
              <a:t>Klinički izolovan sind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9" descr=""/>
          <p:cNvPicPr/>
          <p:nvPr/>
        </p:nvPicPr>
        <p:blipFill>
          <a:blip r:embed="rId1"/>
          <a:stretch/>
        </p:blipFill>
        <p:spPr>
          <a:xfrm>
            <a:off x="2438280" y="3111480"/>
            <a:ext cx="1143000" cy="77472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80"/>
          <p:cNvGrpSpPr/>
          <p:nvPr/>
        </p:nvGrpSpPr>
        <p:grpSpPr>
          <a:xfrm>
            <a:off x="2743200" y="2133720"/>
            <a:ext cx="3886200" cy="914400"/>
            <a:chOff x="2743200" y="2133720"/>
            <a:chExt cx="3886200" cy="914400"/>
          </a:xfrm>
        </p:grpSpPr>
        <p:grpSp>
          <p:nvGrpSpPr>
            <p:cNvPr id="347" name="Group 81"/>
            <p:cNvGrpSpPr/>
            <p:nvPr/>
          </p:nvGrpSpPr>
          <p:grpSpPr>
            <a:xfrm>
              <a:off x="4267080" y="2133720"/>
              <a:ext cx="2362320" cy="762120"/>
              <a:chOff x="4267080" y="2133720"/>
              <a:chExt cx="2362320" cy="762120"/>
            </a:xfrm>
          </p:grpSpPr>
          <p:pic>
            <p:nvPicPr>
              <p:cNvPr id="348" name="Picture 82" descr="PART"/>
              <p:cNvPicPr/>
              <p:nvPr/>
            </p:nvPicPr>
            <p:blipFill>
              <a:blip r:embed="rId2"/>
              <a:srcRect l="16828" t="3207" r="26444" b="67353"/>
              <a:stretch/>
            </p:blipFill>
            <p:spPr>
              <a:xfrm>
                <a:off x="4312440" y="2133720"/>
                <a:ext cx="23169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Rectangle 83"/>
              <p:cNvSpPr/>
              <p:nvPr/>
            </p:nvSpPr>
            <p:spPr>
              <a:xfrm>
                <a:off x="4267080" y="2133720"/>
                <a:ext cx="15897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AutoShape 84"/>
            <p:cNvSpPr/>
            <p:nvPr/>
          </p:nvSpPr>
          <p:spPr>
            <a:xfrm>
              <a:off x="2743200" y="2362320"/>
              <a:ext cx="1523880" cy="685800"/>
            </a:xfrm>
            <a:custGeom>
              <a:avLst/>
              <a:gdLst>
                <a:gd name="textAreaLeft" fmla="*/ 876240 w 1523880"/>
                <a:gd name="textAreaRight" fmla="*/ 1285920 w 1523880"/>
                <a:gd name="textAreaTop" fmla="*/ 91800 h 685800"/>
                <a:gd name="textAreaBottom" fmla="*/ 2937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33720" y="260280"/>
            <a:ext cx="58435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ultipla skleroza: tok bole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77"/>
          <p:cNvSpPr/>
          <p:nvPr/>
        </p:nvSpPr>
        <p:spPr>
          <a:xfrm>
            <a:off x="1727280" y="1828800"/>
            <a:ext cx="6937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kamentozna terap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i fizikalni tret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o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ija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op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ljevi 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oravak novonastalog funkcionalnog neurološkog defic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čavanje akumulacije deficita zaostalih od prethodnih relapsa (taloženje simpto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apija izbora - kortikosteroi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rtikosteroid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oravak funkcije K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edematoz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inflamator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unomodulator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cijalno neuroprotektivno dejs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pre započeti pulsnu terapiju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5 dana 500-1000mg metilprednizol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100-250ml 0,9% 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prote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pojedinačnim slučajev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nije ostvareno poboljšanje nakon 14 dana 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počinjanja pulsne terap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 g metilprednizolona 3-5 dana u 100ml 0,9% 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pojedinačnim slučajevima (prema proceni težine kliničke slik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nastaviti sa smanjivanjem doze 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nizon per 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nije došlo do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nedelje nakon započinjanja kortikosteroida a unutar 6 nedelja od početka relap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rapijska izmena plazme u specijalizovanim ustanov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se tokom pulsne terapije javi progresija neurološk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ci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četi ranije sa 2g metilprednizolona i uporedo sa terapijskom izmenom plaz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ima kontraindikacija za metilpredniz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rgija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8mg/24h 7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4mg/24h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2mg/24h 2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udije (nivo C dokaz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edina alternativa pulsnoj terap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udnoća i pulsna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o 25% bolesnica ima relaps u trudn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Češće u prvom nego u drugom i trećem trimest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lsna terapija generalno bezbedna u trudn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ma kliničkih stud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rez u prvom trimestru zbog mogućih neželjenih dejs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zbednost pulsne 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no bezb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željeni efek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če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blagi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laz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ko zahtevaju prekid terap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tklinička faza MS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in v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045120" cy="3962520"/>
          </a:xfrm>
          <a:prstGeom prst="rect">
            <a:avLst/>
          </a:prstGeom>
          <a:ln w="0">
            <a:noFill/>
          </a:ln>
        </p:spPr>
      </p:pic>
      <p:sp>
        <p:nvSpPr>
          <p:cNvPr id="356" name="Down Arrow 4"/>
          <p:cNvSpPr/>
          <p:nvPr/>
        </p:nvSpPr>
        <p:spPr>
          <a:xfrm>
            <a:off x="1185840" y="990720"/>
            <a:ext cx="270000" cy="7617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7222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ČEKA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7210080" y="313524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ATI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7318080" y="4506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ČI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7078680" y="1752480"/>
            <a:ext cx="1219320" cy="228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23400" y="6627960"/>
            <a:ext cx="5390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1. Weiner HL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nn Neurol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2009;65(3):239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48; 2. Weinshenker BG,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Brain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1989;112(pt 1):13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4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Česta neželjena dej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sa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ga eufor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ksioz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alni ukus us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čan ape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čano znoj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venilo 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vobo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ovi u mišić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d kratkoročnog pamć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ako ih prevazić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kacija bolesnika o uobičajenim neželjenim dejstv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isanje o postup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ishrana sa manje soli, šećera i t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hipnotici, sedativi, antidepres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ka neželjena dej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va mod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ija ili psih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čnina i povrać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kre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čane aritm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orno štuc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pokalijem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 i nelagodnost u želucu (češće kod oralne terap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ni neželjeni efekti kod bolesnika sa pecipitirajućim faktorima riz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kusna bo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jabe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pertenz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ivno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željeni efekti ponavljanih terap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ogo češći kod dugotrajne terap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teopor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tarak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na j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dložnost infek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zbiljna neželjena dej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otična ispolja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for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kus na želu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eptička nekroza k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čane aritm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štanje s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mboembol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k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ntraindikaci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tivni gast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ojeći ulk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prote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skopija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lsna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no bezb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pre započe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davati manje d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odlagati za kasnije faz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-26820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omic Sans MS"/>
                <a:ea typeface="Arial"/>
              </a:rPr>
              <a:t>Nova klasifikacija fenotip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6551280"/>
            <a:ext cx="8856720" cy="30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 fontScale="18000"/>
          </a:bodyPr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Aktivnost odredjena kliničkim relapsima i/ili MRI aktivnošću (gd+ lezije; nove ili nedvosmisleno uvećane T2 lezije procenjene na godišnjem nivou)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*CIS, ukoliko se naknadno ustanovi klinička aktivnost i zadovolje trenutni dijagnostički kriterijumi za multiplu sklerozu, postaje relapsno-remitentna MS (RRMS). PP, primarno progresivna; PR, progresivno remitentna; SP, sekundarno progresivn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ublin FD, et al. Neurology 2014;83:278-286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146160" y="1030320"/>
            <a:ext cx="8534160" cy="4707000"/>
            <a:chOff x="146160" y="1030320"/>
            <a:chExt cx="8534160" cy="4707000"/>
          </a:xfrm>
        </p:grpSpPr>
        <p:sp>
          <p:nvSpPr>
            <p:cNvPr id="365" name="Straight Connector 52"/>
            <p:cNvSpPr/>
            <p:nvPr/>
          </p:nvSpPr>
          <p:spPr>
            <a:xfrm>
              <a:off x="3038040" y="3632400"/>
              <a:ext cx="290880" cy="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8"/>
            <p:cNvSpPr/>
            <p:nvPr/>
          </p:nvSpPr>
          <p:spPr>
            <a:xfrm>
              <a:off x="146160" y="1030320"/>
              <a:ext cx="4243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57"/>
            <p:cNvGrpSpPr/>
            <p:nvPr/>
          </p:nvGrpSpPr>
          <p:grpSpPr>
            <a:xfrm>
              <a:off x="3329280" y="2052720"/>
              <a:ext cx="418320" cy="429840"/>
              <a:chOff x="3329280" y="2052720"/>
              <a:chExt cx="418320" cy="429840"/>
            </a:xfrm>
          </p:grpSpPr>
          <p:sp>
            <p:nvSpPr>
              <p:cNvPr id="368" name="Oval 119"/>
              <p:cNvSpPr/>
              <p:nvPr/>
            </p:nvSpPr>
            <p:spPr>
              <a:xfrm>
                <a:off x="3350880" y="205272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Box 25"/>
              <p:cNvSpPr/>
              <p:nvPr/>
            </p:nvSpPr>
            <p:spPr>
              <a:xfrm>
                <a:off x="3329280" y="211716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59"/>
            <p:cNvGrpSpPr/>
            <p:nvPr/>
          </p:nvGrpSpPr>
          <p:grpSpPr>
            <a:xfrm>
              <a:off x="3329280" y="3399480"/>
              <a:ext cx="418320" cy="429840"/>
              <a:chOff x="3329280" y="3399480"/>
              <a:chExt cx="418320" cy="429840"/>
            </a:xfrm>
          </p:grpSpPr>
          <p:sp>
            <p:nvSpPr>
              <p:cNvPr id="371" name="Oval 117"/>
              <p:cNvSpPr/>
              <p:nvPr/>
            </p:nvSpPr>
            <p:spPr>
              <a:xfrm>
                <a:off x="3350880" y="339948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Box 23"/>
              <p:cNvSpPr/>
              <p:nvPr/>
            </p:nvSpPr>
            <p:spPr>
              <a:xfrm>
                <a:off x="3329280" y="346428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60"/>
            <p:cNvGrpSpPr/>
            <p:nvPr/>
          </p:nvGrpSpPr>
          <p:grpSpPr>
            <a:xfrm>
              <a:off x="3324600" y="4774320"/>
              <a:ext cx="427680" cy="429840"/>
              <a:chOff x="3324600" y="4774320"/>
              <a:chExt cx="427680" cy="429840"/>
            </a:xfrm>
          </p:grpSpPr>
          <p:sp>
            <p:nvSpPr>
              <p:cNvPr id="374" name="Oval 115"/>
              <p:cNvSpPr/>
              <p:nvPr/>
            </p:nvSpPr>
            <p:spPr>
              <a:xfrm>
                <a:off x="3351240" y="477432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21"/>
              <p:cNvSpPr/>
              <p:nvPr/>
            </p:nvSpPr>
            <p:spPr>
              <a:xfrm>
                <a:off x="3324600" y="48391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ounded Rectangle 68"/>
            <p:cNvSpPr/>
            <p:nvPr/>
          </p:nvSpPr>
          <p:spPr>
            <a:xfrm>
              <a:off x="2052720" y="3208680"/>
              <a:ext cx="1028160" cy="817920"/>
            </a:xfrm>
            <a:prstGeom prst="roundRect">
              <a:avLst>
                <a:gd name="adj" fmla="val 16667"/>
              </a:avLst>
            </a:prstGeom>
            <a:solidFill>
              <a:srgbClr val="4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gresivna bol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ounded Rectangle 69"/>
            <p:cNvSpPr/>
            <p:nvPr/>
          </p:nvSpPr>
          <p:spPr>
            <a:xfrm>
              <a:off x="506520" y="3208320"/>
              <a:ext cx="874440" cy="81756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ounded Rectangle 70"/>
            <p:cNvSpPr/>
            <p:nvPr/>
          </p:nvSpPr>
          <p:spPr>
            <a:xfrm>
              <a:off x="1332720" y="1924920"/>
              <a:ext cx="1229040" cy="1077840"/>
            </a:xfrm>
            <a:prstGeom prst="roundRect">
              <a:avLst>
                <a:gd name="adj" fmla="val 16667"/>
              </a:avLst>
            </a:prstGeom>
            <a:solidFill>
              <a:srgbClr val="cbd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 potpunim oporavkom od relap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ounded Rectangle 74"/>
            <p:cNvSpPr/>
            <p:nvPr/>
          </p:nvSpPr>
          <p:spPr>
            <a:xfrm>
              <a:off x="1332720" y="4274640"/>
              <a:ext cx="1229040" cy="1279800"/>
            </a:xfrm>
            <a:custGeom>
              <a:avLst/>
              <a:gdLst>
                <a:gd name="textAreaLeft" fmla="*/ 59760 w 1229040"/>
                <a:gd name="textAreaRight" fmla="*/ 1169280 w 1229040"/>
                <a:gd name="textAreaTop" fmla="*/ 59760 h 1279800"/>
                <a:gd name="textAreaBottom" fmla="*/ 1220040 h 1279800"/>
              </a:gdLst>
              <a:ahLst/>
              <a:rect l="textAreaLeft" t="textAreaTop" r="textAreaRight" b="textAreaBottom"/>
              <a:pathLst>
                <a:path w="21600" h="22492">
                  <a:moveTo>
                    <a:pt x="3600" y="0"/>
                  </a:moveTo>
                  <a:arcTo wR="3600" hR="3600" stAng="16200000" swAng="-5400000"/>
                  <a:lnTo>
                    <a:pt x="0" y="18892"/>
                  </a:lnTo>
                  <a:arcTo wR="3600" hR="3600" stAng="10800000" swAng="-5400000"/>
                  <a:lnTo>
                    <a:pt x="18000" y="224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bd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 posledicama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dualni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ficit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kon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potpun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ora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76"/>
            <p:cNvSpPr/>
            <p:nvPr/>
          </p:nvSpPr>
          <p:spPr>
            <a:xfrm flipV="1">
              <a:off x="943920" y="23922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77"/>
            <p:cNvSpPr/>
            <p:nvPr/>
          </p:nvSpPr>
          <p:spPr>
            <a:xfrm>
              <a:off x="943920" y="40248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79"/>
            <p:cNvSpPr/>
            <p:nvPr/>
          </p:nvSpPr>
          <p:spPr>
            <a:xfrm flipV="1">
              <a:off x="2996280" y="23922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traight Connector 82"/>
            <p:cNvSpPr/>
            <p:nvPr/>
          </p:nvSpPr>
          <p:spPr>
            <a:xfrm>
              <a:off x="2996280" y="40248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86"/>
            <p:cNvGrpSpPr/>
            <p:nvPr/>
          </p:nvGrpSpPr>
          <p:grpSpPr>
            <a:xfrm>
              <a:off x="4413240" y="1030320"/>
              <a:ext cx="4267080" cy="4707000"/>
              <a:chOff x="4413240" y="1030320"/>
              <a:chExt cx="4267080" cy="4707000"/>
            </a:xfrm>
          </p:grpSpPr>
          <p:sp>
            <p:nvSpPr>
              <p:cNvPr id="385" name="Straight Connector 88"/>
              <p:cNvSpPr/>
              <p:nvPr/>
            </p:nvSpPr>
            <p:spPr>
              <a:xfrm flipH="1">
                <a:off x="4746600" y="3201120"/>
                <a:ext cx="835560" cy="1138680"/>
              </a:xfrm>
              <a:prstGeom prst="line">
                <a:avLst/>
              </a:prstGeom>
              <a:ln w="28440">
                <a:solidFill>
                  <a:srgbClr val="3f3f3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Straight Connector 89"/>
              <p:cNvSpPr/>
              <p:nvPr/>
            </p:nvSpPr>
            <p:spPr>
              <a:xfrm>
                <a:off x="4908240" y="289656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Straight Connector 90"/>
              <p:cNvSpPr/>
              <p:nvPr/>
            </p:nvSpPr>
            <p:spPr>
              <a:xfrm flipV="1">
                <a:off x="4908240" y="188820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Box 30"/>
              <p:cNvSpPr/>
              <p:nvPr/>
            </p:nvSpPr>
            <p:spPr>
              <a:xfrm>
                <a:off x="4413240" y="1030320"/>
                <a:ext cx="4267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1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ounded Rectangle 92"/>
              <p:cNvSpPr/>
              <p:nvPr/>
            </p:nvSpPr>
            <p:spPr>
              <a:xfrm>
                <a:off x="7669440" y="156312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 sa progresijom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*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93"/>
              <p:cNvGrpSpPr/>
              <p:nvPr/>
            </p:nvGrpSpPr>
            <p:grpSpPr>
              <a:xfrm>
                <a:off x="6649920" y="2771280"/>
                <a:ext cx="418320" cy="429840"/>
                <a:chOff x="6649920" y="2771280"/>
                <a:chExt cx="418320" cy="429840"/>
              </a:xfrm>
            </p:grpSpPr>
            <p:sp>
              <p:nvSpPr>
                <p:cNvPr id="391" name="Oval 113"/>
                <p:cNvSpPr/>
                <p:nvPr/>
              </p:nvSpPr>
              <p:spPr>
                <a:xfrm>
                  <a:off x="6684840" y="2771280"/>
                  <a:ext cx="344520" cy="429840"/>
                </a:xfrm>
                <a:prstGeom prst="ellipse">
                  <a:avLst/>
                </a:prstGeom>
                <a:solidFill>
                  <a:srgbClr val="85c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53"/>
                <p:cNvSpPr/>
                <p:nvPr/>
              </p:nvSpPr>
              <p:spPr>
                <a:xfrm>
                  <a:off x="6649920" y="28350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94"/>
              <p:cNvGrpSpPr/>
              <p:nvPr/>
            </p:nvGrpSpPr>
            <p:grpSpPr>
              <a:xfrm>
                <a:off x="6649920" y="4210560"/>
                <a:ext cx="418320" cy="429840"/>
                <a:chOff x="6649920" y="4210560"/>
                <a:chExt cx="418320" cy="429840"/>
              </a:xfrm>
            </p:grpSpPr>
            <p:sp>
              <p:nvSpPr>
                <p:cNvPr id="394" name="Oval 111"/>
                <p:cNvSpPr/>
                <p:nvPr/>
              </p:nvSpPr>
              <p:spPr>
                <a:xfrm>
                  <a:off x="6684840" y="4210560"/>
                  <a:ext cx="344520" cy="429840"/>
                </a:xfrm>
                <a:prstGeom prst="ellipse">
                  <a:avLst/>
                </a:prstGeom>
                <a:solidFill>
                  <a:srgbClr val="85c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TextBox 51"/>
                <p:cNvSpPr/>
                <p:nvPr/>
              </p:nvSpPr>
              <p:spPr>
                <a:xfrm>
                  <a:off x="6649920" y="42750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Rounded Rectangle 95"/>
              <p:cNvSpPr/>
              <p:nvPr/>
            </p:nvSpPr>
            <p:spPr>
              <a:xfrm>
                <a:off x="4508280" y="2095560"/>
                <a:ext cx="744480" cy="817560"/>
              </a:xfrm>
              <a:custGeom>
                <a:avLst/>
                <a:gdLst>
                  <a:gd name="textAreaLeft" fmla="*/ 36360 w 744480"/>
                  <a:gd name="textAreaRight" fmla="*/ 708120 w 744480"/>
                  <a:gd name="textAreaTop" fmla="*/ 36360 h 817560"/>
                  <a:gd name="textAreaBottom" fmla="*/ 781200 h 817560"/>
                </a:gdLst>
                <a:ahLst/>
                <a:rect l="textAreaLeft" t="textAreaTop" r="textAreaRight" b="textAreaBottom"/>
                <a:pathLst>
                  <a:path w="21600" h="23719">
                    <a:moveTo>
                      <a:pt x="3600" y="0"/>
                    </a:moveTo>
                    <a:arcTo wR="3600" hR="3600" stAng="16200000" swAng="-5400000"/>
                    <a:lnTo>
                      <a:pt x="0" y="20119"/>
                    </a:lnTo>
                    <a:arcTo wR="3600" hR="3600" stAng="10800000" swAng="-5400000"/>
                    <a:lnTo>
                      <a:pt x="18000" y="237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ounded Rectangle 96"/>
              <p:cNvSpPr/>
              <p:nvPr/>
            </p:nvSpPr>
            <p:spPr>
              <a:xfrm>
                <a:off x="5374080" y="1523880"/>
                <a:ext cx="918360" cy="5486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a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ounded Rectangle 97"/>
              <p:cNvSpPr/>
              <p:nvPr/>
            </p:nvSpPr>
            <p:spPr>
              <a:xfrm>
                <a:off x="5374080" y="2771280"/>
                <a:ext cx="1025640" cy="6062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r>
                  <a:rPr b="0" lang="en-GB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ounded Rectangle 98"/>
              <p:cNvSpPr/>
              <p:nvPr/>
            </p:nvSpPr>
            <p:spPr>
              <a:xfrm>
                <a:off x="5373720" y="3749760"/>
                <a:ext cx="782640" cy="54900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aktivna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ounded Rectangle 99"/>
              <p:cNvSpPr/>
              <p:nvPr/>
            </p:nvSpPr>
            <p:spPr>
              <a:xfrm>
                <a:off x="5374080" y="5188680"/>
                <a:ext cx="918360" cy="5486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ounded Rectangle 100"/>
              <p:cNvSpPr/>
              <p:nvPr/>
            </p:nvSpPr>
            <p:spPr>
              <a:xfrm>
                <a:off x="7669440" y="264384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ktivna bez progresi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ounded Rectangle 101"/>
              <p:cNvSpPr/>
              <p:nvPr/>
            </p:nvSpPr>
            <p:spPr>
              <a:xfrm>
                <a:off x="7669440" y="376992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-aktivna sa progresijo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ounded Rectangle 102"/>
              <p:cNvSpPr/>
              <p:nvPr/>
            </p:nvSpPr>
            <p:spPr>
              <a:xfrm>
                <a:off x="7669440" y="485820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-aktivna bez progresi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Straight Connector 103"/>
              <p:cNvSpPr/>
              <p:nvPr/>
            </p:nvSpPr>
            <p:spPr>
              <a:xfrm>
                <a:off x="4908240" y="515520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Straight Connector 104"/>
              <p:cNvSpPr/>
              <p:nvPr/>
            </p:nvSpPr>
            <p:spPr>
              <a:xfrm flipV="1">
                <a:off x="4881240" y="4110840"/>
                <a:ext cx="492480" cy="2289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ounded Rectangle 105"/>
              <p:cNvSpPr/>
              <p:nvPr/>
            </p:nvSpPr>
            <p:spPr>
              <a:xfrm>
                <a:off x="4508280" y="4340520"/>
                <a:ext cx="865080" cy="817560"/>
              </a:xfrm>
              <a:prstGeom prst="roundRect">
                <a:avLst>
                  <a:gd name="adj" fmla="val 16667"/>
                </a:avLst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RM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Straight Connector 106"/>
              <p:cNvSpPr/>
              <p:nvPr/>
            </p:nvSpPr>
            <p:spPr>
              <a:xfrm flipV="1">
                <a:off x="7074000" y="2022120"/>
                <a:ext cx="571680" cy="136584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Straight Connector 107"/>
              <p:cNvSpPr/>
              <p:nvPr/>
            </p:nvSpPr>
            <p:spPr>
              <a:xfrm>
                <a:off x="7074000" y="3928320"/>
                <a:ext cx="571680" cy="136584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Straight Connector 108"/>
              <p:cNvSpPr/>
              <p:nvPr/>
            </p:nvSpPr>
            <p:spPr>
              <a:xfrm>
                <a:off x="7121880" y="3756240"/>
                <a:ext cx="523800" cy="4935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Straight Connector 109"/>
              <p:cNvSpPr/>
              <p:nvPr/>
            </p:nvSpPr>
            <p:spPr>
              <a:xfrm flipV="1">
                <a:off x="7121880" y="3001680"/>
                <a:ext cx="523800" cy="4935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ounded Rectangle 110"/>
              <p:cNvSpPr/>
              <p:nvPr/>
            </p:nvSpPr>
            <p:spPr>
              <a:xfrm>
                <a:off x="6292440" y="3288960"/>
                <a:ext cx="1067040" cy="817920"/>
              </a:xfrm>
              <a:prstGeom prst="roundRect">
                <a:avLst>
                  <a:gd name="adj" fmla="val 16667"/>
                </a:avLst>
              </a:prstGeom>
              <a:solidFill>
                <a:srgbClr val="47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gre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ivna bole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sp>
        <p:nvSpPr>
          <p:cNvPr id="413" name="Titel 1"/>
          <p:cNvSpPr/>
          <p:nvPr/>
        </p:nvSpPr>
        <p:spPr>
          <a:xfrm>
            <a:off x="284040" y="324000"/>
            <a:ext cx="8577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Različiti fenotipovi u PPMS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Table 9" descr=""/>
          <p:cNvPicPr/>
          <p:nvPr/>
        </p:nvPicPr>
        <p:blipFill>
          <a:blip r:embed="rId2"/>
          <a:stretch/>
        </p:blipFill>
        <p:spPr>
          <a:xfrm>
            <a:off x="274680" y="1566720"/>
            <a:ext cx="4651200" cy="3913200"/>
          </a:xfrm>
          <a:prstGeom prst="rect">
            <a:avLst/>
          </a:prstGeom>
          <a:ln w="0">
            <a:noFill/>
          </a:ln>
        </p:spPr>
      </p:pic>
      <p:pic>
        <p:nvPicPr>
          <p:cNvPr id="415" name="Group 10" descr=""/>
          <p:cNvPicPr/>
          <p:nvPr/>
        </p:nvPicPr>
        <p:blipFill>
          <a:blip r:embed="rId3"/>
          <a:stretch/>
        </p:blipFill>
        <p:spPr>
          <a:xfrm>
            <a:off x="1079640" y="4730760"/>
            <a:ext cx="365040" cy="480960"/>
          </a:xfrm>
          <a:prstGeom prst="rect">
            <a:avLst/>
          </a:prstGeom>
          <a:ln w="0">
            <a:noFill/>
          </a:ln>
        </p:spPr>
      </p:pic>
      <p:pic>
        <p:nvPicPr>
          <p:cNvPr id="416" name="Group 17" descr=""/>
          <p:cNvPicPr/>
          <p:nvPr/>
        </p:nvPicPr>
        <p:blipFill>
          <a:blip r:embed="rId4"/>
          <a:stretch/>
        </p:blipFill>
        <p:spPr>
          <a:xfrm>
            <a:off x="2305080" y="2548080"/>
            <a:ext cx="407880" cy="433080"/>
          </a:xfrm>
          <a:prstGeom prst="rect">
            <a:avLst/>
          </a:prstGeom>
          <a:ln w="0">
            <a:noFill/>
          </a:ln>
        </p:spPr>
      </p:pic>
      <p:pic>
        <p:nvPicPr>
          <p:cNvPr id="417" name="Group 20" descr=""/>
          <p:cNvPicPr/>
          <p:nvPr/>
        </p:nvPicPr>
        <p:blipFill>
          <a:blip r:embed="rId5"/>
          <a:stretch/>
        </p:blipFill>
        <p:spPr>
          <a:xfrm>
            <a:off x="1079640" y="4005360"/>
            <a:ext cx="365040" cy="480960"/>
          </a:xfrm>
          <a:prstGeom prst="rect">
            <a:avLst/>
          </a:prstGeom>
          <a:ln w="0">
            <a:noFill/>
          </a:ln>
        </p:spPr>
      </p:pic>
      <p:pic>
        <p:nvPicPr>
          <p:cNvPr id="418" name="Group 27" descr=""/>
          <p:cNvPicPr/>
          <p:nvPr/>
        </p:nvPicPr>
        <p:blipFill>
          <a:blip r:embed="rId6"/>
          <a:stretch/>
        </p:blipFill>
        <p:spPr>
          <a:xfrm>
            <a:off x="2292480" y="3279600"/>
            <a:ext cx="371520" cy="481320"/>
          </a:xfrm>
          <a:prstGeom prst="rect">
            <a:avLst/>
          </a:prstGeom>
          <a:ln w="0">
            <a:noFill/>
          </a:ln>
        </p:spPr>
      </p:pic>
      <p:pic>
        <p:nvPicPr>
          <p:cNvPr id="419" name="Group 34" descr=""/>
          <p:cNvPicPr/>
          <p:nvPr/>
        </p:nvPicPr>
        <p:blipFill>
          <a:blip r:embed="rId7"/>
          <a:stretch/>
        </p:blipFill>
        <p:spPr>
          <a:xfrm>
            <a:off x="2292480" y="4730760"/>
            <a:ext cx="371520" cy="480960"/>
          </a:xfrm>
          <a:prstGeom prst="rect">
            <a:avLst/>
          </a:prstGeom>
          <a:ln w="0">
            <a:noFill/>
          </a:ln>
        </p:spPr>
      </p:pic>
      <p:pic>
        <p:nvPicPr>
          <p:cNvPr id="420" name="Group 41" descr=""/>
          <p:cNvPicPr/>
          <p:nvPr/>
        </p:nvPicPr>
        <p:blipFill>
          <a:blip r:embed="rId8"/>
          <a:stretch/>
        </p:blipFill>
        <p:spPr>
          <a:xfrm>
            <a:off x="2305080" y="4022640"/>
            <a:ext cx="407880" cy="439920"/>
          </a:xfrm>
          <a:prstGeom prst="rect">
            <a:avLst/>
          </a:prstGeom>
          <a:ln w="0">
            <a:noFill/>
          </a:ln>
        </p:spPr>
      </p:pic>
      <p:pic>
        <p:nvPicPr>
          <p:cNvPr id="421" name="Group 44" descr=""/>
          <p:cNvPicPr/>
          <p:nvPr/>
        </p:nvPicPr>
        <p:blipFill>
          <a:blip r:embed="rId9"/>
          <a:stretch/>
        </p:blipFill>
        <p:spPr>
          <a:xfrm>
            <a:off x="1096920" y="329724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422" name="Group 47" descr=""/>
          <p:cNvPicPr/>
          <p:nvPr/>
        </p:nvPicPr>
        <p:blipFill>
          <a:blip r:embed="rId10"/>
          <a:stretch/>
        </p:blipFill>
        <p:spPr>
          <a:xfrm>
            <a:off x="1096920" y="2523960"/>
            <a:ext cx="407880" cy="4384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0"/>
          <p:cNvSpPr/>
          <p:nvPr/>
        </p:nvSpPr>
        <p:spPr>
          <a:xfrm rot="16200000">
            <a:off x="4182840" y="3133080"/>
            <a:ext cx="3692520" cy="58104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rogresivna multipla skleroza (SPMS ili P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1"/>
          <p:cNvSpPr/>
          <p:nvPr/>
        </p:nvSpPr>
        <p:spPr>
          <a:xfrm>
            <a:off x="6843600" y="1577880"/>
            <a:ext cx="2000520" cy="80028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ktivna sa progres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2"/>
          <p:cNvSpPr/>
          <p:nvPr/>
        </p:nvSpPr>
        <p:spPr>
          <a:xfrm>
            <a:off x="6843600" y="2541600"/>
            <a:ext cx="2000520" cy="7999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kivna bez progres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3"/>
          <p:cNvSpPr/>
          <p:nvPr/>
        </p:nvSpPr>
        <p:spPr>
          <a:xfrm>
            <a:off x="6843600" y="3505320"/>
            <a:ext cx="2000520" cy="7999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e-aktivna sa progres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4"/>
          <p:cNvSpPr/>
          <p:nvPr/>
        </p:nvSpPr>
        <p:spPr>
          <a:xfrm>
            <a:off x="6843600" y="4467240"/>
            <a:ext cx="2000520" cy="8017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e-aktivna i bez progres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Elbow Connector 56"/>
          <p:cNvCxnSpPr>
            <a:endCxn id="424" idx="1"/>
          </p:cNvCxnSpPr>
          <p:nvPr/>
        </p:nvCxnSpPr>
        <p:spPr>
          <a:xfrm flipH="1" flipV="1" rot="5400000">
            <a:off x="5995800" y="2576160"/>
            <a:ext cx="1446840" cy="249840"/>
          </a:xfrm>
          <a:prstGeom prst="bentConnector2">
            <a:avLst/>
          </a:prstGeom>
          <a:ln w="28440">
            <a:solidFill>
              <a:srgbClr val="c0504d"/>
            </a:solidFill>
            <a:miter/>
          </a:ln>
        </p:spPr>
      </p:cxnSp>
      <p:cxnSp>
        <p:nvCxnSpPr>
          <p:cNvPr id="429" name="Elbow Connector 57"/>
          <p:cNvCxnSpPr>
            <a:stCxn id="423" idx="2"/>
            <a:endCxn id="427" idx="1"/>
          </p:cNvCxnSpPr>
          <p:nvPr/>
        </p:nvCxnSpPr>
        <p:spPr>
          <a:xfrm>
            <a:off x="6319440" y="3423960"/>
            <a:ext cx="524160" cy="1445040"/>
          </a:xfrm>
          <a:prstGeom prst="bentConnector5">
            <a:avLst>
              <a:gd name="adj1" fmla="val 52233"/>
              <a:gd name="adj2" fmla="val 49389"/>
              <a:gd name="adj3" fmla="val 52302"/>
            </a:avLst>
          </a:prstGeom>
          <a:ln w="28440">
            <a:solidFill>
              <a:srgbClr val="c0504d"/>
            </a:solidFill>
            <a:miter/>
          </a:ln>
        </p:spPr>
      </p:cxnSp>
      <p:sp>
        <p:nvSpPr>
          <p:cNvPr id="430" name="Straight Connector 5"/>
          <p:cNvSpPr/>
          <p:nvPr/>
        </p:nvSpPr>
        <p:spPr>
          <a:xfrm>
            <a:off x="6581880" y="2938320"/>
            <a:ext cx="261720" cy="32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9"/>
          <p:cNvSpPr/>
          <p:nvPr/>
        </p:nvSpPr>
        <p:spPr>
          <a:xfrm>
            <a:off x="6594480" y="3914640"/>
            <a:ext cx="249120" cy="180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ángulo 1"/>
          <p:cNvSpPr/>
          <p:nvPr/>
        </p:nvSpPr>
        <p:spPr>
          <a:xfrm>
            <a:off x="5867280" y="6242040"/>
            <a:ext cx="31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Continuum (Minneap Minn) 2016;22(3):785–7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Lublin, Neurology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353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  <a:ea typeface="Arial"/>
              </a:rPr>
              <a:t>Aktivnost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6360" y="1294920"/>
            <a:ext cx="8531280" cy="4800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perativ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ktivnost bolesti se procenjuje na osnov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roja relapsa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pogor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RI  (nove lezije i Gd+ lez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gresije onesposoblje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213920" y="6551280"/>
            <a:ext cx="7642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cDonald dijagnostički kriterijumi za 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o postavljamo dijagnozu 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linički (diseminacija u vremenu i prostor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diološki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 (promene na MR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boratorijski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 (oligoklonalne trake u likvor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Isključenje boljeg objašnjenja za teg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KRITERIJUM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6 (MAGNI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7 (20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20:02:50Z</dcterms:created>
  <dc:creator>Gordana Toncev</dc:creator>
  <dc:description/>
  <dc:language>en-US</dc:language>
  <cp:lastModifiedBy>Gordana Toncev</cp:lastModifiedBy>
  <dcterms:modified xsi:type="dcterms:W3CDTF">2020-09-26T09:11:48Z</dcterms:modified>
  <cp:revision>98</cp:revision>
  <dc:subject/>
  <dc:title>Slide 1</dc:title>
</cp:coreProperties>
</file>